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C50-A2B1-4166-9259-BD6AEA4A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A53-9042-45B5-AC57-4262B0AC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6BC-0049-4DD4-A167-433F4A09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572-8D61-4EEA-A09E-F89BE6EA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D6B-A4CA-4993-B243-DA7FB783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527-2D80-44C9-A9AA-FB0F6E4A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7C4-1BC0-49DC-A8C8-C712CBC3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7F7-41AA-4912-9F54-00C6EC8B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363-A0F6-40B7-A6AB-D5A55CFD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7FE-0B31-456A-A59A-BAC6F049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292-2D19-4CE0-8548-BAC3CDBC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F2A-7928-4558-AE7C-C639A64C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444B-B192-4F0B-87D9-30E335D26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eon-Guerrero_5e_Figure 7.1.jpg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eon-Guerrero_5e_Figure 7.2.jpg"/>
          <p:cNvPicPr/>
          <p:nvPr/>
        </p:nvPicPr>
        <p:blipFill>
          <a:blip r:embed="rId1"/>
          <a:stretch/>
        </p:blipFill>
        <p:spPr>
          <a:xfrm>
            <a:off x="254160" y="0"/>
            <a:ext cx="863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eon-Guerrero_5e_Figure 7.3.jpg"/>
          <p:cNvPicPr/>
          <p:nvPr/>
        </p:nvPicPr>
        <p:blipFill>
          <a:blip r:embed="rId1"/>
          <a:stretch/>
        </p:blipFill>
        <p:spPr>
          <a:xfrm>
            <a:off x="28440" y="0"/>
            <a:ext cx="908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eon-Guerrero_5e_Figure 7.4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eon-Guerrero_5e_Table 7.1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eon-Guerrero_5e_Table 7.2.jpg"/>
          <p:cNvPicPr/>
          <p:nvPr/>
        </p:nvPicPr>
        <p:blipFill>
          <a:blip r:embed="rId1"/>
          <a:stretch/>
        </p:blipFill>
        <p:spPr>
          <a:xfrm>
            <a:off x="0" y="347760"/>
            <a:ext cx="914400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eon-Guerrero_5e_Table 7.3.jpg"/>
          <p:cNvPicPr/>
          <p:nvPr/>
        </p:nvPicPr>
        <p:blipFill>
          <a:blip r:embed="rId1"/>
          <a:stretch/>
        </p:blipFill>
        <p:spPr>
          <a:xfrm>
            <a:off x="0" y="1660680"/>
            <a:ext cx="914400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eon-Guerrero_5e_Map 7.1.jpg"/>
          <p:cNvPicPr/>
          <p:nvPr/>
        </p:nvPicPr>
        <p:blipFill>
          <a:blip r:embed="rId1"/>
          <a:stretch/>
        </p:blipFill>
        <p:spPr>
          <a:xfrm>
            <a:off x="1128600" y="0"/>
            <a:ext cx="68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07:48Z</dcterms:created>
  <dc:creator>conversion</dc:creator>
  <dc:description/>
  <dc:language>en-US</dc:language>
  <cp:lastModifiedBy>conversion</cp:lastModifiedBy>
  <dcterms:modified xsi:type="dcterms:W3CDTF">2015-07-22T09:08:09Z</dcterms:modified>
  <cp:revision>1</cp:revision>
  <dc:subject/>
  <dc:title>Slide 1</dc:title>
</cp:coreProperties>
</file>