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635-6058-402D-BBA1-00BDE12D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73B-6834-491C-A812-C481B010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F36C-B3AC-402A-B01A-598AC583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52B-D40D-45FC-ABA7-F8B1FD8C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ACB-9A28-4FD9-B9AB-9335A01A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6F8-D79D-4597-BE52-3EF5E444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90D-DBCE-45CA-A195-D6A1837A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726-C87F-4591-BF55-24FA5812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B11-EF19-4401-A122-EB3C6E00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00A-59C3-4D83-9CF9-C68EC328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482-2FDD-4361-80F8-50C04EA7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32C-57B1-452B-BE7D-FAF6B37B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3BF5-F691-4F5D-8B3E-3DEA80397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6.1.jpg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6.2.jpg"/>
          <p:cNvPicPr/>
          <p:nvPr/>
        </p:nvPicPr>
        <p:blipFill>
          <a:blip r:embed="rId1"/>
          <a:stretch/>
        </p:blipFill>
        <p:spPr>
          <a:xfrm>
            <a:off x="1793880" y="0"/>
            <a:ext cx="555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6.3.jpg"/>
          <p:cNvPicPr/>
          <p:nvPr/>
        </p:nvPicPr>
        <p:blipFill>
          <a:blip r:embed="rId1"/>
          <a:stretch/>
        </p:blipFill>
        <p:spPr>
          <a:xfrm>
            <a:off x="1817640" y="0"/>
            <a:ext cx="550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Figure 6.4.jpg"/>
          <p:cNvPicPr/>
          <p:nvPr/>
        </p:nvPicPr>
        <p:blipFill>
          <a:blip r:embed="rId1"/>
          <a:stretch/>
        </p:blipFill>
        <p:spPr>
          <a:xfrm>
            <a:off x="384120" y="0"/>
            <a:ext cx="837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Table 6.1.jpg"/>
          <p:cNvPicPr/>
          <p:nvPr/>
        </p:nvPicPr>
        <p:blipFill>
          <a:blip r:embed="rId1"/>
          <a:stretch/>
        </p:blipFill>
        <p:spPr>
          <a:xfrm>
            <a:off x="1952640" y="0"/>
            <a:ext cx="523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6.2.jpg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07:08Z</dcterms:created>
  <dc:creator>conversion</dc:creator>
  <dc:description/>
  <dc:language>en-US</dc:language>
  <cp:lastModifiedBy>conversion</cp:lastModifiedBy>
  <dcterms:modified xsi:type="dcterms:W3CDTF">2015-07-22T09:07:23Z</dcterms:modified>
  <cp:revision>1</cp:revision>
  <dc:subject/>
  <dc:title>Slide 1</dc:title>
</cp:coreProperties>
</file>