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168-79FE-4402-AE0C-BD66A5BC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887-67CE-4B48-A10B-7D639B1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729-B8C9-4D1A-AC2B-3951DD2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252-2B46-4814-B49E-AA20FFE1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05C-EE1D-4CD9-A026-5664D750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3D5-D0AA-4E20-94A0-4418C8F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A46-39B8-4193-960D-C1429D7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CAC-411A-41B3-9CDB-9760282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98A-AA85-41A4-B4E5-2EA61DE5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17A-8192-4186-AA9D-0FB6940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AA0-BD71-4BBF-9A94-3DB06C5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5B9-F9CE-4041-8704-D3DE1CC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4D8-BA03-4D12-B38C-9FFFBD855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5.1.jpg"/>
          <p:cNvPicPr/>
          <p:nvPr/>
        </p:nvPicPr>
        <p:blipFill>
          <a:blip r:embed="rId1"/>
          <a:stretch/>
        </p:blipFill>
        <p:spPr>
          <a:xfrm>
            <a:off x="774720" y="0"/>
            <a:ext cx="75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5.2.jpg"/>
          <p:cNvPicPr/>
          <p:nvPr/>
        </p:nvPicPr>
        <p:blipFill>
          <a:blip r:embed="rId1"/>
          <a:stretch/>
        </p:blipFill>
        <p:spPr>
          <a:xfrm>
            <a:off x="925560" y="0"/>
            <a:ext cx="72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5.3.jpg"/>
          <p:cNvPicPr/>
          <p:nvPr/>
        </p:nvPicPr>
        <p:blipFill>
          <a:blip r:embed="rId1"/>
          <a:stretch/>
        </p:blipFill>
        <p:spPr>
          <a:xfrm>
            <a:off x="558720" y="0"/>
            <a:ext cx="802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5.1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5.2.jpg"/>
          <p:cNvPicPr/>
          <p:nvPr/>
        </p:nvPicPr>
        <p:blipFill>
          <a:blip r:embed="rId1"/>
          <a:stretch/>
        </p:blipFill>
        <p:spPr>
          <a:xfrm>
            <a:off x="3000240" y="0"/>
            <a:ext cx="31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5:52Z</dcterms:created>
  <dc:creator>conversion</dc:creator>
  <dc:description/>
  <dc:language>en-US</dc:language>
  <cp:lastModifiedBy>conversion</cp:lastModifiedBy>
  <dcterms:modified xsi:type="dcterms:W3CDTF">2015-07-22T09:06:14Z</dcterms:modified>
  <cp:revision>1</cp:revision>
  <dc:subject/>
  <dc:title>Slide 1</dc:title>
</cp:coreProperties>
</file>