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022-9394-4DF1-AE7B-3051587A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C57-BF09-4C8D-99F4-31D9A5BC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B4A-7E2A-4169-98EB-7C0C95B5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B25-D46E-4594-BA4B-649A9558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EF0-73C0-47D8-A58B-9BBF3948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828-0AED-4832-A1DC-8210BE60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566-A00E-4F06-8729-37DEFDD9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2A1-D364-4132-9FDB-BF41A795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0FC-9E97-4C97-B891-267DAFC0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6EB-68B6-414C-A8AD-591ACB1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747-C0CD-47BC-B9BB-D3F63D14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DB1-B021-44D3-8FF7-70A857B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869F-386A-472F-9C85-522CE3945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2.1.jpg"/>
          <p:cNvPicPr/>
          <p:nvPr/>
        </p:nvPicPr>
        <p:blipFill>
          <a:blip r:embed="rId1"/>
          <a:stretch/>
        </p:blipFill>
        <p:spPr>
          <a:xfrm>
            <a:off x="719280" y="0"/>
            <a:ext cx="77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2.2.jpg"/>
          <p:cNvPicPr/>
          <p:nvPr/>
        </p:nvPicPr>
        <p:blipFill>
          <a:blip r:embed="rId1"/>
          <a:stretch/>
        </p:blipFill>
        <p:spPr>
          <a:xfrm>
            <a:off x="820800" y="0"/>
            <a:ext cx="750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2.3.jpg"/>
          <p:cNvPicPr/>
          <p:nvPr/>
        </p:nvPicPr>
        <p:blipFill>
          <a:blip r:embed="rId1"/>
          <a:stretch/>
        </p:blipFill>
        <p:spPr>
          <a:xfrm>
            <a:off x="549360" y="0"/>
            <a:ext cx="804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Figure 2.4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2.1.jpg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2.2.jpg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2.3.jpg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eon-Guerrero_5e_Table 2.4.jpg"/>
          <p:cNvPicPr/>
          <p:nvPr/>
        </p:nvPicPr>
        <p:blipFill>
          <a:blip r:embed="rId1"/>
          <a:stretch/>
        </p:blipFill>
        <p:spPr>
          <a:xfrm>
            <a:off x="19080" y="0"/>
            <a:ext cx="910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Leon-Guerrero_5e_Map 2.1.jpg"/>
          <p:cNvPicPr/>
          <p:nvPr/>
        </p:nvPicPr>
        <p:blipFill>
          <a:blip r:embed="rId1"/>
          <a:stretch/>
        </p:blipFill>
        <p:spPr>
          <a:xfrm>
            <a:off x="80028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8:57:28Z</dcterms:created>
  <dc:creator>conversion</dc:creator>
  <dc:description/>
  <dc:language>en-US</dc:language>
  <cp:lastModifiedBy>conversion</cp:lastModifiedBy>
  <dcterms:modified xsi:type="dcterms:W3CDTF">2015-07-22T08:57:59Z</dcterms:modified>
  <cp:revision>1</cp:revision>
  <dc:subject/>
  <dc:title>Slide 1</dc:title>
</cp:coreProperties>
</file>