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472-19A6-45AF-AA68-08D3FC61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5BE-EF1F-4508-860E-ECB9D096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4C0-4441-423F-9ED7-12BA7447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32A-56ED-44C8-B9CB-200AA112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AEC-4B44-413B-A6E8-826F49A4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7BA-1BA7-470D-9446-F5D20E39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9F8-F811-4963-B546-2C7F343C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535-D3F3-4826-AB34-DEFBB324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298-0203-4ED3-A6B1-4D0318CD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0EA-3B15-4CA0-A6C4-5062E3F1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987-9B9E-4891-B7AE-E6FC930F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CC6-3804-40A1-8B7A-E022C0A1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E008-CC87-44F7-99FC-5224B8BDE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1.1.jpg"/>
          <p:cNvPicPr/>
          <p:nvPr/>
        </p:nvPicPr>
        <p:blipFill>
          <a:blip r:embed="rId1"/>
          <a:stretch/>
        </p:blipFill>
        <p:spPr>
          <a:xfrm>
            <a:off x="385920" y="0"/>
            <a:ext cx="837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1.2.jpg"/>
          <p:cNvPicPr/>
          <p:nvPr/>
        </p:nvPicPr>
        <p:blipFill>
          <a:blip r:embed="rId1"/>
          <a:stretch/>
        </p:blipFill>
        <p:spPr>
          <a:xfrm>
            <a:off x="1206360" y="0"/>
            <a:ext cx="673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Figure 1.3.jpg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Table 1.1.jpg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eon-Guerrero_5e_Table 1.2.jpg"/>
          <p:cNvPicPr/>
          <p:nvPr/>
        </p:nvPicPr>
        <p:blipFill>
          <a:blip r:embed="rId1"/>
          <a:stretch/>
        </p:blipFill>
        <p:spPr>
          <a:xfrm>
            <a:off x="0" y="938160"/>
            <a:ext cx="91440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eon-Guerrero_5e_Map 1.1.jpg"/>
          <p:cNvPicPr/>
          <p:nvPr/>
        </p:nvPicPr>
        <p:blipFill>
          <a:blip r:embed="rId1"/>
          <a:stretch/>
        </p:blipFill>
        <p:spPr>
          <a:xfrm>
            <a:off x="608040" y="0"/>
            <a:ext cx="792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8:56:10Z</dcterms:created>
  <dc:creator>conversion</dc:creator>
  <dc:description/>
  <dc:language>en-US</dc:language>
  <cp:lastModifiedBy>conversion</cp:lastModifiedBy>
  <dcterms:modified xsi:type="dcterms:W3CDTF">2015-07-22T08:56:48Z</dcterms:modified>
  <cp:revision>1</cp:revision>
  <dc:subject/>
  <dc:title>Slide 1</dc:title>
</cp:coreProperties>
</file>