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0AB-5B00-46E1-AFB6-94867F9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2A2-F22A-49F6-B051-5A759E22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41A-0BE5-4C49-AE05-F0776C85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331-C929-4CEA-B0F6-7A62E49E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71A-EF2E-4C3B-B4FD-E1ACD885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821-9EBA-4437-A75C-4EF345E6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2E1-512F-4E25-A7ED-21AE7688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99-65A3-4287-B97B-A04955E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A09-57F1-42BD-84F2-AC4D353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D00-5DA9-43D1-9FD7-ED52E1C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567-1394-4CC1-B5B9-3B3CAA1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8C2-D437-4DB0-8C71-8014B2C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D86-85AB-40AA-AE7F-60BCA2F143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38E-1D6F-4FC6-B70C-9A194803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4.xml"/><Relationship Id="rId14" Type="http://schemas.openxmlformats.org/officeDocument/2006/relationships/slide" Target="slide26.xml"/><Relationship Id="rId15" Type="http://schemas.openxmlformats.org/officeDocument/2006/relationships/slide" Target="slide28.xml"/><Relationship Id="rId16" Type="http://schemas.openxmlformats.org/officeDocument/2006/relationships/slide" Target="slide30.xml"/><Relationship Id="rId17" Type="http://schemas.openxmlformats.org/officeDocument/2006/relationships/slide" Target="slide32.xml"/><Relationship Id="rId18" Type="http://schemas.openxmlformats.org/officeDocument/2006/relationships/slide" Target="slide34.xml"/><Relationship Id="rId19" Type="http://schemas.openxmlformats.org/officeDocument/2006/relationships/slide" Target="slide36.xml"/><Relationship Id="rId20" Type="http://schemas.openxmlformats.org/officeDocument/2006/relationships/slide" Target="slide38.xml"/><Relationship Id="rId21" Type="http://schemas.openxmlformats.org/officeDocument/2006/relationships/slide" Target="slide40.xml"/><Relationship Id="rId22" Type="http://schemas.openxmlformats.org/officeDocument/2006/relationships/slide" Target="slide42.xml"/><Relationship Id="rId23" Type="http://schemas.openxmlformats.org/officeDocument/2006/relationships/slide" Target="slide44.xml"/><Relationship Id="rId24" Type="http://schemas.openxmlformats.org/officeDocument/2006/relationships/slide" Target="slide44.xml"/><Relationship Id="rId25" Type="http://schemas.openxmlformats.org/officeDocument/2006/relationships/slide" Target="slide48.xml"/><Relationship Id="rId26" Type="http://schemas.openxmlformats.org/officeDocument/2006/relationships/slide" Target="slide50.xml"/><Relationship Id="rId27" Type="http://schemas.openxmlformats.org/officeDocument/2006/relationships/slide" Target="slide2.xml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7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8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9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1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2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Relationshi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rate for this increases from 9% of people 65 to 74 to 10% of those over the age of 75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over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In the US the population of centenarians has doubled from the 1980s to this in 2007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84,330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number is expected to grow to 834,000 by this year and then double every ten years thereafter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2050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alking, biking, golfing and other physical activities and mental exercise such as reading, painting and playing an instrument lead to this.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robustnes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gender gap between centenarians is approximately thi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9 to 1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population increased 73% overall between 1990 and 2004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is credited with centenarians reaching their 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life course of healthy lifestyl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mong nursing home residents, 12% are between 65 and 74, 32% are between 75 and 84, and this percentage are over 85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45%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trend of disabilities declined from 1984 to 1999 by this much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62.0% to 55.5%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change that is normal to the aging proces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rimary agi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is is change related to health compromising behaviors such as smoking or environmental factors such as pollution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econdary agi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centenarian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view perceives aging as a problem to be resolved rather than a stage of life to be embraced and accepted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ntiaging scienc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is a risk factor not only for the development of cognitive and developmental decline in very late adulthood but also physical illness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ocial isol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se tend to be the people with whom we have the longest relationships in our live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sibling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Many are institutionalized for social reasons rather than medical reasons. One cause of this is that 1 in 5 women have this in common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hildlessnes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aby boomers, having more of these, decrease the options for caregiving for parents and grandparent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divorc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Better health care in early and middle years, improved medical technology and improved health habits have contributed to this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five major components of this are commitment, affective, cognitive, physical and mutualit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intimac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se are documents prepared giving instructions in case the individual is unable to speak for themselves at a later tim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advance directiv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details the types of medical procedures, drugs and types of treatment one would choose for oneself in certain situation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living wil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form of care focuses on pain and symptom management rather than a cur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alliative car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is is typically offered to a person who has a diagnosis of six months or less to live and are no longer receiving treatment directed toward a cur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hospic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longev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se are the percentages of hospice patients 65 and older and 85 and older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80% and 37%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is the study of the causes, processes and consequences of race, national origin and culture on individual and population aging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ethnogerontolog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y tend to be twice as likely to be poor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are wome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mori</cp:lastModifiedBy>
  <dcterms:modified xsi:type="dcterms:W3CDTF">2010-11-30T23:24:54Z</dcterms:modified>
  <cp:revision>40</cp:revision>
  <dc:subject/>
  <dc:title>Blank Jeopardy</dc:title>
</cp:coreProperties>
</file>