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2C83-0EDA-4739-BF6D-13F3C9E7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5029200" y="7788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8F62-6092-43C1-91E2-EAB185CC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502920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104652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7F6-0919-4AB1-B542-D7CB3167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2401200" y="56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6440" y="56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5029200" y="778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2401200" y="778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6440" y="778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C9A-1CE4-4344-8A72-A213DCEE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50292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5F3-A0EF-45B1-A29C-906D9BB9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EDA2-7126-4552-A49F-CD7713E4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E38-261F-448E-8519-85956B54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D5E-E48D-40CD-A92B-D0628206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871440"/>
            <a:ext cx="80010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E25B-ED49-4CB6-A67C-6C6F6BDD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502920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FDFB-6D4A-4924-929B-1690FE62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104652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181C-3237-4F34-9080-DCF72CDF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5029200" y="7788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B95-E71B-4C55-A44D-65CEF6BF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50292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FB96-18F8-4FB3-88C4-DF96DEE1620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CFFD-0B37-45A4-8217-EBBE3DCB3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8.xml"/><Relationship Id="rId14" Type="http://schemas.openxmlformats.org/officeDocument/2006/relationships/slide" Target="slide20.xml"/><Relationship Id="rId15" Type="http://schemas.openxmlformats.org/officeDocument/2006/relationships/slide" Target="slide22.xml"/><Relationship Id="rId16" Type="http://schemas.openxmlformats.org/officeDocument/2006/relationships/slide" Target="slide24.xml"/><Relationship Id="rId17" Type="http://schemas.openxmlformats.org/officeDocument/2006/relationships/slide" Target="slide26.xml"/><Relationship Id="rId18" Type="http://schemas.openxmlformats.org/officeDocument/2006/relationships/slide" Target="slide28.xml"/><Relationship Id="rId19" Type="http://schemas.openxmlformats.org/officeDocument/2006/relationships/slide" Target="slide30.xml"/><Relationship Id="rId20" Type="http://schemas.openxmlformats.org/officeDocument/2006/relationships/slide" Target="slide32.xml"/><Relationship Id="rId21" Type="http://schemas.openxmlformats.org/officeDocument/2006/relationships/slide" Target="slide34.xml"/><Relationship Id="rId22" Type="http://schemas.openxmlformats.org/officeDocument/2006/relationships/slide" Target="slide36.xml"/><Relationship Id="rId23" Type="http://schemas.openxmlformats.org/officeDocument/2006/relationships/slide" Target="slide38.xml"/><Relationship Id="rId24" Type="http://schemas.openxmlformats.org/officeDocument/2006/relationships/slide" Target="slide40.xml"/><Relationship Id="rId25" Type="http://schemas.openxmlformats.org/officeDocument/2006/relationships/slide" Target="slide42.xml"/><Relationship Id="rId26" Type="http://schemas.openxmlformats.org/officeDocument/2006/relationships/slide" Target="slide44.xml"/><Relationship Id="rId27" Type="http://schemas.openxmlformats.org/officeDocument/2006/relationships/slide" Target="slide44.xml"/><Relationship Id="rId28" Type="http://schemas.openxmlformats.org/officeDocument/2006/relationships/slide" Target="slide48.xml"/><Relationship Id="rId29" Type="http://schemas.openxmlformats.org/officeDocument/2006/relationships/slide" Target="slide50.xml"/><Relationship Id="rId30" Type="http://schemas.openxmlformats.org/officeDocument/2006/relationships/slide" Target="slide2.xml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2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3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4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5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6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7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8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9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0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2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3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4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5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7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8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Demograph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Of A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lic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ori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e “old age” population has these three subgroups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“young old”, “middle old” and “oldest old?”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is act was passed in 1935, for universal entitlements for US workers, especially in old age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Social Securit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is medical coverage provided by the US government covers hospitalization and skilled nursing facility care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Medicar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is component of Social Security covers workers under the age of 62 with severe long-term disability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disability insuranc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is service may be used to provide respite to a caregiver during the day or may be used while the caregiver is at work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adult day car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ccording to the census, this is the fastest growing age group in the U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is service is used to treat the terminally ill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hospic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It’s the most common mental health problem in older adults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depression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It’s the most prevalent cognitive disorder among older adults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dementia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is is the drug of choice for abuse among older adults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alcohol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 progressive disease which goes through 3 to 5 stages and is the most expensive illness in the U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Alzheimer’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85+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is is the leading cause of suicide among older adults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major depression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is is defined as elderly persons gradually disengaging from society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disengagement theor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It’s the level of life satisfaction as related to the level of activity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activity theor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is is when elderly people continue to adapt and keep their interaction patterns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continuity theor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e theory that resource exchanges in intergenerational interactions change with age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Social Exchange theor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is term means the frequency of death in a population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is theory states that aging is a dynamic, lifelong process characterized by many transition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the Life Course Perspectiv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 social relationship between non-relatives that is a protective factor, especially for women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a friendship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n important and normative part of the family life cycle that often happens to middle-aged adults in their 50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grandparenthood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e family relationship that is often the longest lasting relationship over the course of one’s life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the sibling relationship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It is often believed that this ends at the age of retirement, but some people continue for financial reasons or interest in staying involved.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work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mortalit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eing able to openly grieve in widowhood is often discounted or ignored for this population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the gay and lesbian population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is term means the incidence of disease in a population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morbidit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Life expectancy is increasing worldwide due to decreased child mortality rates and morbidity rates, as well as thi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improved health technolog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lmori</cp:lastModifiedBy>
  <dcterms:modified xsi:type="dcterms:W3CDTF">2010-11-30T23:24:07Z</dcterms:modified>
  <cp:revision>42</cp:revision>
  <dc:subject/>
  <dc:title>Blank Jeopardy</dc:title>
</cp:coreProperties>
</file>