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047B-16FD-42DC-9024-E1B19096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5029200" y="7788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943B-DFA2-489B-8928-6958A9F4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502920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104652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D66-376F-4FA6-AD6C-E41DA910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2401200" y="56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6440" y="56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5029200" y="778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2401200" y="778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6440" y="778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EE1-57F7-4F3C-891A-A91056B0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50292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D88-8163-434C-B648-60EBE3D4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E74-C54E-4A80-A488-D1298B9A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903-3F6D-4489-BAB3-DC0038A3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EF0-6FC9-4319-B411-DCE5B650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871440"/>
            <a:ext cx="80010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F9E-5432-4443-8C59-92073BA7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502920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386-B705-4331-A341-6FB8524D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104652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4659-8EC2-4876-B500-0C2609DF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5029200" y="7788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C6C-7016-467F-83AB-2A3A4FFF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50292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8B2F-8497-4D16-A6BF-C5A964B1C2B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6031-F1FA-40C6-9BEF-360125942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8.xml"/><Relationship Id="rId15" Type="http://schemas.openxmlformats.org/officeDocument/2006/relationships/slide" Target="slide20.xml"/><Relationship Id="rId16" Type="http://schemas.openxmlformats.org/officeDocument/2006/relationships/slide" Target="slide22.xml"/><Relationship Id="rId17" Type="http://schemas.openxmlformats.org/officeDocument/2006/relationships/slide" Target="slide24.xml"/><Relationship Id="rId18" Type="http://schemas.openxmlformats.org/officeDocument/2006/relationships/slide" Target="slide26.xml"/><Relationship Id="rId19" Type="http://schemas.openxmlformats.org/officeDocument/2006/relationships/slide" Target="slide28.xml"/><Relationship Id="rId20" Type="http://schemas.openxmlformats.org/officeDocument/2006/relationships/slide" Target="slide30.xml"/><Relationship Id="rId21" Type="http://schemas.openxmlformats.org/officeDocument/2006/relationships/slide" Target="slide32.xml"/><Relationship Id="rId22" Type="http://schemas.openxmlformats.org/officeDocument/2006/relationships/slide" Target="slide34.xml"/><Relationship Id="rId23" Type="http://schemas.openxmlformats.org/officeDocument/2006/relationships/slide" Target="slide36.xml"/><Relationship Id="rId24" Type="http://schemas.openxmlformats.org/officeDocument/2006/relationships/slide" Target="slide38.xml"/><Relationship Id="rId25" Type="http://schemas.openxmlformats.org/officeDocument/2006/relationships/slide" Target="slide40.xml"/><Relationship Id="rId26" Type="http://schemas.openxmlformats.org/officeDocument/2006/relationships/slide" Target="slide42.xml"/><Relationship Id="rId27" Type="http://schemas.openxmlformats.org/officeDocument/2006/relationships/slide" Target="slide44.xml"/><Relationship Id="rId28" Type="http://schemas.openxmlformats.org/officeDocument/2006/relationships/slide" Target="slide44.xml"/><Relationship Id="rId29" Type="http://schemas.openxmlformats.org/officeDocument/2006/relationships/slide" Target="slide48.xml"/><Relationship Id="rId30" Type="http://schemas.openxmlformats.org/officeDocument/2006/relationships/slide" Target="slide50.xml"/><Relationship Id="rId31" Type="http://schemas.openxmlformats.org/officeDocument/2006/relationships/slide" Target="slide2.xml"/><Relationship Id="rId3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4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5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6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7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8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9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0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1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2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4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6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7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8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9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0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1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ult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ult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ult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is characterizes the popular view of midlife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decline and los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e ability to transcend personal interests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generativit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is theorist sees middle adulthood as a time when we reclaim things that were suppressed in the first half of life in the search for conformity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o is Jung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is theorist claims that during the transition to middle adulthood, individuals try to give greater attention to previously neglected components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o is Levinson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is theory is based in ongoing transactions between persons and environments and begins with the premise that the development is lifelong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life span theor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dults in middle adulthood currently constitute approximately this much of the US population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is theory shows evidence of gains in self-esteem and emotional maturity and losses of biological function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balance of gains and losse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Many individuals often require glasses for the first time at about this age rang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45 to 55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At approximately this age loss of muscle mass begins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45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is is defined as 12 consecutive months without menstruation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menopaus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Male sexual response begins to diminish at approximately this ag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the late 50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one third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usceptibility to colds and allergies begins to decrease, as does susceptibility to thes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accident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ccording to this theory, personalities are rooted in temperament and are influenced by genetic and organic factor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trait theor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ey are strategies that we use to master the demands of life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coping mechanism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Research suggests this long-term trend in personality traits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stabilit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ese traits tend to decline with age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What are extroversion, neuroticism and openness to new experiences?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Middle adulthood is commonly defined as this age range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is trait tends to increase with age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agreeablenes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 network of social relationships that protect, aid and socialize u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a convo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Multigeneration families are becoming more common because of thi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longevit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Family members who keep family members across generations in touch with each other and who make sure that needs are met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kinkeeper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roviding support to children is associated with this in adults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psychological well-being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40 to 64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e negative mental and physical effects caused by caregiver stress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caregiver burden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Generally, at this point adults have peaked in their career, established their family and taken responsibility for their children, parents and community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midlif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During midlife, one is supposed to have accumulated these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resources for coping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 </cp:lastModifiedBy>
  <dcterms:modified xsi:type="dcterms:W3CDTF">2010-11-22T04:40:04Z</dcterms:modified>
  <cp:revision>41</cp:revision>
  <dc:subject/>
  <dc:title>Blank Jeopardy</dc:title>
</cp:coreProperties>
</file>