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DD0-FA4E-4DA7-A4B8-CD854AEB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C34-8828-470F-97ED-CA52CA98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47A-88F1-4686-AD37-4D436DD6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2401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44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5029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2401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644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2DA-E919-4E08-8DEC-D36ED39A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822-73D4-4C86-98DD-5E54744C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BCC-5E7F-49CF-B1D1-E67EE401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D0F-A052-4017-B2B7-DC4F067C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509-5979-412D-B839-616A9802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871440"/>
            <a:ext cx="8001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57B-827E-4A08-830F-928FA500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5DE-7FCE-4764-8E42-CB1B847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B29-7D09-4A4E-A7B0-B9A9529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375-2690-4E76-8FFE-000F6600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A607-EA79-41AB-972D-C674B6C714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01F1-4519-43AC-A1FC-AE1730254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6.xml"/><Relationship Id="rId12" Type="http://schemas.openxmlformats.org/officeDocument/2006/relationships/slide" Target="slide18.xml"/><Relationship Id="rId13" Type="http://schemas.openxmlformats.org/officeDocument/2006/relationships/slide" Target="slide20.xml"/><Relationship Id="rId14" Type="http://schemas.openxmlformats.org/officeDocument/2006/relationships/slide" Target="slide22.xml"/><Relationship Id="rId15" Type="http://schemas.openxmlformats.org/officeDocument/2006/relationships/slide" Target="slide24.xml"/><Relationship Id="rId16" Type="http://schemas.openxmlformats.org/officeDocument/2006/relationships/slide" Target="slide26.xml"/><Relationship Id="rId17" Type="http://schemas.openxmlformats.org/officeDocument/2006/relationships/slide" Target="slide28.xml"/><Relationship Id="rId18" Type="http://schemas.openxmlformats.org/officeDocument/2006/relationships/slide" Target="slide30.xml"/><Relationship Id="rId19" Type="http://schemas.openxmlformats.org/officeDocument/2006/relationships/slide" Target="slide32.xml"/><Relationship Id="rId20" Type="http://schemas.openxmlformats.org/officeDocument/2006/relationships/slide" Target="slide34.xml"/><Relationship Id="rId21" Type="http://schemas.openxmlformats.org/officeDocument/2006/relationships/slide" Target="slide36.xml"/><Relationship Id="rId22" Type="http://schemas.openxmlformats.org/officeDocument/2006/relationships/slide" Target="slide38.xml"/><Relationship Id="rId23" Type="http://schemas.openxmlformats.org/officeDocument/2006/relationships/slide" Target="slide40.xml"/><Relationship Id="rId24" Type="http://schemas.openxmlformats.org/officeDocument/2006/relationships/slide" Target="slide42.xml"/><Relationship Id="rId25" Type="http://schemas.openxmlformats.org/officeDocument/2006/relationships/slide" Target="slide44.xml"/><Relationship Id="rId26" Type="http://schemas.openxmlformats.org/officeDocument/2006/relationships/slide" Target="slide44.xml"/><Relationship Id="rId27" Type="http://schemas.openxmlformats.org/officeDocument/2006/relationships/slide" Target="slide48.xml"/><Relationship Id="rId28" Type="http://schemas.openxmlformats.org/officeDocument/2006/relationships/slide" Target="slide50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1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3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4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6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1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2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3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5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6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c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ol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ol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x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olesc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hanges in circadian rhythms making teens more alert at night and tired in the mornings often affect thes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sleep pattern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eenage smoking, drinking experimenting with drugs and early sex are examples of thi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high risk behavio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capacity to apply hypothetical reasoning and the ability to use symbols to solve problems are examples of thi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formal operational though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part of self concept that comes from knowledge of one’s membership in a social group and the emotional significance of that membership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ocial ident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understanding of oneself as a man or a woma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gender ident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dolescence was invented as a concept during the transition to this phase of society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thnic teens may explore this during adolescenc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ethnic identi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 development of a self or identity that is unique and separat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individuat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eer groups that are organized by interests and are larger than clique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crowd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se meet the needs of affiliation, attachment, caregiving and sexual gratification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romantic relationships?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racticing future orientation, role experimentation, exploration and self evaluation often occurs her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school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Industrial Ag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is a role model and trusted advisor found within the community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mento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Delinquent behavior, problem drinking and marijuana use have all been linked to thi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early sexual intercours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group of teens reports going through a period of verbal victimization by parents before gaining their support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o are LGBTQ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For this group, the normal tasks of adolescents may be curtailed with long-lasting disadvantage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o are teen mother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Infertility and death are risks from thes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STI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se are ceremonies that demarcate the transition from childhood to adulthood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Housing insecurity, exposure to crime, childhood sexual abuse, frequent alcohol abuse and depression are factors leading to this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risky sexual behavior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tudents in this country have a higher illicit drug use rate than in other industrialized countrie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the US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eens report doing this to relieve tension, to cheer up, to alleviate boredom and to appear adult-lik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drinking alcohol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eneral poor health, disease and substance abuse are often linked to substance use before this ag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25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dolescents found guilty of committing a crime or status offense are referred to as this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a juvenile delinqu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rites of passag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is is defined as physical or verbal attack or intimidation with the purpose of causing fear, distress or harm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bullying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is is the time of development of secondary sex characteristic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is puberty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One is problem solving when one is alone and calm, the other is among peers when emotions are running high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hat are cold cognition and hot cognitio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96000" y="6219720"/>
            <a:ext cx="2219400" cy="333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Main Men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lmori</cp:lastModifiedBy>
  <dcterms:modified xsi:type="dcterms:W3CDTF">2010-11-30T23:23:43Z</dcterms:modified>
  <cp:revision>40</cp:revision>
  <dc:subject/>
  <dc:title>Blank Jeopardy</dc:title>
</cp:coreProperties>
</file>