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BCD-84BA-4182-AB15-D2AE5DD7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0E1-446C-4905-AA77-7D71088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0F0-0D8F-4D2B-8D16-11443D59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2401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44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5029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2401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644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376-A6FE-4D7E-A98B-3DBC0004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4F6-276F-449A-A41F-0E593EF2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612-3E6E-4CB0-A788-1BBE1F61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05E-86B4-492C-97D4-30AFB15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87F-A05A-40FA-99F2-2F9C6685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871440"/>
            <a:ext cx="8001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1B3-B085-4C0C-B9C2-1FC85B27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B4D-5EDF-482E-A356-4712793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052-7FF0-4296-9B9E-945527F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732-DBA6-4C7B-9F96-C0A7290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A198-8737-4047-A0BD-8D201FF739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E14B-79A4-4678-8525-D646FF69E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20.xml"/><Relationship Id="rId14" Type="http://schemas.openxmlformats.org/officeDocument/2006/relationships/slide" Target="slide22.xml"/><Relationship Id="rId15" Type="http://schemas.openxmlformats.org/officeDocument/2006/relationships/slide" Target="slide24.xml"/><Relationship Id="rId16" Type="http://schemas.openxmlformats.org/officeDocument/2006/relationships/slide" Target="slide26.xml"/><Relationship Id="rId17" Type="http://schemas.openxmlformats.org/officeDocument/2006/relationships/slide" Target="slide28.xml"/><Relationship Id="rId18" Type="http://schemas.openxmlformats.org/officeDocument/2006/relationships/slide" Target="slide30.xml"/><Relationship Id="rId19" Type="http://schemas.openxmlformats.org/officeDocument/2006/relationships/slide" Target="slide32.xml"/><Relationship Id="rId20" Type="http://schemas.openxmlformats.org/officeDocument/2006/relationships/slide" Target="slide34.xml"/><Relationship Id="rId21" Type="http://schemas.openxmlformats.org/officeDocument/2006/relationships/slide" Target="slide36.xml"/><Relationship Id="rId22" Type="http://schemas.openxmlformats.org/officeDocument/2006/relationships/slide" Target="slide38.xml"/><Relationship Id="rId23" Type="http://schemas.openxmlformats.org/officeDocument/2006/relationships/slide" Target="slide40.xml"/><Relationship Id="rId24" Type="http://schemas.openxmlformats.org/officeDocument/2006/relationships/slide" Target="slide42.xml"/><Relationship Id="rId25" Type="http://schemas.openxmlformats.org/officeDocument/2006/relationships/slide" Target="slide44.xml"/><Relationship Id="rId26" Type="http://schemas.openxmlformats.org/officeDocument/2006/relationships/slide" Target="slide44.xml"/><Relationship Id="rId27" Type="http://schemas.openxmlformats.org/officeDocument/2006/relationships/slide" Target="slide48.xml"/><Relationship Id="rId28" Type="http://schemas.openxmlformats.org/officeDocument/2006/relationships/slide" Target="slide50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1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3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4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6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1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2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3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5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6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bies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fer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y believe that conception is caused by the heat between men and women causing the blood to boil, so pregnant sex is required for the child to fully develop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are the Dusan of Borneo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Until the early 20</a:t>
            </a:r>
            <a:r>
              <a:rPr b="0" lang="en-US" sz="6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 century, most US births happened her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ere is hom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n 1900, this is how many women died in childbirth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8 per 1000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By 1940, this percentage of births were done in hospital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over 50%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was the year that the ACOG protested that acceptable levels of safety in childbirth were only available in hospital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en was 1975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expectations that parents learned from their own birth famili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tudies show that there are no increased risks from home birth if these are availabl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trained midwives and referral sourc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n 1912 the US Children’s Bureau published this handbook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“Prenatal Care”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n the 1950s he published his book “Painless Childbirth”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was Dr. Fernand Lamaz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amaze proposed that women could use their intellect to control pain through thes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relaxation techniqu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s more women went back to work, the role of childbirth educator became filled by professionals during this tim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were the 1980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may influence expectation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76% of Caucasian women attended these, while only 44% of African American women did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childbirth class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During the first six months post pregnancy, this has a conception rate of less than 2%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effect does breast feeding hav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oldest form of contraception, it has a failure rate of 19 to 27%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coitus interruptu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so known as periodic abstinence, this has a failure rate of 20 to 30% if not practiced diligently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rhythm metho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s birth control it has a failure rate of 2% when used correctly, but can also prevent the transmission of diseas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condom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Many of these have doctrinal policies about acceptable sexual behavior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n the 1960s, with its failure rate of 0.2%, this revolutionized family planning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oral contraceptiv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njection of sperm directly into an egg that has been surgically retrieved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In Vitro Fertiliza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imilar to IVF, but the ova are surgically returned to the woman’s fallopian tube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Gamete Intrafallopian Tube Transfe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ypassing the cervix and surgically implanting ova and spermatozoa into the uteru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itrauterine insemina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arvesting embryos to preserve for future us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gestational surrogac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mainstream religion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 more traditional alternative for infertile couple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dop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From simply waiting for birth to actively maintaining the mother’s and the baby’s health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changes in expectations have US women experience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y believe repeated intercourse is needed to conceive, but forbid pregnant sex for fear of multiple birth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are the Telefomin of New Guinea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 </cp:lastModifiedBy>
  <dcterms:modified xsi:type="dcterms:W3CDTF">2010-11-08T21:26:39Z</dcterms:modified>
  <cp:revision>41</cp:revision>
  <dc:subject/>
  <dc:title>Blank Jeopardy</dc:title>
</cp:coreProperties>
</file>