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8DC-5422-42DE-8FC4-FBD7F2DE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CD6-303E-400E-8227-9F41C7BC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31F-5C08-45AA-92DE-D6D44957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19A-AED4-4905-9814-8037AE0F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36B-9A3A-474E-A02A-2F6F9B77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E14-5540-463D-B43B-D092BEE9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38F-C620-4C4B-B5AD-36AD179C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60E-2E99-4FD2-8D30-4DC5D27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09B-341C-4140-8A23-99E82CC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D20-3745-475F-9A28-A1B2041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60B-9BBA-488B-9F7F-24F02E8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D83-98B7-4C28-B065-698E01CE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9A9B-2FA7-41F5-80AD-186E76C2F8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16F-2DE8-43A9-9CB0-16EC68115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20.xml"/><Relationship Id="rId14" Type="http://schemas.openxmlformats.org/officeDocument/2006/relationships/slide" Target="slide22.xml"/><Relationship Id="rId15" Type="http://schemas.openxmlformats.org/officeDocument/2006/relationships/slide" Target="slide24.xml"/><Relationship Id="rId16" Type="http://schemas.openxmlformats.org/officeDocument/2006/relationships/slide" Target="slide26.xml"/><Relationship Id="rId17" Type="http://schemas.openxmlformats.org/officeDocument/2006/relationships/slide" Target="slide28.xml"/><Relationship Id="rId18" Type="http://schemas.openxmlformats.org/officeDocument/2006/relationships/slide" Target="slide30.xml"/><Relationship Id="rId19" Type="http://schemas.openxmlformats.org/officeDocument/2006/relationships/slide" Target="slide32.xml"/><Relationship Id="rId20" Type="http://schemas.openxmlformats.org/officeDocument/2006/relationships/slide" Target="slide34.xml"/><Relationship Id="rId21" Type="http://schemas.openxmlformats.org/officeDocument/2006/relationships/slide" Target="slide36.xml"/><Relationship Id="rId22" Type="http://schemas.openxmlformats.org/officeDocument/2006/relationships/slide" Target="slide38.xml"/><Relationship Id="rId23" Type="http://schemas.openxmlformats.org/officeDocument/2006/relationships/slide" Target="slide40.xml"/><Relationship Id="rId24" Type="http://schemas.openxmlformats.org/officeDocument/2006/relationships/slide" Target="slide42.xml"/><Relationship Id="rId25" Type="http://schemas.openxmlformats.org/officeDocument/2006/relationships/slide" Target="slide44.xml"/><Relationship Id="rId26" Type="http://schemas.openxmlformats.org/officeDocument/2006/relationships/slide" Target="slide44.xml"/><Relationship Id="rId27" Type="http://schemas.openxmlformats.org/officeDocument/2006/relationships/slide" Target="slide48.xml"/><Relationship Id="rId28" Type="http://schemas.openxmlformats.org/officeDocument/2006/relationships/slide" Target="slide50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1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3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4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6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1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3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5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6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tera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number of males per 100 female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sex ratio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y’re changes in roles and status that represent a distinct departure from prior roles and statu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transition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longer view of long-term patterns of stability and change in a person’s life, involving multiple transition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traject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significant occurrence involving a relatively abrupt change that may produce serious and long-lasting effect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life ev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 time when major change occurs in the life trajectory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turning poi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 group of persons born during the same time period and who experience social changes within a given culture in the same sequence and at the same ag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large cluster of turning points tend to occur at this sta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idlif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major theme indicating that historical events may affect cohorts differentl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interplay of human lives and historical tim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major theme involving the relationship between age and stage of development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timing of liv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Defined as how old a person feels in contrast to chronological ag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sychological ag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Defined as age-graded roles and expectations of society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ocial ag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cohor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Defined as the current position of a person in their search for meaning, purpose and moral relationship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piritual ag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 major theme emphasizing the interdependence of human live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linked liv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force driving the delayed departure of children from the family home based on econom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effect does changes to the labor market hav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force driving the delayed departure of children from the family home based on availability of housing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effect does changes in the housing market hav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force driving the delayed departure of children from the family home based on scholastic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effect does pursuing higher education hav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 particularly famous cohort, born between 1946 and 1964 in the U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government’s role in departure from the family hom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effect does the welfare support system hav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Defined as attempts to exert influence to shape one’s life trajectory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human agency in making choic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Using personal influence to shape environmental events or one’s own behavio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ersonal agenc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Defined as influencing others who have greater resources to act on one’s behalf to meet needs and accomplish goal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roxy agenc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Defines as when a group of people act together to meet needs and accomplish goal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collective agenc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was the Baby Boom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major theme indicating that events over a lifetime may accumulate a positive or negative inequality of advantage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cumulative advantage/ cumulative disadvantag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t’s a period of generally 20 year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genera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 chart that depicts the proportion of the population in each age group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population pyrami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mori</cp:lastModifiedBy>
  <dcterms:modified xsi:type="dcterms:W3CDTF">2010-11-30T23:21:14Z</dcterms:modified>
  <cp:revision>44</cp:revision>
  <dc:subject/>
  <dc:title>Blank Jeopardy</dc:title>
</cp:coreProperties>
</file>