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9324-64FA-48C6-85C4-5F3B9729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4602-EC20-4C3D-BC1B-AA3AF2D2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5CE8-6127-4C06-8BE5-706D92A40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AC15-6975-4B94-A42C-89374E36E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1992-7351-4772-AE39-01A052B9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B233-5AE2-4940-9D5D-D92F19CD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62D7-0969-48B0-ADEE-589E793F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E472-AC7A-4652-9F4D-22E12180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08A2-BBBE-4CD4-AADF-B9DCBD88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E5DC-6A78-4A7F-B585-5D9D848C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81DD-E7F2-4FE6-9599-C45874DC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C37F-5CF4-4E0F-AB30-8CCEBCB0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DE47-3B45-4C0C-A05A-15E30CA4C8A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74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5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9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33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6" descr="K:\SagePub\HigherEd\EdAcq\Books\Our Documents\EdAcq\Nicole Mainardi\PPTs\Gaby\BallantineCond4e\chapter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2"/>
          <p:cNvSpPr/>
          <p:nvPr/>
        </p:nvSpPr>
        <p:spPr>
          <a:xfrm>
            <a:off x="0" y="4495680"/>
            <a:ext cx="9144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dee8"/>
                </a:solidFill>
                <a:latin typeface="Calibri"/>
              </a:rPr>
              <a:t>Chapter 13 – Population and Urbanization: Living on Planet Earth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1143000" y="3352680"/>
            <a:ext cx="6934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10"/>
          <p:cNvSpPr/>
          <p:nvPr/>
        </p:nvSpPr>
        <p:spPr>
          <a:xfrm>
            <a:off x="457200" y="1905120"/>
            <a:ext cx="350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emographic Transition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6" name="Picture 11" descr=""/>
          <p:cNvPicPr/>
          <p:nvPr/>
        </p:nvPicPr>
        <p:blipFill>
          <a:blip r:embed="rId1"/>
          <a:stretch/>
        </p:blipFill>
        <p:spPr>
          <a:xfrm>
            <a:off x="3962520" y="1066680"/>
            <a:ext cx="4876560" cy="527688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Calibri"/>
              </a:rPr>
              <a:t>Explaining Population Patterns: Theorie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ographic Transition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itiqu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ils to consider several factor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9040" indent="-176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ge at marri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19040" indent="-176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raceptive availabi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19040" indent="-176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country’s land and resourc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19040" indent="-176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conomic structure, religious beliefs, political philosoph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19040" indent="-176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conomic expan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umes modernization results in rational choice about family size; instead, small families are due to economic development and urba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Calibri"/>
              </a:rPr>
              <a:t>Explaining Population Patterns: Theorie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38052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ographic Transition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alth flow theory: decisions about family size result from two strategies: wealth flow from parents to children and vice ver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wealth flows from parents to children, family sizes are small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children are working for their parents, family sizes are lar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Calibri"/>
              </a:rPr>
              <a:t>Explaining Population Patterns: Theorie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53316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lict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and structural factors built into the economic system, not automatic population growth, are the cause of pover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382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italist structures result in wealth for capitalists and create overpopulation and poverty for work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382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ist societies can absorb population growth; all can find jobs as the system expands to include th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Calibri"/>
              </a:rPr>
              <a:t>Explaining Population Patterns: Theorie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Policy: Population and</a:t>
            </a:r>
            <a:br>
              <a:rPr sz="3600"/>
            </a:b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Economic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53352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decisions often rest on whether leaders believe that population growth slows economic development, since economic prosperity is a political go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s to slow population growth: improved sex education, access to contraceptives, and providing education and job opportunities, especially for w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53352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aspects of population chang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ze: overall number of peo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osition: characteristics such as sex ratio, age distribution, religious/ethnic re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ribution: geographic density or concen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mographic processes that affect popul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rtility: birth r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tality: death r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gration: geographic movement of peo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Policy: Population and</a:t>
            </a:r>
            <a:br>
              <a:rPr sz="3600"/>
            </a:b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Institutional Influ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380880" y="12949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tors affecting fertility rat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conomic factors: the relationship between fertility and poverty or prosperity is compl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natalist policies: encourage fertili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tinatalist policies: discourage fert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igious and cultural n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ducation (especially for wom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ailability of contrace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Policy: Population and</a:t>
            </a:r>
            <a:br>
              <a:rPr sz="3600"/>
            </a:b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Institutional Influ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10"/>
          <p:cNvSpPr/>
          <p:nvPr/>
        </p:nvSpPr>
        <p:spPr>
          <a:xfrm>
            <a:off x="0" y="1219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tors Affecting Fertility Rates: Women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 Edu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Picture 12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548560" cy="411480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Policy: Population and</a:t>
            </a:r>
            <a:br>
              <a:rPr sz="3600"/>
            </a:b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Institutional Influ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tors Affecting Mortality 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fe expectancy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verage number of years people live in a particular soc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cates overall health conditions in a countr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ional differences in mortality are caused by disease, poor health care, poverty, war and civil strife, draught and famine, malnutri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Policy: Population and</a:t>
            </a:r>
            <a:br>
              <a:rPr sz="3600"/>
            </a:b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Institutional Influ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12" descr=""/>
          <p:cNvPicPr/>
          <p:nvPr/>
        </p:nvPicPr>
        <p:blipFill>
          <a:blip r:embed="rId1"/>
          <a:stretch/>
        </p:blipFill>
        <p:spPr>
          <a:xfrm>
            <a:off x="2133720" y="914400"/>
            <a:ext cx="4917960" cy="556272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Policy: Population and</a:t>
            </a:r>
            <a:br>
              <a:rPr sz="3600"/>
            </a:b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Institutional Influ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Introductory Ter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80520" y="11430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mography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960" indent="-30816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Calibri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study of human populations, including their size, geographic location, movement, concentration, and changing characteristic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pulation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960" indent="-30816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alibri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n refer to any society, group, or category of peop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low replacement levels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960" indent="-30816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alibri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pulation decrease since there are fewer births than deat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pulation momentum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822960" indent="-30816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alibri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pulation increase due to large numbers of birt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rbanization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960" indent="-30816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alibri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vement of people to citi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457200" y="15235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tors Affecting Migration and Mo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sh-pull model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people are pushed from their original locations by wars, plagues, famine, political or religious conflicts, economic crises, or other factors, and pulled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new locations by economic opportunities or political and religious toler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Policy: Population and</a:t>
            </a:r>
            <a:br>
              <a:rPr sz="3600"/>
            </a:b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Institutional Influ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457200" y="14479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s of Migration and Mo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l migration: movement within a coun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rbanization, or rural to urban migration, is comm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luenced by job and housing opportun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lly displaced persons: forcibly relocated within their own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Policy: Population and</a:t>
            </a:r>
            <a:br>
              <a:rPr sz="3600"/>
            </a:b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Institutional Influ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380520" y="12949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s of Migration and Mo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tional migration: movement from one country to an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luenced by political unrest, war, famine, natural disasters, economic conditions and opportun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s been tightly controlled in Western countries, but immigration is still comm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bed by restrictive immigration laws in receiving countries and by economic reces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fugees: those who flee in search of refuge from war, political oppression, or religious persecu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Policy: Population and</a:t>
            </a:r>
            <a:br>
              <a:rPr sz="3600"/>
            </a:b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Institutional Influ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Micro-Level Population Patter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7200" y="16765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by boom and baby b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s in the population influenc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b prospec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irement secu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eer deci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iance 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Urbaniz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Urbanization Proc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ople move from rural to urban locations, where they hold mostly non-rural occup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y undergo a change in lifestyle in the c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rbanization accompani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dernization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nsformation from traditional societies to bureaucratized sta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dustrialization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nsformation from agricultural and handmade goods to manufacturing indust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Urbaniz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80880" y="12189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ties are locations that provide residents wi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to l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ense of identity and belong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ighbors and frie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ivities and social involv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ss to basic necessities such as food, jobs, schools, and health 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Cities as Micro-Level Living Environ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6840" y="12952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nnies’ two community extrem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meinschaf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all, traditional communities characterized by families and personal relationships and 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sellschaf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rge, impersonal urban areas characterized by formal relationships, contracts and a money economy, and isol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380880" y="12193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rkheim’s Two Types of Social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chanical solidarity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ety held together by shared beliefs, values, and traditions, homogeneity of thought; typical of rural areas and simple socie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gal system emphasizes moral ord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c solidarity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ety held together by an interdependence among people with a specialized division of labor; common in complex socie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gal system emphasizes making amends for wrongdo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Cities as Micro-Level Living Environ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53352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ral 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minant for much of human hi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ral area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wer than 1,000 people per square m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1% of the U.S. population lived in a rural area in the year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ral sociology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tudy of social life in non-metropolitan a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Footer Placeholder 1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Cities as Micro-Level Living Environ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457200" y="13716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banization: Movement from Rural to Urban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day, more than half of all people live in urban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900-60.4 % of Americans lived in rural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10-19.3 % of Americans lived in rural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Cities as Micro-Level Living Environ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orld Population Growt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-level growth has resulted fro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thinking ability, which allowed successful competition for survival of the spe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gricultural revolution led to food surplus and longer life-sp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ndustrial revolution led to improved health and sanitation measures, bringing the death rate d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fe in the 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ban residential patter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ighborhood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iable areas within the larger metropolitan ar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 most needs of residents: food, schools, relig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idents are homogenous with respect to income, interests, ethnicity or race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 degree of social interaction among resi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mbolic commitment, feeling of belong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urb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reas immediately adjacent to the city, extending beyond the city limi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Cities as Micro-Level Living Environ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uman Relationships in Ci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mmel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192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stimulation and economic relations of urban life cause city dwellers to be insensitive and avoid intense relations, to protect their priva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ffman’s civil inattention: elaborate ways of pretending not to make conta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rth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eople in high-density, heterogeneous areas develop coping mechanisms, including sophistication and depersonal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scher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rban life strengthens social groups, diversifies subcultures, and encourages intimate social circles among those who share similar activities or trai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Cities as Micro-Level Living Environ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How Did Cities Evolv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380880" y="11430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level organizational structu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ories of urban develop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hicago School theor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ities grow in a series of circles, moving out from the center; each circle is dominated by a particular type of activity and residential patter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45920" indent="-183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es that constantly occur in cities: residential segregation; invasion by a new ethnic, religious, or socioeconomic group; succession by that grou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flict theorie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rban space is socially defined and scarce, causing conflict over its allocation; cities are dominated by elites who create poverty and exploitation of the poor; urbanization and modernization are a cause of pover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How Did Cities Evolv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80880" y="12189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s of C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ial citie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marily commercial centers motivated by competition; developed around factories, transport and communic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tindustrial citie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nter on service sector, not manufacturing; closely tied to global capitalism and instant information ex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banized nation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ries in which more than half of the population live in urban a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How Did Cities Evolv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30456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w towns”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Calibri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ities built from scratch by urban planners as economically self‑sufficient entities with all necessary amenities (New town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entrification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Calibri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w-income areas that see increases in income and housing prices, often due to middle- and upper-class people buying and renovating rundown proper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flict theorists point out that the poor are displaced and exclu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gacities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Calibri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ities with more than 10 million peop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galopoplis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Calibri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rea where two cities merge along a major transportation corrid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How Did Cities Evolv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56840" y="12949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bal urban varia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genous citie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ditional cities that usually predate European ones; centers include a bazaar and religious and government build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al citie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rn, Westernized "colonial" central cities located next to a traditional, indigenous c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Urban Problems, Environment, and Poli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8088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cro-level perspectiv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ural migrants and overcrowding (shantytown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vironment, infrastructure, and urban ecosyste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verty in the world’s c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manent underclas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global poor who lack education and skills to join local and world econom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minization of povert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rease of women and their children in the ranks of the impoveri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ime and delinquency in the c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38052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ban Planners and Social Policy: Global Tre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rbanization will contin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tion and transport technology will increase contact and reduce commitment to specific a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tional boundaries will diminish in impor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conomies will rely on brain, not brawn, which will continue to increase inequ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flicts between cultural and political groups will continue to affect urban lif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cDonaldization, or creation of consumer worlds dominated by Western food, music, fashion, and entertainment, will contin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Urban Problems, Environment, and Poli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orld Population Growt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2189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dictors of population grow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endency ratio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cate how many people contribute to the labor force and how many depend on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419120" indent="-39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Youth dependency rati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419120" indent="-39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ged dependency rati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x ratio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cates the number of women eligible to give birth and the number of potential spou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pulation pyramid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visual depiction of sex and dependency rat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4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653320" cy="533412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orld Population Growt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Calibri"/>
              </a:rPr>
              <a:t>Explaining Population Patterns: Theorie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8052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lthus’s theory of popul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s are driven to reproduce; if no checks are imposed, the population will increase exponentially, resulting in food shor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sible checks on population growth: war, disease, food shortage or fam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lthus also suggested delaying marriage and practicing abstinence until one could afford a family (contraception was not yet vi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8088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lthus’s theory of popul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itiques of Malth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d not anticipate role of capitalism in population dynamics, for example, encouraging excessive consump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d not anticipate increased productivity of modern agricultural techniq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w abstinence as main way to prevent births; did not recognize the potential for contracep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verty does not result inevitably from population grow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Calibri"/>
              </a:rPr>
              <a:t>Explaining Population Patterns: Theorie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457200" y="12949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lthus’s Theory of Pop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o-Malthusia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pt much of the theory, but with some modif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gnize that individuals’ personal goals are not always consistent with the social goal of managing population grow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vor contraception over “moral restraint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gnize that much environmental damage is caused by corporate pollution and excessive consumption, not population growth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er 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Calibri"/>
              </a:rPr>
              <a:t>Explaining Population Patterns: Theorie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45720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ographic Transition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empts to explain why economic and social changes alter the population s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ies three stages of develop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ge 1: High birth and death rates balance out over time; the pattern for much of human his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ge 2: High birth rates remain but deaths decline due to advances in health, sanitation, food supp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ge 3: Low birth and death rates, low population growth; the pattern in most industrial and post-industrial socie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Calibri"/>
              </a:rPr>
              <a:t>Explaining Population Patterns: Theorie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00:53:57Z</dcterms:created>
  <dc:creator>Deborah J Barr</dc:creator>
  <dc:description/>
  <dc:language>en-US</dc:language>
  <cp:lastModifiedBy>nmainardi</cp:lastModifiedBy>
  <dcterms:modified xsi:type="dcterms:W3CDTF">2015-06-03T17:25:23Z</dcterms:modified>
  <cp:revision>54</cp:revision>
  <dc:subject/>
  <dc:title>Chapter 15:  Population and Urbanization</dc:title>
</cp:coreProperties>
</file>