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186D-9E39-4FDC-8547-0E4064CEF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43F8-321E-4B78-ABFF-0709D3D1A0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6EA-1164-4AA7-BA60-2F841D58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0F5-B38E-44A8-B4B0-CFCC20CA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D28-C0EF-4B0C-9CDC-E356F433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1BE-8E41-4A3E-831F-BD152165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B32-98E5-45FB-9325-178092F0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B52-BC60-4D47-A650-67628CBE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7DC-3D56-4D60-B630-EECE9111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6E5-DCC7-49F1-B60F-BD24F1DD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3D4-BBC5-4A70-BD11-7895FD8C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D9E-5A95-4F10-839D-BB5A67EB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9C4-3CF1-4CF3-A2E8-15A080DD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8EF-23C2-452B-A76F-73EC7B69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5344-DEE8-48AE-AEE0-5CFB7A51B6D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"/>
          <p:cNvSpPr/>
          <p:nvPr/>
        </p:nvSpPr>
        <p:spPr>
          <a:xfrm>
            <a:off x="0" y="441972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9 – Gender Stratification: She/He—Who Goes First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so-Macro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ass ceil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forces that keep women from reaching the highest levels of corporate and public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cky floor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forces that keep the majority of the world’s women stuck in low-paid jo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ass escalator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forces that push men up the organizational hierarchy even if they do not seek to climb it, especially in female-dominated occup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workplace itself is gende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3352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ed Organizations and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places have a gender configuration: the ratio of men to women affects work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 do not earn as much as 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workplaces are supportive of workers’ family responsibilities; others are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mpacts women more than men; according to dominant gender expectations women must balance work and family needs, while men are seen primarily as wo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38088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itutionalized Gender Discri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itutional discrimination: woven into the social structure and taken for gran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de effect discrimination: rests on links between practices in different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st-in-present discrimination: practices from the past that may no longer be allowed still affect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33520" y="12952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theo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ysical, biological sex differences act as symbols that differentiate rights and rew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r is socially constructed; it is not intrinsically related to s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hasizes human agency, or ability to influence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s do not just passively adopt gender roles; we actively “do” gender in everyday interact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-functiona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sex has a role to play in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societies change, so do roles &amp; 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ety: from mechanical to organic solida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der: from similar to differentiated ro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but complementary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6840" y="1371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es males as “haves” (power, wealth), women as “have not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y keeping women in subordinate roles, men protect their privile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le dominance justified by traditional ideolog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n will not voluntarily give up their privileged pos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088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 to Macro-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minist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riarch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few men dominate all others, including women, children, less powerful 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riarchy is primary cause of women’s op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, race, and gender intersect in a way that privileges some women over others, though most women are still subordinate to most 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pite intersections, women are a “minority group” subject to stereotypes, prejudice, discrimin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minism actively advocates change to the social order to eliminate patriarc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 to Macro-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, Homosexuality, &amp; Minority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xuality exhibits a broad range of combinations; societal expectations impose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ment of homosexuality often determined by the government and dominant religiou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y men and lesbians are often minority groups subject to prejudice and discri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terosexism: social reinforcement of heterosexuality, marginalization of those who don’t conform (rural area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mophobia: intense fear and hatred of homosexuality and homosexu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38088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osts &amp; Consequences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of Gender Strat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447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ychological &amp; Social consequ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gid gender stereotypes are cons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women: superwoman image and beauty image can lead to depression and health probl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men: image of “perfect” male body &amp; unemotional male role can lead to guilt, anxiety, neuro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to macro-lev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etal Costs and Consequ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ification has consequences for all social institu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or educational achievement of female child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ss of talents, resources of half of the popu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ck of health care impacts women and their child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divisiveness can lead to alienation, host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ccupations and profession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n “take gender privilege with them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men take disprivilege, which lowers their positions and wa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osts &amp; Consequences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of Gender Strat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ex, Gender, and the Stratification Syste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0520" y="13712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roles and identities are not biological, but socially constru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roles vary widely; each society has its own way of assigning tasks in order to meet its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roles may change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hanging Gender Stratification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&amp; Social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actices used by other groups may be effec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-violent protests, sit-down strikes and walk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tual support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ing the internet to carry the message to oth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ycot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ilding on traditions of community &amp; church activ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y of ending women’s subjugation: many women agree on the goal, but not the means of achieving 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0520" y="1143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8240" indent="-318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ribed physical and/or anatomical differences between men and w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societies divide roles based on sex and insist on assigning a sex to all inf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7600" indent="-264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sexed: persons with ambiguous genitalia, such that sex is difficult to as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7600" indent="-264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gender: identification as someone who is challenging, questioning, or changing gender from that assigned at birth to a chosen gen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eronormativity: expected attraction to members of the other sex; taken for granted norm in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ex, Gender, and the Stratification Syste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ex, Gender, and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x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ulture shapes the meanings of our experiences with our own bodies and our bodies in relation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sex and gender, sexuality is socially constru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ex, Gender, and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0948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ly constructed notions of masculinity and femini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identit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individuals form their identity using gender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rol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assigned tasks or expected behaviors linked to an individual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sex-determined stat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ex, Gender, Sexuality: The Micro-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socialization, we learn the gender roles assigned to our sex and established by our cul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expectations are inculcated by many agents of soc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ure to comply often results in sa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s: the roles we play in institutions differ by sex, as well as 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institutions segregate people by sex and 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institutions allow leadership roles to be held only by 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titutionalized rites of passage, or rituals which mark changes in status, often differ by sex and 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men’s reduced power in micro-level settings is often related to lack of power in meso-level organizations and institu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ex, Gender, Sexuality: The Meso-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0912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itutionalized privilege &amp; disprivileg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terns of action embedded in a social system which provide unrecognized advantages and disadvantag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ibute to sex inequality at the global/national level that is independent of personal prejud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Sex, Gender, Sexuality: The Macro-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Gender 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Meso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r role socialization: process by which people learn the cultural norms, attitudes, behaviors appropriate to their gen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er gender behavior is reinforced and improper behavior is punished through sa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ges in gender socializ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infancy &amp; childhood, parents/family play major role (Nam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ter, meso-level agents are importa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pora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s media (Electronic games, televis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ucational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igious organiza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6:18:01Z</dcterms:created>
  <dc:creator>Deborah J Barr</dc:creator>
  <dc:description/>
  <dc:language>en-US</dc:language>
  <cp:lastModifiedBy>nmainardi</cp:lastModifiedBy>
  <dcterms:modified xsi:type="dcterms:W3CDTF">2015-06-01T21:56:43Z</dcterms:modified>
  <cp:revision>45</cp:revision>
  <dc:subject/>
  <dc:title>Chapter 9: Gender Stratification</dc:title>
</cp:coreProperties>
</file>