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C2F-224A-4BA1-9FD9-5FFC207D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2221-292D-4B3B-8601-5AB87F8F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B41-5A39-4590-A0ED-9A811047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83D-796D-4045-AC9E-5C08AC81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2DF-0133-4B99-BECD-4D6710EA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BA8-0184-4B5B-BCFF-8DF52BF4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BA9-C0BE-4AED-888C-062888CD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8296-2D8E-4C2C-A1FE-E5083CF3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E172-21E5-4DEE-83EE-F9FE0287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CDE7-92B3-4671-9F04-AD28BEF0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54D-2A1D-40D0-9848-C56E24E3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E579-2CF8-484A-9CB7-CF39F8CC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5C6D-9757-4EBE-9EC5-B3D2BE99FEF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4876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3: Society and Culture: Hardware and Software of Our Social World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Socie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533520" y="12193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stindustrial or information socie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technological revolution”: comp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reased reliance on automated prod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ift from manufacturing to information and service job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ed workforce with high levels of technical and professional edu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w class inequalities based on edu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ientific and creative problem-sol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conomic and technological globaliz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ulture: The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s and material objects passed on from one generation to the next in a society, which provide guidelines for action and inte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knowledge, beliefs, values, rules and laws, language, customs, symbols, and material produ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ulture: The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09120" y="13712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s of cul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one shares a culture with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e evolves and adapts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reation of culture is ongoing and cumul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ransmission of culture separates humans from other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Ethnocentrism &amp; Cultural Rela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684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nocentrism: the tendency to view on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own group and its cultural expectations as right, proper, and superior to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U.S. foreign relations illustrate how ethnocentrism can produce host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ural relativism: setting aside on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own cultural beliefs and prejudices in order to understand another group through the eyes of its own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533520" y="14475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 culture: All the objects we can see or touch that are made by humans; the artifacts of a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material culture: Invisible or intangible aspects of a group’s culture, including its values, beliefs, norms or rules, and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ulture: The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440" y="2514600"/>
            <a:ext cx="3817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0400" indent="-320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deal cultu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400" indent="-320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es, values, and beliefs that are considered most desirable and consciously taught to new members of socie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640040" y="2514600"/>
            <a:ext cx="3817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al cultu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es, values, and beliefs that reflect how things in society are actually d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1752480" y="18288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material 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33160" y="12189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non-material cult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ues are shared judgments about what is desirable or undesirable, right or wrong, good or b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ress the basic ideas of a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become a “creed” if they gain the power of religious doctr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ten taken for gran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 may arise between groups with different value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3352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elief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non-material cult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iefs are ideas we hold about life, how society works, and where we fit into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e from traditions, religious teachings, experiences, lessons from parents &amp;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luence the choices we m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ten based on values, which are broader, more abstract notions of what is desi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6840" y="1295280"/>
            <a:ext cx="792468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r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non-material cult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s are rules of behavior shared by members of a society and rooted in the society’s value system. They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kways: desirable but not strictly enfor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s: observed by most, great moral signific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1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boos: prohibit actions; very strong penal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ws: formally encoded, violation seen as deserving of formal punish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53316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s,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anc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behaviors that reinforce norms through rewards and penal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 sa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ve formal sa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gative formal sa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l sa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ve informal sa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gative informal sa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ety represents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ructures that organize group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ure represents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s and material objects that provide meanings and guidelines for li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ety and culture ar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terdepen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Culture and Socie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335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non-material cult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guage is the use of symbols to convey meaning, objects, or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undation of every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s three for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o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verb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53352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,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ken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nds symbolize objects or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nds have similar meaning for all members of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ten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ges symbolize objects or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societies to store information for fu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ables communication over di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verbal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stures, facial expressions, body postures symbolize objects or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837720" y="1828440"/>
            <a:ext cx="7696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,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guage influences perception and thou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inguistic relativity the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osits that people who speak a specific language make interpretations of their reality based on that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Level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0" y="1371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ure operates at every level of the social worl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0" y="2514600"/>
            <a:ext cx="91184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Level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76212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icro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icrocul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fluence only a small segment of individuals’ lives or a limited period of thei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Level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33520" y="12193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so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bcult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culture of a group smaller than a nation but large enough to sustain people through the life sp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bines its own unique elements with those of the dominant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ys a continuous role in members’ l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bers believe in rightness of subcult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bers have sense of “we,” as opposed to “they” (outsid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533160" y="129528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0920" indent="-34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so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untercultu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group with expectations and values that contrast with the values of the dominant society (i.e. Anti-Govt “Patriot” grou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27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ntercultures wish to reject and replace values of the dominant socie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27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lict and compromise with the dominant society, or withdraw from 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27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perate at meso level when they continue over time, or micro-level when short-live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MS PGothic"/>
              </a:rPr>
              <a:t>Levels of Cultur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533520" y="16761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cro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ational cult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comprised of common values and beliefs that tie citizens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fects the everyday lives of all citizens to some ex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may be less influential than subcul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Level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6091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cro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lobaliz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process whereby the entire world is becoming more interdependent, integrated, and uni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ization or Westerniz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lobal cult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fers to behavioral standards, symbols, values, and material objects that have become common across the gl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Level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5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500960" cy="480060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2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ety, Culture, &amp; Our Social Worl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533520" y="18284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eties are composed of struc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itions we 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we belong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itutions we participate 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Society: The Hardwar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60912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icro Lev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bolic Interaction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how we learn to share meanings of symbols, the basic elements of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ness” comes from our ability to influence each other using symbols with shared understan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a society, we use symbols to define what is real, normal, and g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ultural Theor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53316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so and Macro Leve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9160" indent="-1191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 Functional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ety is composed of interdependent parts, each fulfilling a necessary func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unction of cultural norms, values, and beliefs is to hold the group toge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 sometimes norms, values, and beliefs are dysfunctional for individuals or groups within a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ultural Theor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so and Macro Leve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9160" indent="-119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lict The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ety is composed of conflicting groups, each trying to protect its own self-interests and to make its own culture domin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minant groups may impose their cultural beliefs on minorities and other groups, laying the groundwork for confl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dominant groups may manipulate institutions so others learn beliefs &amp; values that justify their power, thus reducing conflict and securing their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ooter Placeholder 1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2f2f2"/>
                </a:solidFill>
                <a:latin typeface="Calibri"/>
              </a:rPr>
              <a:t>Cultural Theories at the Meso and Macro-Level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ociety may be compatible with many types of culture, but there are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 software doesn’t work with incompatible hard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mpts to transport U.S. culture to other parts of the world show that ideas such as individualism, democracy, and capitalism do not succeed in all soc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2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The Fit Between Hardware and Softw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 soc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3680" indent="-23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, simple, pre-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3680" indent="-23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ttle division of labor except by age, s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3680" indent="-23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d together by common beliefs, values, and emotional 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800240" y="2209320"/>
            <a:ext cx="3962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c soc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3680" indent="-23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, complex socie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3680" indent="-23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sive division of labor, specialized task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3680" indent="-23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d together by interdependence of specialized individu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838080" y="11430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685800" y="1447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ile Durkheim’s Types of Societ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Evolution of Socie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Evolution of Socie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8377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eties vary in terms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vision of la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dependence of pos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ical advanc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s and uses of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Socie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09480" y="1294920"/>
            <a:ext cx="79250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nter-gatherer socie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e by hunting, gathering available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madic, few material poss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groups (20-50 members), organized around kin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vision of labor only by gender, 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 on well-being of whol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ing of resources regulated by complex systems of oblig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Socie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3316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ding &amp; horticultural soc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ding societies: keep herds of domesticated animals for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rticultural societies: use primitive gardening and some animals for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mi-nomadic, some material poss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group size (up to 3,00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 a food surplus, leading to material inequalities, status and power hierarch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Socie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gricultural societie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ise crops for food, using technological advances (e.g., plows, irrigati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manent settl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pulation of up to a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irth of feudal syste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od surpluses allow some to leave land, trade goods/services for f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mergence of social clas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mergence of meso-level institu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Socie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dustrial socie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y on mechanized prod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tensive division of labor based on experti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reased material wealt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ge labor replaces feudal system; high inequality between owners and labor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pulation concentrates in c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inship patterns change; smaller fami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ansion of meso-, macro-level institu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al change more rap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7:53:14Z</dcterms:created>
  <dc:creator>Deborah J Barr</dc:creator>
  <dc:description/>
  <dc:language>en-US</dc:language>
  <cp:lastModifiedBy>nmainardi</cp:lastModifiedBy>
  <dcterms:modified xsi:type="dcterms:W3CDTF">2015-06-01T18:23:08Z</dcterms:modified>
  <cp:revision>47</cp:revision>
  <dc:subject/>
  <dc:title>Chapter 3: Culture and Society: Hardware and Software of Our Social World</dc:title>
</cp:coreProperties>
</file>