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935-406F-4645-A327-5266BDA4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7F5-914E-4818-BF39-99A0B769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5EC-33B5-4400-A223-8019299B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A40-7D24-4823-BDB3-5F53B82B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66911-E8B0-45FC-8F91-8D6E33CFD22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6C417-6E97-4CC3-8E1C-C71AA761C48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F64D4-A9BF-48B0-830E-305C74F63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8B63A-F737-4209-BA3F-C21B37C5B6E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17B8-D806-4FC7-83CA-7B3DEE01262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98CC-F59D-415B-9509-377932EE5DC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E6898-FE6A-44E0-A594-0C3466A8D9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51C7E-C3D0-4E8E-9BCA-2E46A18259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3EA99-4BE0-4CA8-8C9C-4625BC99047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B6C65-8DDC-4E42-BF4A-F521637DBF8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FC8DD-051B-47F4-9A67-0A61A82D56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DF4F-E48D-49D0-98FD-DBF9C84F8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6BE-CBFA-4925-9DEB-219448F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C5B-1C0B-49C1-BD9C-2445E033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D31-AB3A-46AE-A50C-D9F9875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894-28E6-42F7-B342-C5DE1D5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F25-F731-49A5-BDCF-DEA7CB7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91A-8452-40C0-8EDA-4674231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D0B-6F13-48DC-A0F8-53F47C52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472-F619-4490-854B-C972A4B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8F0-7FAA-4FCD-B057-55A227A5BDC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C19C-8E7F-4799-A294-BBB73D9641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"/>
          <p:cNvSpPr/>
          <p:nvPr/>
        </p:nvSpPr>
        <p:spPr>
          <a:xfrm>
            <a:off x="0" y="45720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7dee8"/>
                </a:solidFill>
                <a:latin typeface="Calibri"/>
              </a:rPr>
              <a:t>Chapter 6 – Deviance and Social Control: Sickos, Perverts, Freaks, and Folks Like U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 norms, we conform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controls: voices within that tell us when a behavior is acceptable or unaccep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rnal controls: society’s formal or informal controls against deviant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rol occurs when we derive more benefit from conformity than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3520" y="13716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 and Meso-Level Explanation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ist Theories: focus on anomie and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focus on social inequality and power strug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deviance helps society beca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s examples of unacceptabl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s behavior necessary to mainta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s people together through common rejection of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work for those who deal with dev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s social problems that need to be addressed and thereby creates positiv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s society to creative new ways of thi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mie and social disorganization can cause abnormally high level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: a breakdown of norms caused by lack of shared, achievable goals or lack of socially approved mean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 is likely in conditions of rapid urbanization, war, or economic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1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another source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: frustration resulting from gap between socially shared goals and access to legitimate method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 causes some people to turn to deviant ways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five ways of adapting (Mert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ormity: embracing society's goals and adhering to approved means of achieving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: using illicit means to reach approv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ism: strict adherence to social rules, but with no hope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eatism: giving up on both the goals and th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ellion: rejecting socially approved goals and means and replacing them with alternative goals and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: retreatism, rebellion, inno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8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94760" cy="48006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 of Devi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esults from power struggles between socially unequ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tes use deviance to maintain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have the power to define as deviant activities and groups that threaten their interests or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crime and deviance, we must alter the structure of society, making it more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ultilevel Analysis of Deviance: Feminist The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en are often victimized or defined as deviant due to secondary social statu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rime and individuals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crime is t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estimate because not all crime is reported to po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 levels and trends are examined using rates per 100,000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ultiple methods of measur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Devia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ance: the violation of social n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iance is socially constr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s may be deviant in one time and place but not i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or status may be defined as dev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rime is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orm Crime Reports - F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 crimes: murder, rape, robber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I crimes: fraud, simple assault, vandalism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criminal particip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victimiz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thod has flaws; triangulation of data leads to the most accurat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atory or street crime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against individuals or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ctimless or public order crimes: criminal acts committed by or between consenti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crimes: not everyone agrees acts ought to be criminal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te crimes: criminal offenses motivated by the offender’s bias against a particular socia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te crimes are committed on the basis of religion, ethnicity or race, national origin, gender, and sexual orientation and are often under-rep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d crime: on-going criminal enterprises that aim to obtain personal economic gain through illegitimat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archically organized; rely on violence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inent in societies undergoing transition and/or anomie, and among marginalized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include sale of illegal goods and services; infiltrating legitimate businesses; ext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national organized crime takes place across borders and is an increasing 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or white-collar crime: violation of the law committed by an individual or group in the course of legitimate, respected occupational or financial activity (medical fraud-Medicare and Medic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occupational cri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mpanies (employe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employees (wag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th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ational &amp; Global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domestic or inter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many types of terroris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ganized crime: criminal acts committed by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complicity in smuggling, assassination, torture, eavesdropping, accepting bribes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national compari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 rates vary across societies due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cultur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different levels of stigma, or disapproval attached to disobeying laws and norms (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evels &amp; causes of economic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ncome inequality increases, so does cr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tions in overall economic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Crim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rime: acts that violate international laws, treaties, and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crimes involving transnational conglomerates that smuggle illegal goods, or nations that violate environmental agre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sees the cause of global crime as economic inequality and competition betwee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m has increased inequality between core and periphery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y nations may resort to unconventional means to meet their go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riminal Justic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t perspective: the justice system is important for maintaining order i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deterring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perspective: the justice system supports the powerful by depicting crime as a threat from poor people and mino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the injustices of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0880" y="1294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sons and J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institutions: completely control prisoners’ lives and regulate all their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mates’ lives are changed throu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gid social systems develop within pris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ils as “catchall” asylums for the poor, marginaliz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. incarceration rates have increased due to “get tough”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mparative Incarceration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Crime: Deviance that Violates the Law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e: deviance that violates laws and is punished with formal penal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w: a type of norm that reflects opinions about what is considered right and wrong in a particular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ensus crimes: members of society agree about the seriousness of the deviant 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crimes: members of society disagree about the seriousness of the acts, and/or the law disadvantages a particular gr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urposes of pr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functional perspective, prisons serve many purpo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ever, the recidivism rate is hi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than half of all men who do time in prison will be confined again for a cr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ons and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sons can be a source of jobs for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isons are now operated by for-profit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izations of prisons has grown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ts are found through inmate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56840" y="13716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ath Penalty (or Capital Punish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controversial method of cont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 argument for the death penalty is that it deters others from committ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ies suggest this is not the case; however, the death penalty does serve as re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ath penalty is most common in Asia, the Middle East, and parts of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evidence that the death penalty is race and class bi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land became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 in 2013 to abolish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What Causes Deviant Behavior:</a:t>
            </a:r>
            <a:br>
              <a:rPr sz="3400"/>
            </a:b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Explanations of Devia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ist Theories: focus on relationships and mea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 Theories: focus on individual choices, costs,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94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how others shape one’s definition of what is normal and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how society defines some acts as dev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deviance-related symbols and how they affect the 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Associa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s on how we learn deviant and criminal behavior from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ssociating with others who engage in crime and have criminal valu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learn how to commit cr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minal behavior is reinfor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ility of becoming deviant depends on duration, intensity, priority, and frequency of time spent with deviant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ling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and behavior become deviant because they are labeled as such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ies define behaviors as deviant and impose san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im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solated) deviance—actors are not labeled devi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ond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ngoing) deviance—actors are label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ing labeled reinforces deviant behavi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iance becomes a self-fulfilling prophe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ose with less power and status are more likely to be labeled as deviant (link to conflict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ake choices about deviance based on costs and benefits to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sanctions: rewards (benefits) for socially approved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sanctions: punishments (costs) for breaking social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occurs when costs of deviance are higher than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ishment should impose high costs for criminal behavior, as a dete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nds encourage us to adhere to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re bonded to society in 4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tach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mit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nventiona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activities that keep them bu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li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social rules of their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nmainardi</cp:lastModifiedBy>
  <dcterms:modified xsi:type="dcterms:W3CDTF">2015-06-01T20:30:19Z</dcterms:modified>
  <cp:revision>80</cp:revision>
  <dc:subject/>
  <dc:title>Chapter 6: Deviance and Social Control:</dc:title>
</cp:coreProperties>
</file>