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7590-4357-43B8-936C-8E05A5264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2937-5C16-4126-A6C2-0C8DBA413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41A6-6EF9-4B6E-B691-9E87A8FD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546-6CE8-4B65-B04C-385763CC6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662-8742-4F65-BBD6-38E6A790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0F4-CE71-4492-A9A7-D00435FCA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6EBB-54A3-4751-9EC9-6AE131C0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F1AE-6EC0-4659-BF09-4B75F8503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4EE2-F7CE-412A-8393-C62A50664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F921-2A90-425D-8C00-EBD2F6DA1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A1A9-DB72-42EF-B2CE-E22FA087E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9C6-1FC6-411C-8E65-95C9A193D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8C67-83FB-4D6B-929D-84483EA3E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EB0C-362F-4AAD-B561-C1279A422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F67D-25AF-4C09-B18A-E43CD6F1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EDE9-491E-4436-898F-A393A77C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AFAF-D5C8-4778-85AC-EF0F5F50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3BAB-3405-45FF-915C-41B305CE9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64AC-FE4D-4193-8B50-EDF04EDC9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84EE-C66C-464A-88E3-ECF9A0EDF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FBF8-15C6-4304-A180-57E66EB5F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C302-01EF-4B39-B8CD-983ED9495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4EC-93CE-4387-93A5-56872BCA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3A08-3E5A-4185-83BF-9F488AB3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C829-E65D-4F61-AD6A-F57E4DEAB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575-58CF-481E-90A5-C8FB55F1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5268-788D-4C9E-AEBE-1212BC71B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89AB-E564-49A6-932B-E5E6E563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C38D-D3B1-496A-ACB7-09C2492C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3099-56E6-45DB-82ED-44E29231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F606-15A2-49E7-9E29-F3288AE71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8316-E2DE-46C3-BD43-8AFAE6F33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2CEA-6AD7-4750-8B36-A13E9797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9DA8-7C09-457E-894D-52CEA268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2 – Examining the Social World: How Do We Know?</a:t>
            </a:r>
            <a:br>
              <a:rPr sz="4800"/>
            </a:br>
            <a:endParaRPr b="0" lang="en-US" sz="48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 the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r functional the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art of society has a necessary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s fit together into a stable, orderly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s may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nif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lanned)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t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unintended); some things may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ysfun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claims are abstract, difficult to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easily explain social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s conflict is harmful, which i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always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s stability is good, ignoring inequ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theoris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te, Durkheim, Mer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eso- and Macro-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equalities in resources and power create conflict, which underlies all social rel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werful impose their values and beliefs on weake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leading to greater equality is desi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lects the micro-le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 to test empir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easily explain cohesion and co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s on assumption of self-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theoris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x, DuBois, Dahrendorf, Co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eso- and Macro-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inist sociologica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ed in conflict theory, symbolic interactio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hierarchies disadvantage women and advantage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ology has traditionally been male dominated, resulting in an incomplete view of the wor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ory should address the intersection of gender, race, class, and other inequa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eso- and Macro-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Webe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contrib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erste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understanding): emphasized the importance of interpreting the meanings people give to their actions (micr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ed on bureaucracy guided by rationality as key element of modern organizations (mes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ined how history has been shaped by politics, economics, religion, psychology, and ideas (macr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otestant Ethic and the Spirit of Capit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d explanation for how capitalists view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ulti-Level Analy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theory is right or wrong; each has advantages and disadvantages for studying particular levels or aspects of socie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  <a:ea typeface="Arial"/>
              </a:rPr>
              <a:t>Using Different Theoretical Persp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8023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deas Underlying Scienc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y uses scientific methods to expand knowledge of the soci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stematic use of theories and research methods makes sociology much more than guesswork or opi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deas Underlying Scienc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ptions of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real physical and social world that can be studied syste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is ordered by relations of cause and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st way to know the world is through empirical testing, based on observed fa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hat can’t be observed lie outside the scope of scientific inqu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should be objective, or based on evidence rather than opin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search proce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ing a research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ing the research plan and method for collect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sense of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  <a:ea typeface="Arial"/>
              </a:rPr>
              <a:t>How Sociologists Study the Soci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s in planning a stu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Define the problem clea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question must be specific and pre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Find out what is already known about top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existing theory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Formulate hypotheses and defin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hesis: educated guess about the relationship between two variables, which can be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: concept that can vary in frequency of occurrence across persons, places, o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alizing a variable: linking the variable concept to a specific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lanning a Stu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520" y="4114440"/>
            <a:ext cx="3962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uctive reasoning: moves from general theories to specific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272880" y="1295280"/>
            <a:ext cx="860904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lanning a Study </a:t>
            </a:r>
            <a:r>
              <a:rPr b="0" lang="en-US" sz="2400" spc="-1" strike="noStrike">
                <a:solidFill>
                  <a:srgbClr val="f2f2f2"/>
                </a:solidFill>
                <a:latin typeface="Calibri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5029200" y="411480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ductive reasoning: moves from specific facts (data) to more general the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thought before sociology: strongly influenced by religion and philoso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n sociology arose in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Europe, influenced by several condi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nialism: exposure to other cul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ial Revolution &amp; French Revolution: desire to know how dramatic change could be systematically expl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ces in the natural sciences: desire to apply scientific method to the social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e Development of Soci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00" indent="-120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aims to find causal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ys that two variables can be rela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2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ion: variables change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2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ation: one variable causes another to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variable (IV): the cause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ent variable (DV): the variable that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ing: change in IV must precede change in D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2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urious relationship: IV and DV change together due to effects of a third variable; not a causal relatio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variables help eliminate effects not related to the hypothesis, especially spurious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lanning a Study </a:t>
            </a:r>
            <a:r>
              <a:rPr b="0" lang="en-US" sz="2400" spc="-1" strike="noStrike">
                <a:solidFill>
                  <a:srgbClr val="f2f2f2"/>
                </a:solidFill>
                <a:latin typeface="Calibri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5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design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ortan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a study depends upon the quality of it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methods depend upon the level of analysis of the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sociological research method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eld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ang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gather information from many people about how they think or what they w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s asking respondents a set of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: questions asked by phone or in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stionnaire: questions and other types of i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-ended: respondents can say what they wi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-ended: respondents must choose from a set of predetermine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and open-ended questions yield in-depth information, but are time consuming and cos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naires and closed-ended questions provide less information, but are cheaper and more prac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142640"/>
            <a:ext cx="830592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 studies (observational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ystematically observe and record interaction in the settings where it takes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field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participant observation: observation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nt observation: researcher participates in and observes activities of group being stud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graphy: researcher uses observation, interviews, self-reflection, and other techniques to pursue any data relevant to the research problem, which may evolve over the course of the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520" y="1218960"/>
            <a:ext cx="84582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 study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s qualitativ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ative data: written or verbal observations, used to interpret the meaning of some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itative data: numerical, “hard” data, can be conveyed with percentages or t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 observation: potential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effects: the group being studied may be altered by the presence of the resear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s: researcher may become so involved in the group that objectivity becomes diffic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218960"/>
            <a:ext cx="83818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as a powerful test of cause and eff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ments of a controlled experi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earchers manipulate an independent variable and determine its effects while all other variables are held cons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mental group: subjects who are exposed to the effects of the independent 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rol group: subjects not exposed to the independent 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the experimental group is exposed to the variable, the two groups are compared to determine its eff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not be used to study many sociological questions, research effects may result, and it is unethical to introduce many variables into the labor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295280"/>
            <a:ext cx="8305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experiment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able test, b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be used for questions dealing with macro-level phenomenon that can’t be placed in a controlled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study questions involving independent variables that might cause harm to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effects: subjects may be affected by the fact that they are in a laboratory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143000"/>
            <a:ext cx="83059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data is used in new ways, especially i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from past years is des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cerns meso- or macro- level social patter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analysis: employs data already collected for other studies or by agencies such as the Census Bureau or Unit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analysis: systematic recording and classification of information from written or recorded sources, e.g. newspapers or 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1295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source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data sources may be inexpensive; research is unobtrusive and may be easy t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ble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may not represent the precise population the researcher wishes to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problems with the original data will carry over into the secondary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does not capture the “human side” of research questions as well as interview or observation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 Comte &amp; the science of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ined the term “sociology” in 183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t society’s problems could not be understood by philosophical or religious speculation; scientific knowledge w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ain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holds society together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cial statics or structur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is there change in societ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cial dynamics or proc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e Development of Soci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160" y="1371600"/>
            <a:ext cx="8305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angulation (or multiple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methods of data collection are used to increase the amount of data and the accuracy of fi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methods, field study, experimentation, and existing sources may be used in various comb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(all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: a small group of people who are systematically chosen to represent the larger population being stud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s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: accurately reflects the population being studied, so findings can be generalized to the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: every person in the population has an equal chance of being selected for the sample; the most common type of representative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is to determine relationships between th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must b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er must choose most effective tools for analyzing relationships among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 with and criticism from other researchers aids accuracy of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should be replicable, or capable of being repeated so results can be comp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ing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earcher develops a report, inclu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ine of pro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nalysis, which may include tables or figures that summarize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s: Are hypotheses supported by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pretations and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cial science no one study can definitively prove a hypothesis; instead, findings may tend to support or reject a hypothe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Analysis: Making Sense of the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ical research is bound by ethical codes which generally require th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subjects give informed consent to participate in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 are not harmed or put a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ivacy is not invaded unnecessar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ivate information is 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findings do not cause h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Subjects Review Boards at universities and other research institutions help protect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Ethical Issues in Social Resear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sociolog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rofessional or academic sociology): emphasis on scientific analysis, theory building, knowledge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ed soci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ociological practice): uses sociology to develop practical ways of improving society, often through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sociolog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integrate sociology into communities in order to promote public debate and socia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utting Sociology to Wo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0" y="6367320"/>
            <a:ext cx="426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ahoma"/>
              </a:rPr>
              <a:t>© SAGE Publications, Inc. 2017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sociology after Com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massive social and economic change brought by Industrial R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relationship between micro-, meso-, and macro-leve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sociological theorists: Emile Durkheim, Karl Marx, Harriet Martineau, Max Weber, W.E.B. DuBo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scientific method to test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e Development of Soci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68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ientific soci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cuses on pure, objective analysis, modeled on natural 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umanistic soci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cuses on the human capacity to create meaning, which c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be captured by quantitativ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ublic Sociolog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 to move the focus from classrooms and labs to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ology centered 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mproving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lied sociolog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cuses on practical ways to bring about change in organizations or soci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ree Sociological Tradi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ory &amp; research are interdependen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Theori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statements regarding how facts are related to each 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logical theories attempt to explain and make predictions about the social wor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esearcher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choice of theory and research method is guided by the research question and level of social analy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ories tell researchers what kinds of facts to look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earchers use facts to test theo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Empirical Research &amp; Social The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etical perspective: a basic view of society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es sociological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n overall approach to understanding social behavior, social systems, and relationships between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icro- or macro-level; all can be used at the meso-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Sociology</a:t>
            </a:r>
            <a:r>
              <a:rPr b="0" lang="ja-JP" sz="3400" spc="-1" strike="noStrike">
                <a:solidFill>
                  <a:srgbClr val="f2f2f2"/>
                </a:solidFill>
                <a:latin typeface="Calibri"/>
              </a:rPr>
              <a:t>’</a:t>
            </a: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s Major Theoretical Perspectiv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12189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mbolic interaction theor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or social construction, interpretative theo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ide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teract on the basis of shared symbols to construct a meaningful world—which then serves as a basis for further intera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emphasize agency, individuals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ctive role in constructing their social environments, or how their social positions shape their constru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glects macro-struc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 to study concepts like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d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f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theorist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rge H. Mead, the Iowa Sch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icro-to-Meso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r exchange the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act by making rational, self-interested decisions that will maximize their rewards and minimiz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lects macro-level processes and micro-level, internal ment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easily explain altruistic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do not always act rationally or accurately assess their self-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icro-to-Meso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1:08:03Z</dcterms:created>
  <dc:creator>Deborah</dc:creator>
  <dc:description/>
  <dc:language>en-US</dc:language>
  <cp:lastModifiedBy>nmainardi</cp:lastModifiedBy>
  <dcterms:modified xsi:type="dcterms:W3CDTF">2015-06-01T18:00:55Z</dcterms:modified>
  <cp:revision>89</cp:revision>
  <dc:subject/>
  <dc:title>Chapter 2</dc:title>
</cp:coreProperties>
</file>