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886-8223-4677-93FC-E269F65B9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00D-0A37-45F7-8F8A-B2615DAF37D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55E8-5054-45DB-9F1E-A7A76D675F6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6295-40C3-439B-B5DB-6E189EEA33C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D6B-2691-4CCC-81B9-36619382102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8FE-0E16-42EB-884F-ABFE1535509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1AF-049A-4CA2-8968-617282E26E9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D9B-287F-4FD7-BC31-72C5DF36B09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401-48C3-4756-8741-4F945D45550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BD9-4020-4458-AAE9-1606D869BB6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FAB-B5A2-454B-A521-EB098F45A60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092-4AF0-43D0-9236-44876FF00A5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E175-BC85-45EA-9F2C-8B7754FB4E8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A0F-A24F-4EB9-BB35-FA7B2CFD88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8F3-46F7-406E-8AF8-FD8F4EB1C26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C9A4-7AFA-4F95-AF70-E3A67562F35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3F3F-9C07-4962-9797-C8566F4CCEE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7E2-3B98-43C0-9E19-4D4F81D5804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BC71-C059-4C2D-BAAA-BBF4390C738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CAE-F9F7-47F5-A42B-83C45B0ED03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7B44-197C-4170-A53A-B332C42F27C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099-A9CE-41F2-AE7F-547942CE434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728B-E39E-481F-BB06-3F6A46F760B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7DE-D255-425E-AF2B-A82DD0EA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979-1DF6-4DEB-9228-2698584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3C1-BEAD-41C0-AA08-2AE5B30A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EAE-653E-4663-BE4C-62ADF2C9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806-1FD3-406D-8FB9-3CB4BE55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02D-06FC-4BCB-BB36-3C2AF30C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329-EBDF-47B6-A2C6-8D405F9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519-FD52-46A7-965C-C392731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70E-CA73-4DF5-B985-7F7D249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CD9-87C3-43C8-BADC-1D7040D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83D-AE24-4DB2-8069-79341B33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473-7484-49B6-8C93-06D3953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AF7-4870-4D1A-9E5B-5A6771930B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3cddd"/>
                </a:solidFill>
                <a:latin typeface="Calibri"/>
              </a:rPr>
              <a:t>Chapter 1 – Sociology: A Unique Way to View the World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ingredients in sociological stu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observe what is happening in the social world and can inform social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us to be more effective as we carry out our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re to understand and explain why it is happening (i.e. High School Dropou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practical rewards of sociological stud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f-awareness and self-improv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ter understanding of social situa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ive, systematic understanding of both domestic and global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ing of diverse cultural persp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ility to assess the impact of social poli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reciation of the complexities of social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ful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 how to change your environment and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ociologists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colleges and univer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, conduc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social service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interpersonal relations or deviant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organizational needs or human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data for policy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MS PGothic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ful skills honed in sociological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&amp; 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/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sitivity to diversity and global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ing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, problem-sol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analysis: size of the social groups being considered, from the smallest to the larg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sociology requires understanding multiple levels of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model allows us to picture levels of analysis in our social environment as an interconnected series of small groups, organizations, institutions, and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question: How do the levels connect or conflict with one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69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31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units: interconnected parts of the soci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tructure: a particular combination of social units that orders our l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institutions: provide the rules, roles, and relationships to meet human needs and guide human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society: a population of people living in a specified geographic area with a common political authority, many common ideas, and a social structure and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processes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 taken by people in social units.  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socialization: how we learn to be productive members of socie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conflict: occurs between individuals or groups over money, jobs, and other needed or desir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change: every social unit is continually changing, and change in each unit affects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vironment: the setting that surrounds and influences each social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hysical, organizational, or technologic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unit has its own distinctive environment, to which it must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a social unit, we must consider not only the structure and processes within the unit, but also its interaction with the surrounding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Social World: Levels of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can be studied at many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-level (individuals and small grou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micro interactions form the basis of all social groups and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 (intermediate size un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helps explain relations among institutions, organizations, and large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-level (nations, global &amp; international tre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helps explain how larger social forces and global events shape everyday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evel adds depth to a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y is the Social World Importa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re fundamentally social be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is not just outside us; we also carry it within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take social patterns for granted as routine, ordinary, and expec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socially shared expectations, life would be cha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and the social world mutually influence one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4"/>
          <p:cNvSpPr/>
          <p:nvPr/>
        </p:nvSpPr>
        <p:spPr>
          <a:xfrm>
            <a:off x="228600" y="1371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 of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29720" cy="35812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level of analysis would you use to examine each of the following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couples divide housework responsibi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factors determine the percentage of women in political power in a certain count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size of a school’s sports stadium matter for students who are choosing a colle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032280" y="336600"/>
            <a:ext cx="40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685800" y="192528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ree questions could be studied from any of the levels, or from a combination of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8960040" cy="1752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y: the scientific study of social life, social change, and the social causes and consequences of human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ask questions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and how do people and groups interact with one anothe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re different groups or societies organized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deal with conflict and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changes in one society affect other societ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ists study groups of all siz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ads (e.g., a romantic cou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(e.g., a fami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(e.g., the auto indust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s (e.g., the U.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lobal society (the world as an interdependent ent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lying assumptions of soc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social by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live most of their lives in soci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between people and groups are reciprocal: each influences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feature recurrent social patterns, ordered behavior, shared expectations, and common understa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and change are natural and inevi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y vs. Common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ommonly held beliefs are not actually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y uses scientific methods to test ideas, including common sense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methods involve analyzing evidence in a way that is planned, objective, systematic, and repea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common sense ideas are challenged by scientific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ciological ima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d by C. Wright Mills as understanding individual problems to be rooted in broader social or public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dividual problems are rooted in soci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social factors influence layoff rates and personal experiences of unemploy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ave social factors shaped the causes and rates of divo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sociologists do and 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i="1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that require philosophical or moral jud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that can be studied objectively and scientif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sociologists may study a grou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religious beliefs, but they do not make judgments about whether the beliefs are right or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the social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tudy aspects of human behavior and social life, using the scientific method, but each has a different foc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anthropology: the culture or way of life of a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ychology: individual behavior and ment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Science: government systems an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s: economic conditions and how people organize, produce, and distribute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: human interaction, groups, and social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22:26:17Z</dcterms:created>
  <dc:creator>nscrofano</dc:creator>
  <dc:description/>
  <dc:language>en-US</dc:language>
  <cp:lastModifiedBy>nmainardi</cp:lastModifiedBy>
  <dcterms:modified xsi:type="dcterms:W3CDTF">2015-06-01T18:01:33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