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A99-9874-49AF-AFD4-68C35AE93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285E-A998-4E9F-8289-5585F609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B9EF-06D5-4E61-909F-BCE0B187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E39-7454-44D2-878A-3FC7D5FA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B0AC-815D-45DC-9D1A-289E3E61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C77A-A925-448A-BC94-3F9DCF40A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092-15D7-49E6-91D2-07420D3B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28A-88AB-4A71-AF27-DC1A8549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AEC-9908-4D30-847E-FCD43CE3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77A-45B2-4369-9B3C-2008DF81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908-7C71-44B1-AE1B-3ECDAB27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6223-BA8B-4609-8055-97D9F6DC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31C-3C0E-4714-B20B-FE5A2EEC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7663-43AD-4CFF-8606-9FBA21DD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B7C8-37BE-4AA3-9E7E-B0FC45A7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2247-5358-47B3-B19F-B100A827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240-CDC2-425F-A708-2A4D4D68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F18-5ED9-4DDF-B740-0A93588C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A3E6-1E56-4007-A971-39A4B2DE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BC57-D104-4586-83BF-BC247EBB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191A-6A7F-4EDD-AFB5-B2AF31A4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6B8-3BD4-4ED5-B744-3AC01495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3B1-F218-41CC-A809-E9BFBAE6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9EE-2656-4F60-8917-1DDABE91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A725-BD59-4930-AC34-E7E1B8900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010F-7A0B-4634-80CF-8A593290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A42-9CE8-474A-92DC-DF89308C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3CC-8B30-402B-85DF-8E07BAC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562-3197-4A1C-9B30-6A4267D0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AED-4BC5-4A37-9BB1-F3573C11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1A6-BD20-4AA0-B710-F70CEC7F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E71-E2B7-490A-B934-424F08E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13E-0056-485D-955C-71841377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7A3-57B2-4920-976F-C3CA305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A4D-DCDA-45AB-879F-3B1C54B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9D5-70D4-4679-A026-AE45FF9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907-8023-4F63-902A-5D6DCC2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E03-1792-4717-BAE6-5D9F42A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219-33A6-4235-8D3D-015C04A8A4C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dee8"/>
                </a:solidFill>
                <a:latin typeface="Calibri"/>
              </a:rPr>
              <a:t>Chapter 5: Interaction, Groups, and Organizations: Connections That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48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how people interpret interactions and manipulate others’ interpre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9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Dramatu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matur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s interaction as if it were a staged play with audiences, parts, scripts, props, and set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perform different parts for different aud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learn parts and scripts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ession management”: we attempt to convey a positive, advantageous image of our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nt stage” behavior: public, scripted, presents an image we hope others will take as 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stage” behavior: we relax, let feelings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atuses: positions that individuals hold in the social wor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es define how we interact with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 differs according to whether participants are of equal or unequ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set: an individual’s combination of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ribed status: a status that is assigned at birth and does not change during an individual’s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d status: a status that is chosen or earned by decisions one makes or by personal 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statu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’s most important status, that takes precedence over other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43680" cy="51051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880" y="1371240"/>
            <a:ext cx="8382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: the expected behaviors, rights and obligations associated with a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behaviors are part of our culture, 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s and statuses link us to others in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a particular status depend on the statuses of those the individual is interacting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an be formal or in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onnect us to meso- and macro-level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 Strain and Role Confli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0520" y="13716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strain: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sion between roles within one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conflict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between the roles of two or more stat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43440" y="1295280"/>
            <a:ext cx="4841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roups: The Micro-Meso Conn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: two or more people who interact with each other because of shared interests, goals, experiences, and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a sense of belo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hip is well-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rules for members’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orm through a series of ste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inte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ence of a collective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s to expand collectiv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Importance of Groups for the Individu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3352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Study of Sui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how groups impact individual behavior by comparing different groups’ suicid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conditions leading to suic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oistic suicide  – bonds tying individuals to the group are too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c suicide – the group lacks norms or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ruistic suicide – bonds tying individuals to the group are too st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m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, personal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se of belonging, caring, identity, loyal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 influence on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ll membership, lasting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intrinsic value: belonging is the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724280" y="15238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, impersonal, businesslike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 to accomplish a task or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alized tasks and 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membership; may be short or long-ter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091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act as role models for one another and establish standards against which members measure their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feel a sense of loyalty and belonging; often a reference and/or a primary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that exists in competition with or opposition to an in-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1040" indent="-311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networks: sets of relationships between individuals, groups, and/o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, meso-, and macro-level networ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iends and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civic, sports, and religious organiz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ni groups, political parties, sub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 the Internet influences our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40840" cy="48006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Organization and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Modern Organizations and Their Evolution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organizations: formal, rational, bureaucratic; originated during industrialization in the 170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organizations: complex secondary groups formed to pursue and achieve certain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ity: the attempt to reach maximum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rast: traditional organizations are run on the basis of custom or whi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The Evolution of Modern Organiza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Donaldization of society: increasing dominance of organizations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maximized by sam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ability, nothing left to ch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ion of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ontrol over customers and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McDonaldization lead to dehumaniz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haracteristics of Bureau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ied growth of bureaucracy in the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l type bureaucracy characteris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life-long care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reaucracies also have an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nformal structu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unwritten rules and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ssues in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523520"/>
            <a:ext cx="81532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s of bureaucra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enation: workers with boring, dead-end jobs feel uninvolved, uncommitted, unapprec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igarchy: concentration of power in a smal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ron law of olig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displacement: original purposes are displaced by new, secondary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Macro-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2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&amp; Global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ransportation and communication systems, including the internet, are generating glob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national corporations make their own rules, without oversight bodi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ional and international organizations are governed through rational, bureaucratic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4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onnect us to society and place us within larger social struc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an create opportunities for their members, but also generate obligations that limit members’ freed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ls’ access to networks differs by their gender and other character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erences in access to opportunity-enhancing networks are one reason for persistent in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interaction consists of two or more individuals purposefully relating to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creates micro-leve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interaction has three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g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cial context governed by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ion, goal, and context help us interpret the meaning of the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assume that others will share their interpretations of a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interpretations include situational norms, which create cues for appropriat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(verbal and non-verb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norms and expectations are learned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includes verbal and non-verbal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n-verbal communic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using facial expressions, the head, eye contact, body posture, gestures, touch, walk, status symbols, and personal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verbal communication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ly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all cul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16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: an example of non-verbal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personal space people need varies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 communicates social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in higher positions have greater control of physical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es of Social Distance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imate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0-18 in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and affectionat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on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8 inches-4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iends and acquain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4-12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rsonal business re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2 feet or m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speaking, especially in formal settings or with high-status sp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16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(or Exchange The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hips are formed and maintained based on individual rewards and co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action is sustained when its benefits are high and costs are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at our choices about inter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based on calculations of self-interest (current or eventual payof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guided by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 expectations of reciprocity (individual contributions will balance out over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nmainardi</cp:lastModifiedBy>
  <dcterms:modified xsi:type="dcterms:W3CDTF">2015-06-01T19:04:09Z</dcterms:modified>
  <cp:revision>63</cp:revision>
  <dc:subject/>
  <dc:title>Chapter 5: Interaction, Groups, and Organizations: Connections that Work</dc:title>
</cp:coreProperties>
</file>