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C27-8833-4BDA-BE73-6945CC9B1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462-EDAB-44A9-B3A1-8E59F5857C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451-1EB8-4617-87BD-95981DFC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37-7043-4A42-B39F-78C58F4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165-FFF4-47C5-A76A-589D2322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98D-7D2F-4365-94EF-539747C2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483-1AB6-46D3-A62F-0417472E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F4F-D6EF-4389-8610-B1EB0CE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A29-0ECC-4A97-BEDF-F3A774E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6AD-BA63-4D4E-9D90-B6C9D8D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398-35B4-49C0-8FDC-103022BA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E09-AA3F-44FC-93B7-BFDC44D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F63-CF47-4D31-A119-9039DB6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B29-E29D-4579-B4AA-6297B72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CEE0-647A-4E91-85AF-F3F783EB94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39625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1: Religion: The Social Meaning of Sacred Mean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143000" y="350532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Moder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raditional societies, religion is not separate from other social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mplex societies, religion is distinct, but influences and is influenced by other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minant religion generally supports the political system and ideology of the dominant group, and is related to economic, education, family, and health syste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ystems can exert pressures on reli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68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es of Religious Associ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nominations: have legitimacy but not a religious monopoly; have clear hierarchies and trained leadership; support the state; members more privileged than disenfranchi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s: form in protest against parent religions; separate from other religious and social groups; claim monopoly over religious truth, often demand total allegiance of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religious movements (cults): splinter or protest groups that become new religions rather than denominations; often started by charismatic leaders, often persecu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social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cracy: rule by God; religious leaders rule in accordance with God’s presumed wis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religion: a religion that has some autonomy but receives government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governments have prohibited reli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religion: a set of beliefs, symbols, and rituals that pervade secular life and institutions, endorse what the nation stands for, and strengthen the belonging of citiz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in complex societies with diverse reli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1"/>
          <p:cNvSpPr/>
          <p:nvPr/>
        </p:nvSpPr>
        <p:spPr>
          <a:xfrm>
            <a:off x="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ligion and other institutions: Poli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other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: analyzed the relationship between Protestant beliefs and the growth of capit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dest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call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denial and delayed g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led to a shift in cultural values, which transformed the economic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inks between religion and econ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nctional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has positive consequences for socie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es social cohe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timates social values and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hange: religion can help maintain the status quo or chang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68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s religion to strat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can reinforce socially defined differences in a way that legitimizes prejudice and ine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lass basis of relig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l Mar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perpetuates the current power structure by acting as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piate of the masse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ive affinit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belong to religious groups that espouse values compatible with their social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, racial bias, and gender prejudic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religions have discriminated against some group at som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ligions reject race discrimination formally, but members practice it inform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religions legitimate treating women differently and/or as inferiors; often women cannot attain high positions in religious hierarch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can reinforce ethnocentr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has also been a force for greater equ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religion declining or revitalizing in North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and spirituality remain integral to people’s l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us makeup of the United States and Canada are chang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ine protestant denominations are losing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ngelical Christianity is g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new religious groups are f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Secu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minishing influence of religion in everyday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isn’t the dominant institution, but one of ma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away from the supernatural and sacred in favor of logic and empirical evi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 varies across social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remain religious, but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 and meso-level organizations use secular policies and procedure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lobal level is highly se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give meaning to life, death, suffering, injustice, and events beyond ou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guidelines, beliefs, and values that separate right from wrong; important in controlling everyday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individuals define re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crilizes (makes sacred) aspects of our culture, making them unquestion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kheim’s “sacred realm”: the dimension of life separate from the mundane world, which elicits awe and f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Contributor to war or pe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religious meaning systems advocate peace and harm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s may foster “we vs. they” thinking that draws large numbers and promotes financial vitality, but undermines pe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aith or worldview that provides a sense of meaning and purpose i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of interpersonal relationships and friendship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ble pattern of roles, statuses, and organizational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 (micro lev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symbols that provide a sense of purpose in life and help explain 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ering, injustice, and evil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“big picture” explanation for chaotic and irration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meaning systems vary with the needs of eac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 (micro-meso lev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emain in religions because they feel they belong in the friendship and kinship networks, not just due to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ns that have grown the most recently are those that have fostered a sense of belonging, for example, by encouraging endogamy or marriage within th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al System (meso-macro level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s require some system of control and screening of new revelations; otherwise, meanings would become too individualiz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ed religious leaders have authority to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pret theology and define essentials of the fait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ise funds and ensure continuation of the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survive, religions must be institutionaliz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inization of charism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established roles, statuses, groups, routines, bureaucratic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individuals become religiou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is mostly learned through family socia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means: within a temple, church, or mos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means: observing others practice their fa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usually change religions first on the belonging level, and later on the meaning and structural leve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more fluidity in religious membership now than ever before, though religions try to gain members’ commit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088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ymbolic Interaction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rned with how people make sense of things and construct their worl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ths: stories embodying ideas about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s: group activities that reinforce my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praxy: conformity of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doxy: conformity of beli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s: anything that can stand for something 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gious symbols often stand for elements of a transcendent realm that cannot be directly experie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s are used extensively in rituals to represent my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s focus on how symbols, rituals, and myths influence perceptions of re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68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ational Choice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can choose their religion decide by weighing costs and benefi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include financial contributions a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include salvation, belonging, and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conomic model of behavio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rchgoers seen as consumers; churches as entrepreneurial establis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s produce rituals, meanings, etc. to meet consumer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igion is chosen, there is a competitive market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26:10Z</dcterms:created>
  <dc:creator>Deborah J Barr</dc:creator>
  <dc:description/>
  <dc:language>en-US</dc:language>
  <cp:lastModifiedBy>nmainardi</cp:lastModifiedBy>
  <dcterms:modified xsi:type="dcterms:W3CDTF">2015-06-01T22:24:22Z</dcterms:modified>
  <cp:revision>59</cp:revision>
  <dc:subject/>
  <dc:title>Chapter 12: Religion</dc:title>
</cp:coreProperties>
</file>