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9946-6C76-4749-9DC2-20B3FF63E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B2ED-3E64-4621-8444-8A070CE65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F3D3-B629-4D8B-8AF4-F8445141E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48C0-CC0C-485D-B651-71E713CD8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4481-CDBD-48F6-ADDA-853E81624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C851-A9BF-4097-9C8A-9A38CA6C3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C554-D821-4922-8722-3D3CA56CC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30F7-A832-4244-B13C-23A4E431D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31F8-BEFB-4AD2-B60E-AE6090664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5346-A4F7-49D0-8758-6C51D44B9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B4C9-1EF5-4C60-A13A-2CF0B65BA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81D4-7205-497E-A742-A41BCD91F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A084-1C33-4E70-8D6C-7F53B9885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806B-B8FA-44F1-83FE-06F4A3854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B7B3-1172-42A4-8370-23940938F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E4F9-8D2F-4FF6-B106-16FE09696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4D9C-A2FA-40A7-843E-A566EA0F7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D181-E1C7-4735-977C-B796EA35F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40D3-196E-46B4-B2D6-6D4D6F230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D212-385E-4AC2-8AFB-9F2BA81A7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6DF5-E2A6-4BDA-825B-1D441CCF3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BE50-9528-413B-8A34-34A74B12F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3EE3-2CE8-4914-A2EA-631B9F421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0743-9012-4746-AA3B-630528CAC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5140-694B-49E7-B924-3CA8AC193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85DA-386B-455A-AC0E-5873801B4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B87A-8CDC-4E23-9335-7D5523C17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6BC4-AC4B-4D06-B49F-725579400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517C-719E-4163-A19C-D3776C2FC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B0A1-EB20-4F4A-863D-7C7E53CC8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1AF7-5E54-499D-AF8E-73B7F4045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617B-7DBE-45C9-9271-A6E64FE4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2689-2C68-4F5E-B308-2BDF2DD5B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714F-EEA5-49F1-959F-9407FAB02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B57A-D5F7-447F-80AD-1D82EC2D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8040-EFCB-4D54-AE86-CC49116C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8733-1403-4AF6-BDFB-01FCCF7D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9AE2-6E01-45DC-BB5B-765D7341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638C-7628-446C-A356-C95C0F79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7552-AE10-4CC1-AD27-C1522A17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C207-DBA4-4AB2-B132-4CDDD777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ED24-9F5D-4B0A-BBF5-87697CDF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E314-61B1-44A7-96A2-30F672752F5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5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6" descr="K:\SagePub\HigherEd\EdAcq\Books\Our Documents\EdAcq\Nicole Mainardi\PPTs\Gaby\BallantineCond4e\chapter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2"/>
          <p:cNvSpPr/>
          <p:nvPr/>
        </p:nvSpPr>
        <p:spPr>
          <a:xfrm>
            <a:off x="0" y="4343400"/>
            <a:ext cx="9144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dee8"/>
                </a:solidFill>
                <a:latin typeface="Calibri"/>
              </a:rPr>
              <a:t>Chapter 7: Stratification: Rich and Famous—or Rags and Famine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Micro-Level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 and Macro-Level The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uctural-Functional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atification within societies is inevi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tratification system provides each individual with a position in the social worl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tratification system motivates individuals to carry out their ro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a result, each individual contributes in some way to the maintenance of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al-Functional Theory, cont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avis and Moore Th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positions are more highly valued because people feel they are very import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wards for these positions are high because society must motivate talented individuals to undertake the necessary but difficult preparation for th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tial rewards for positions result in unequal distribution of resources; stratification is inevi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Calibri"/>
              </a:rPr>
              <a:t>Theories of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 and Macro-Level The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lict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atification is the outcome of struggles for dominance and scarce resour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s and groups act in their own self-interest, taking advantage of oth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flict—between those trying to hold onto existing advantages and those trying to gain new advantages—is inevi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Calibri"/>
              </a:rPr>
              <a:t>Theories of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6840" y="13716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lict Theory,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rl Marx, an originator of conflict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ved during a time of economic change which prompted him to question stra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d distribution of wealth in capitalist societies as based on what people can take, not what they need, want, or ea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3712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rx’s Conflict Theory, co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rx described two economic class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bourgeoisie, capitalists, or “haves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roletariat, working class, or “have nots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flict arises from struggle between class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pitalists control the means of production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.e. money, materials, factories, which they use to create profits for themsel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nce members of the working class lack their own means of production, they must work for capitalists in order to earn a liv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refore, capitalists can exploit workers in order to maintain and enlarge their prof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Calibri"/>
              </a:rPr>
              <a:t>Theories of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8088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x’s Conflict Theory,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pitalists remain in control becaus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control the norms and values of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use their power to make inequality seem “fair” and justif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system will last unti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orking class develops class consciousness, or shared awareness of the causes of their low sta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may be aided in this by intellectu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d on class consciousness, the working class will overthrow the bourgeoisie and create a classless society in which wealth is sha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x Weber’s Conflict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x Weber, also a conflict theorist, critiqued Marx’s sole focus on economic factors. His stratification theory included power and prestige, as well as proper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nt conflict theorists argue that there are 5 social class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289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914400" y="47242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apital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anag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etty bourgeois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4495680" y="472428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ork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Under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 and Macro Level The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olutionary Theory of Stra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survive people must cooperate, but conflicts occur when important decisions advantage one group over an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d items are always in demand but short supply; struggle over these scarce items is like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 shapes the distribution of scarce resources, but after basic societal needs are met, power determines distribution of surpl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68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olutionary Theory of Stratification,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hesis of functionalist and conflict theori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uctural functionalis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lented individuals need to be motiv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flict theo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ividuals will attempt to control as much wealth, power, and prestige as possible, resulting in potential confli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loitation contributes to creating inequ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vel of inequality depends on techn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inequality is useful, too much can be harmf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Individual Social Status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3712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icro-lev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vidual Life Ch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fe chances: one’s opportunities, which depend on achieved and ascribed statu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ortant factors affecting life chanc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alth, social conditions, and life expecta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lavery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avery: When an individual or a family bound in servitude as the property of  person or household, bought and sold, and forced to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8080" indent="-328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estimated 30 million people are slaves (women and children from poor families in poor countri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8080" indent="-328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trafficking has claimed 20.9 victims worldwide as of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8080" indent="-328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ildren are often used as slave labor in factories and fiel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Individual Social Status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 Life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festyle: one’s attitudes, values, beliefs, and behavior patterns, which depend on socialization into one’s culture and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ors affecting lifesty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titudes toward achie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mily life and child rearing patter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igious memb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tical involve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us inconsist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Mobility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533520" y="13716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icro-Meso Conne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Mo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 mobility: the extent to which people move up and down in the class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issues dominate analysis of mobilit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es of social mo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hods of measuring social mo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tors that affect social mo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ther there is a “land of opportunity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Mobility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533520" y="16002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s of Social Mo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tional mobility: change in status compared to parents’ status, usually resulting from education and occupational attai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tr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tional mobility: change in status within an individual’s life, whether up or d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tical mobility: movement up or down the stratification hierarchy, sometimes including a change in social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Mobility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6840" y="12952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asuring Social Mo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aditional method: compare the occupations of fathers and sons or daught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re is a high level of occupational inherit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higher the father’s occupation, the greater the son’s chances of occupational succ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re is considerable intergenerational movement up and down the ladd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ns are more likely to move up than down; daughters are even more likely to move 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n’s and women’s occupational attainment is powerfully influenced by class origi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Mobility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2949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ors Affecting Individual Mo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-level facto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mily background, socialization, marriage, and edu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-level fa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ional population trends and economic vit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der, race, ethnicity, and earn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nterdependent global ma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of these factors are interre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988920" y="-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Mobility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720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re a “land of opportunity”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ing mobility across cul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difficult to identify opportunity-rich countries due to the complex factors that influence mo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portunities for upward mobility are changing due to global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ufacturing jobs are now in developing countries, leaving less-educated US workers with fewer opportun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US has high-tech jobs, providing opportunity for those from small, educated families that value individual achie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Mobility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5335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jor Stratification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cribed stratification systems: individuals’ positions in society are determined by characteristics they are born wi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hieved stratification systems: individuals earn their positions through ability and eff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7200" y="12949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0920" indent="-34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cribed Status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te systems: the caste one is born into determines one’s occupation, potential marriage partners, residence, group memberships, and prestig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0160" indent="-281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individual’s caste is recognized through clothing, speech, family name, skin color, other characterist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0160" indent="-281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s learn their caste through soci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0160" indent="-281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ost rigid ascribed status system; maintained by norms, ideologies, and social control mechanisms embedded in religious, political, and economic instit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533520" y="12949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cribed Status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tate systems: one is born into the nobility, the political-military elites, or into the peasantry, whose labor supports the el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9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asants receive protection and enough food to survive from the no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9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asants are tied to a noble’s land and are rarely able to become independent land-ow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9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nks and rights are clearly spelled 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9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ystem is bolstered by arranged marri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hieved Status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class system: social class is defined by property, power, and prestige; it is officially achieved, but actually inherited in p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perty: income and ass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wer: ability to control or influence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Power Elite vs. Pluralism mode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tige: recognition, esteem, respect given those whose occupation and lifestyle are socially valu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 members share similar lifestyles, education, culture, and interaction patter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Importance of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533520" y="152388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stratification: individuals and groups are layered or ranked in society according to how many valued resources they poss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ongoing process of sorting people into layers, legitimated by cultural beliefs that justify ine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Classes in the United States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380520" y="14475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people in the U.S. identify as “middle class” or “working class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ap between the richest 1% of U.S. households own more wealth than all of the bottom 90% combin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7" name="Picture 2" descr=""/>
          <p:cNvPicPr/>
          <p:nvPr/>
        </p:nvPicPr>
        <p:blipFill>
          <a:blip r:embed="rId1"/>
          <a:stretch/>
        </p:blipFill>
        <p:spPr>
          <a:xfrm>
            <a:off x="4267080" y="979560"/>
            <a:ext cx="449604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overty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33520" y="1294920"/>
            <a:ext cx="80769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verty and Social Poli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solute poverty: not having sufficient resources to meet basic survival needs (food, shelter, cloth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35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no prestige, power, or accumulated weal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ve poverty: having an income below the poverty line, and an inadequate standard of living relative to others in the same coun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35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poorer health, shorter life expectancy, greater infant mortality than others in the same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overty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3352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1920" indent="-331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verty Determinants and Social Poli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minization of poverty: trend in which single females, often young and with children, make up a growing proportion of those in pov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5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poor women grew up in female-headed families or suffered economically following divor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5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valent in and around major c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5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lained b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340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aming the victi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340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lict perspective: poor women comprise a reserve group of cheap, easily exploited labor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Macro-Level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ational and Global Digital Div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gital divide: the gap between those with and without access to information technolog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s from differences in socioeconomic status, minority group status, and urban versus rural reside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viduals with insufficient computer and internet access or skills face barriers to many professions and opportun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 and private organizations are developing low-cost technologies that may help level the digital playing fie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Importance of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1920" indent="-331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ncept of stratification assumes th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 are divided into ranked categ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red resources are unequally distribu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society determines how individuals are ranked, depending 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5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5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ographic lo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5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el of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5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tical philosop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5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isions of those in 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Micro-Level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6840" y="12949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tige and Infl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erty, power, and prestige are accorded to individuals wit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ltural capital: knowledge and access to important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 capital: networks with others who have influ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vidual qualities also influence cultural and social capit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Meso-Level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371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ss to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vidual status is shaped by access to resources and reinforced by the family through social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r treatment by educational, religious, political, and other institutions often depends on our status, and also reinforces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r experiences of life are shaped by our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Macro-Level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85800" y="16761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-level influences on stratific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conomic systems and resources within a particular count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ition of that country within world systems of economic stra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0520" y="12193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Level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mbolic Inter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s take up social positions through socialization, in which they learn the appropriate cultural capi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ltural capital influences children’s school and home environ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 positions are represented by symb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picuous consumption: displaying goods in a way that will be noticed and will earn the owner resp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520" y="12949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Level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ional Cho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ople make decisions influenced by their perception of costs and benefits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order to take this view, one needs a sense of delayed gratification—delaying rewards or benefits until a later tim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6280" indent="-346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ople who are willing or in a position to do this—living austerely now in order to experience prosperity later—may be more likely to have upward mobility and to experience greater affluence at a later ti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ooter Placeholder 1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8T15:29:33Z</dcterms:created>
  <dc:creator>Deborah J Barr</dc:creator>
  <dc:description/>
  <dc:language>en-US</dc:language>
  <cp:lastModifiedBy>nmainardi</cp:lastModifiedBy>
  <cp:lastPrinted>2009-04-22T19:24:48Z</cp:lastPrinted>
  <dcterms:modified xsi:type="dcterms:W3CDTF">2015-06-01T21:04:53Z</dcterms:modified>
  <cp:revision>68</cp:revision>
  <dc:subject/>
  <dc:title>Chapter 7: Stratificaiton: Rich and famous - or rags and famin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491033</vt:lpwstr>
  </property>
</Properties>
</file>