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FFAC-52EE-4F06-8BB2-6031F22D2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2FB7-5C1B-4BD9-98A0-DB92F657CD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E835-451E-4747-A07D-56DCB225D8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8707-FA94-40A8-A4F3-2AA78F7768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D185-DA14-4A8C-A7B5-31395D1D55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E50C-3336-4CCD-8045-961531754B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7F1D-42C8-456A-A4F7-75D00FB160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DC1C-4DB2-4C4D-B543-4771E66C7A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2F3E-36C3-4948-B034-B429C6A947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5B52-5B3B-4108-BB41-24B4AF292F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DF3F-DB15-4A65-A221-CDE7D96F13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3712-0B06-4758-8644-5386DC905D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9AD2-1486-4815-86AE-D2D67D8623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E1F1-2CD5-4850-930E-19E4F12505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B148-EA71-4EB0-BA81-E932C68887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EECE-CB51-4445-AAAC-2A0EF9EC68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4DA0-B85F-4507-9405-EDE006CEFE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4D60-2533-4794-826A-B4151091DF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B575-70E9-44B9-95ED-C91CF259E5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E51C-EF57-493E-91C9-6FBFFD5D94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D3E-AEFE-440C-8C25-21F0D617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EAD-5972-4694-954E-4E1B59D0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1FC-8E9C-4861-97F3-8BA6B9FF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91F-11F8-452E-B1E9-EA93553A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0680B-2315-462B-9C0B-42BCEE51142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5766D-839F-49D5-9EA3-8CE7D507A10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9C0A6-4E62-49D6-9EA5-6EAAA67C1B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EBD03-1D26-4A13-A7E2-2CD1DFF1796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53DAF-E6EB-40F5-980D-C3D07C6B497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7817D-0D19-4638-9ED4-4EA7D95400B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CAFDE-27E5-411A-A8DC-55B795FEADA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6EF50-D446-4EED-BA66-F96622B954E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F68B3-690F-42C8-8C61-D646BA2EDD9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99C3A-5E0E-4F1A-A914-4E6C1AB542C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5EDDA-1BA6-4906-A624-DBA78A41D25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2C558-1224-4982-93D8-2A90B84959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85D-38E4-4024-AE04-639295EE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944-607A-4C5E-AD2C-826040DA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7E9-8690-494A-8F78-F97AFB8D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6BA-2C12-4D3D-B08D-22EE056A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504-CAC8-4C32-9D21-72468A15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173-90CC-4FB5-BEDF-1737E554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D83-C5A9-4B9E-927D-32C1FDB8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DD8-8DC1-4F68-BF53-F691955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5DA2-50AF-47F8-A249-B13A5CC1B44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3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15AE-9AE4-45A1-9625-0A35EE59414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2"/>
          <p:cNvSpPr/>
          <p:nvPr/>
        </p:nvSpPr>
        <p:spPr>
          <a:xfrm>
            <a:off x="0" y="441972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4: Socialization: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Becoming Human and Human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arts of the Sel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68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d’s Parts of the Sel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“I”: spontaneous, unpredictable, impulsive, acts without considering social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“me”: the reflexive part of the self, formed through role-taking, that knows the rules of society and attempts to control and direct the “I” into socially acceptabl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me” requires the ability to take the role of others, anticipating others’ re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Stages in the Development of the Self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3712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d’s Stages of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itation: child observes and imitates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: children play at taking the roles of significant others, but do not understand complex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e: children take the roles of multiple others concurrently &amp; the role of the generalized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ed other: a composite of social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behavior comes to be governed by abstract rules, children can enter into novel social are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The Self and Connections to the Meso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0880" y="1295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8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Iowa School of Symbolic Interac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sense of self is rooted in our positions within social organizations and institu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develop a relatively stabl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re sel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or sense of who we are regardless of immediate setting, based on our most important social pos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have a vested interest in the preservation of the organizations and institutions that contribute to our social positions and sense of s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ization Throughout the Life Cycl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648320" y="1295280"/>
            <a:ext cx="3962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tes of passage occur at most s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4160" indent="-323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tes of passage: public celebrations or recognitions of passage from one status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34160" indent="-323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t because they impact others’ perceptions, self-perceptions, and expectations of the 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0880" y="129492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ization occurs throughout lif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ho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ult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 Adult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irement, the Elderly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ying and De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Process of Re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cialization: the process of abandoning one or more social positions in favor of others that are more suitable for a newly acquired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cialization may occur in a total institution, in which people are isolated from the outside world and lead bureaucratically regimented l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Agents of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s of socialization: people, organizations, and institutions that enable us to learn the beliefs, values, and behaviors of our 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-level: family, peer group, local organiz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o-level: educational, religious institutions; me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: socialization is stated goal (e.g., the famil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: socialization isn’t a stated goal but occurs anyway (e.g., the med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s of socialization shift over the life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agents’ messages may concur or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Families: Micro-Level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3316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milies use positive and negative sanctions to help teach children right and wro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umber and type of sanctions shape the socialization process and the se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mily socialization differs b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l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cul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umber of children in the household and birth 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Class: Meso-Level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533520" y="12949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1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class: the wealth, power, and prestige rankings individuals hold in socie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480" indent="-3214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class and socialization: Parents socialize children to meet expectations of the social class into which they are bo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31860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ddle class: autonomy, creativity, self-dir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31860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ing class: rule-following, respect autho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1480" indent="-3214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ass socialization in the family impacts later socialization in scho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2f2f2"/>
                </a:solidFill>
                <a:latin typeface="Calibri"/>
              </a:rPr>
              <a:t>Electronic Media: Meso-Level Socializ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533520" y="16761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ic media as socialization agents: television, computers, internet, DVDs, video games, au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8 % of homes have computer and internet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5 % of teens own cellph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r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who control the mass media can influence socialization within the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messages do these agents of socialization send to childr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impact of children spending more time with media and less time with caregivers and pe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socialization is radicalizing young peo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2f2f2"/>
                </a:solidFill>
                <a:latin typeface="Calibri"/>
              </a:rPr>
              <a:t>Electronic Media: Meso-Level Socializ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ization: the lifelong process of learning to become a member of the social world, including learning the values and beliefs of our cul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action: the basic building block of socialization, through which a child is shaped into a human being and becomes a member of  a socie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self: the perceptions we have of who we 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ization and Macro-Level Iss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ization in a globalized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nationalism: the situation of individuals or families who have national loyalty to more than one country, often a result of mi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result in multiple and conflicting messages about appropriate behavi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communications and ev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lead us to interact with diverse others, or solidify feelings of “we” vs. “they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ature vs. Nur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ature vs. nurture debat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ich best explains the human self and human behavior—biology or socialization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ature argu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obiology (evolutionary psychology): claims our genes “wire” us for social behavi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urture argu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obiology is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ductioni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behaviors vary, are not hard-w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ization is more important than ge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Importance of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68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need human contact, affection, and interaction in order to fully devel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idence: Cases of isolate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nna, Isabelle, neglected orph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these children were not socialized at the proper time, they experienced developmental disorders and could not be fully integrated into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ization &amp; The Social 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activities are part of the socialization experien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cro-level: e.g., parents, peer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so-level: e.g., schools, religious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cro-level: e.g., national advertis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importance of socializ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 are dependent upon socialized people to help them surv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ck of adequate socialization increases the likelihood of deviant behavi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ization &amp; The Social 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pectives on Soci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leve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ic Interactionism: the development of the 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o- and Macro-leve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al-functionalist perspective: various socializing agents support one another and society as a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perspective: various socializing agents have conflicting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se in power ensure that others are socialized into supporting power structures which benefit e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individuals have little power to decide their fu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Development of the Self: Micro-Leve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0880" y="14475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5080" indent="-325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lf: the perceptions we have of who we are, derived from our perceptions of the way others respond to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4920" indent="-321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evelopment of the self allows us to interact with others and function in the social wor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54920" indent="-321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are not born with a self; its development begins in infa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54920" indent="-321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ology and society both contribute to the development of the s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54920" indent="-321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elf, our ability to be aware of ourselves as individuals, may be distinctive to hum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Looking Glass Sel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68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ymbolic interactionist theory of the self developed by Charles H. Coo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oking glass: “Each to each a looking-g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2720">
              <a:tabLst>
                <a:tab algn="l" pos="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ects the other that doth pas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buClr>
                <a:srgbClr val="000000"/>
              </a:buClr>
              <a:buFont typeface="Arial"/>
              <a:buChar char="•"/>
              <a:tabLst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Cooley, the looking-glass self is a reflective process that develops the self based on our interpretations and on our internalization of the reactions of oth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2720">
              <a:tabLst>
                <a:tab algn="l" pos="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2720">
              <a:tabLst>
                <a:tab algn="l" pos="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ole-Ta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ist theory of the sel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orge Herbert M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ourselves through interaction with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can symbolically recognize objects, we can the view the self as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having a name allows us to see ourselves as objects separate from other objects; the difference between “me” and “I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exive behavior: ability to view oneself from the outside, as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2:04:57Z</dcterms:created>
  <dc:creator>Deborah J Barr</dc:creator>
  <dc:description/>
  <dc:language>en-US</dc:language>
  <cp:lastModifiedBy>nmainardi</cp:lastModifiedBy>
  <dcterms:modified xsi:type="dcterms:W3CDTF">2015-06-01T18:40:14Z</dcterms:modified>
  <cp:revision>54</cp:revision>
  <dc:subject/>
  <dc:title>Chapter 4: Socialization:</dc:title>
</cp:coreProperties>
</file>