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90789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25D-4886-4E30-8493-4140B42F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1C20-5516-4B4A-B268-6512CD09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54D-780D-42B0-84A1-D4DAC0F6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835-3EF9-4413-9407-BA4D8D8C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5B4-6E99-48BC-A601-1069F1B8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518C-AA41-4CCA-B417-FA841D92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3A66-6719-40B7-9FBF-3D3F5992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1F9-762D-4EB1-A84A-2BBFBDB9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B8B-3939-41B9-BE89-0072CBB8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4CD-9C53-45F7-ADDA-6D3492FA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476-8981-41C4-994E-8CD61892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E93-C11E-47E1-B101-E074AAD9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4C7A-E0AC-46C3-BCCD-73523504E1A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2"/>
          <p:cNvSpPr/>
          <p:nvPr/>
        </p:nvSpPr>
        <p:spPr>
          <a:xfrm>
            <a:off x="0" y="434340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12 – Politics and Economics: Probing Power and Dissecting Distribution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 perspectiv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flict Theory and the Power Eli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lict theorists believe that the state protects the privileged position of the few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wer elite theor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ule of society by a small group of elites is inevita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chels’ “iron law of oligarchy”: leaders’ influence over who succeeds them allows ongoing elite power and abuse of pow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. Wright Mills described the U.S. power elite as cohesive and interlocking, enabling it to make key political, economic, and social decis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Power and Privile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systems influence our personal lives in a variety of w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also impact government through political participation, such as vo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 political participation is affect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people fall in the stratific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ir perceptions of their power in relation to th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ooter Placeholder 1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838080" y="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dividuals, Power, and Particip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tion in Democratic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ology and political attitudes affect how people think about power and particip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we believe about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ower of individuals vs. state pow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al distribution of resources versus allowing those with high ability or inherited status to receive more wealth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ther change is desira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dividuals, Power, and Particip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6091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ticipation in Democratic Proces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vels of participation in politic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ajority of people in the world are uninvolved in the political proces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ck of opportunity in non-democratic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democratic countries, apathy and alie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ion can include voting, contact with government representatives, involvement in local and national campaigns and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.S. voter turnout is second lowest of the Global North democrac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dividuals, Power, and Particip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533160" y="14479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so-level political institu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 or provincial governments, national political parties, large formal organiz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so-level political institutions influence and are influenced by other institutions such as the family, education, religion, health care, and the econom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poses of Political and Economic Instit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 functions of meso-level political and economic instit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maintain social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serve as an arbiter in disp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protect members of the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epresent the group in relations with other grou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plan for the future of the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provide for the needs of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5720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Systems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 and Distribu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institu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15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and exercise power relations in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institu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15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al with production and distribution of goods and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and economic institutions are interrelat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sets of institutions affect power re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Govern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oritarian system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mes headed by dictators or military leaders who hold absolute power, with little room for citizen invol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talitarian state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n by a single group or party based on a specific political ideology; the state controls many aspects of life such as work and the media; dissent is discouraged or elimin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e terrorism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ror used by a state to control its own citizens or those of another 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ant Types of Political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cratic system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least two political parties compete for power in elections; government is accountable to citizens, who have significant control over their own lives. Other featur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izens participate in selecting the gover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vil liberties are guarante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vernment powers are limited by a constit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vernmental structure and process are spelled ou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ant Types of Political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cratic systems,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s of democratic govern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liamentary (e.g., Great Brita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ial (e.g., the United Sta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represent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portional (e.g., many European countr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ner-take-all  (e.g., the United Sta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political and economic syste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force the distribution of power in socie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systems involve power relationships between individuals and larger social institu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systems produce goods and services and distribute them unequally, giving some citizens more privileges than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litics and Econom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so- and ma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minant Types of Economic Syste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ket systems (capitalism)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ess individual planning, private property, profit-making through free compet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y and demand let some profit, others f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ally, little governmental oversight is needed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s ensure sufficient production, distribution,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s reward innovation, resulting in growth and prospe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rxist critics claim capitalism creates class inequality, exploitation, conflict, and revol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storically, in most Western capitalist countries, labor unions and laws have emerged instead of rev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critics: profit trumps human dignity and val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0880" y="12949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so- and ma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minant Types of Economic Syste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nned systems (communism, socialism)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e-based planning and control of proper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duction is planned with communal good in mi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ally, each individual contributes to and receives benefits from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dious jobs are shared, so individuals have time to focus on humanistic and culturally important aspects of 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itiqu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ystem has eliminated all private property and privi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cing both economic and political power in government hands gives too much control to the f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457200" y="12189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ant Types of Economic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xed economies (democratic socialism or welfare states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ve or group planning of societal develop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can pursue self-interest within lim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ustry is privately owned but regulated; public services are government contro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ocratic political system, public account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xation used to redistribute income and pay for education, health, pension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lems: a relatively new form, can be both productive and cumbers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80880" y="14479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 and the Nation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-stat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olitical, geographical, and cultural unit with recognizable boundaries and a system of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tion-state and nationalism are relatively recent; they emerged in the 16th centu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day the entire world is divided among more than 200 nation-sta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45720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olutions and Rebell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olu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 and political transformation of a n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s when nation fails to fulfill expected responsibilities and new leadership emerges to challenge existing reg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ten viol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 results in altered distributions of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8052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so-macro political conn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/provincial governments and national political parties: less encompassing than the federal government but still influence national political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8088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lobal Interdependencies and Poli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pendency and world systems theorists point out inequality between rich core countries and developing peripheral count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owth of democracy in peripheral countr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curring in some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be aided, but not imposed, by foreign pow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 preconditions may be economic well-being, lack of extreme inequality, pluralism, strong middle class, market economy, tolerant culture, literacy, influence of world system of democratic st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0520" y="16002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olence on the Global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med conflict occurring within, between, or among societies or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called “organized mass violence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frequent but not inevitable condition of human exist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457200" y="12193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olence on the Global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do nations go to wa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ders use moral, religious, or political ideology to legitimize war, though causes may lie elsew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al theorists believe underlying social problems cause system disruptions, including w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also see war as functional for social integr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 theorists see war as the outcome of oppression by the ruling elite and/or attempts to overthrow that oppres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businesses profit from w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04920" y="11426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olence on the Global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can nations avoid wa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rence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argue that if a nation is militarily strong, no one will dare attack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stical evidence shows that deterrence does not reduce the chance of w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remely expens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created a “military-industrial complex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gotiation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of discussion to reach agre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roblem is that negotiation means a partial win—and a partial loss—for each s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common social science definition of power comes from Max Weber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 is the ability of people or groups to realize their own will in group action, even against resistance of others who disagr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Power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olence on the Global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oris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 of indiscriminate violence to cause mass fear and panic, intimidate citizens, and advance a group’s political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ually refers to acts of violence by private, non-state groups with revolutionary political go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 terrorism: government use of terror to control 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rorists come from all political orientations: anarchists, nationalists, religious fundamentalists, members of ethnic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because terrorist strikes seem random, so governments have no clear way to respond as terrorists groups are hard to loc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olence on the Global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rrorism (con’t): without understanding the underlying causes, we can do little to prevent 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ltural explanations cite religious and political beliefs that encourage “we vs. they” think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uctural explanations help us understand when conditions are right for terrorism, for example, when conflict between societal systems is already hig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flict theory explanations emphasize the unequal distribution of world resources and the oppression of particular group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0880" y="12189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arenas of pow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tion-state attempts to control individual behavior throug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ysical control and coerc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bolic control and mani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les of con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 is the ability to influence interactions and organiz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xist perspective: power includes control of economic resources and production, which allows the dominant class to maintain ru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Power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12189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cro-leve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wer is operative in social intera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so-leve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wer also operates 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y, county, state, and national decisions about resources and regul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rge bureaucratic organizations, corporations, ethnic or minority grou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bal systems of power include international organizations such as the United N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Multiple Levels of Power and Privilege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57200" y="15238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 and meso-level perspectiv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gitimacy of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 theorist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how symbols and constructions of reality allow some people to assume power, and how they generate loy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cro-level socialization instills belief in the legitimacy of reigning author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Power and Privile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 and meso-level perspectiv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gitimacy of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 Weber’s contribu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er distinguished between legitimate and illegitimate pow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hority, or legitimate power, is recognized as rightful by those who are subject to 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egitimacy of a government’s power is measur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ther the state can govern without the use or threat of forceful coercion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ther challenges to state authority are processed through normal chann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Power and Privile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 and Meso-level Perspectiv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gitimacy of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er’s contribution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ways leaders gain legitimate pow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ditional autho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ismatic autho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ional-legal authority—most common to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hree are legitimate forms of power because the people being governed give their cons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Power and Privile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 perspectiv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nctionalism and Pluralist Theo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nctionalists believe that citizens legitimize political systems because they serve important functions in socie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uralist theor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 is distributed among various interest groups so that no one group r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s involves negotiation and compromi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multiple power centers offers the best chance to maintain democratic forms of gover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Power and Privile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8:57:35Z</dcterms:created>
  <dc:creator>Deborah J Barr</dc:creator>
  <dc:description/>
  <dc:language>en-US</dc:language>
  <cp:lastModifiedBy>nmainardi</cp:lastModifiedBy>
  <dcterms:modified xsi:type="dcterms:W3CDTF">2015-06-01T22:45:11Z</dcterms:modified>
  <cp:revision>52</cp:revision>
  <dc:subject/>
  <dc:title>CHAPTER 13: Politics: Penetrating Pow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31033</vt:lpwstr>
  </property>
</Properties>
</file>