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0DD-1DA6-4B8B-856E-27FBE5BA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012-B514-4696-9BE1-6FD1DC2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0D5-DC42-48F7-BD7D-F4843565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A16-3929-473F-872C-35D59687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F7A-0627-466C-A4BA-B91080F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11B0A-E75C-47F6-B5B0-CEC4F04323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F993-ED39-45AE-AA58-832968B1B3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A5D29-41CA-4E35-8FD3-1E4EB709EF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C7D7C-73A1-4E3C-BF10-329AA984BD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A11B3-05BB-4F04-90E2-8BE6CEBCE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BFC-30F6-4A03-AC9A-EB2CD2E7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0387-5882-45A7-998A-E29CDB5F3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6ED48-770C-45AE-BE99-A7B6A4338A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80495-D423-4E9B-9AA6-C288F89BD9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2D326-88B2-4782-8A13-843AC9F26E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1C17D-7A02-46F5-8821-D46F4C138E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FC7BB-621C-4B6A-8CE4-2717FCA758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3F4D1-1EB4-4C0F-BCFE-EEFAB52E5D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D24-69DB-4F5D-8E1C-F5A34FD2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95DA07-59B4-4789-B981-5A0A5D9EE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307-67C4-48B7-A677-9D17F0F5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F9EE2-AF41-4F30-86FF-6B794E2099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1645B-A9C5-430B-8546-53064044A59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58602-FA99-4476-8A31-0E0CB1EDA0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2F90A-0861-4818-AF37-1E29BB73B4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2D18F2-053A-4472-B9F6-2BE6C2405C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0AA5AB-5851-4477-B919-D0BBD456E1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B0F685-AFAD-4241-85D0-C905109645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AD4AD-7AEB-4AB3-A02D-7CA3DD7947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2C61D4-4BBD-4CCA-A2EE-14294C5AE7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5694A-E253-434A-B548-51E5FB310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D72-26B2-4DE5-B9DC-D2CB6AC8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C9772-B35A-4BD6-BDBA-6E4001C35C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D03D-3530-4A14-AF71-FB2E21A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381-E2BD-41C9-8E31-EB33EF4C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EE7-9ED2-4278-89B4-3E5631B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869-7647-4503-808A-BF847D2C4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8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7DD5-99B7-4F7C-9824-C4167EA7A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6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D42F-3502-4E42-91F5-D792B706EA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9"/>
          <p:cNvSpPr/>
          <p:nvPr/>
        </p:nvSpPr>
        <p:spPr>
          <a:xfrm>
            <a:off x="0" y="647712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© SAGE Publications, Inc. 2014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evolutionary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move slowly from simple to more complex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ocieties progress through the same steps; advancement is defined as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lan and Lenski’s (2008) five stages of societal progress: hunter-gatherer, horticultural, agrarian, industrial, postindustrial; no stages are “better,” but pattern is ty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linear the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ocieties become large, complex, technologically advanced societies through a variety of differen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19AB-BCF4-4597-A5FD-416A2EBFEC2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mostly stable; due to interdependence, change in one part of society will affect other parts; change may come from outside or within; slow change may occur as societies become more complex, rapid change is potentially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dynamic, change is inevitable; conflict between those in power and the oppressed will lead to changes that may be useful for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AFD3-000C-4DDC-8E20-A58BCF0C03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theory: all societies today have been influenced by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 nations: economically and politically powerful; have controlled and profited most from world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al nations: countries that provide cheap labor and raw materials for core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peripheral countries: in intermediate position between core and periphery, trading with bo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dity chains: global networks of labor resources and production processes that create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31B4-5869-4075-80A7-8F706C9AC9D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6" descr=""/>
          <p:cNvPicPr/>
          <p:nvPr/>
        </p:nvPicPr>
        <p:blipFill>
          <a:blip r:embed="rId1"/>
          <a:stretch/>
        </p:blipFill>
        <p:spPr>
          <a:xfrm>
            <a:off x="1851120" y="1676520"/>
            <a:ext cx="6019560" cy="3998880"/>
          </a:xfrm>
          <a:prstGeom prst="rect">
            <a:avLst/>
          </a:prstGeom>
          <a:ln w="0">
            <a:noFill/>
          </a:ln>
        </p:spPr>
      </p:pic>
      <p:sp>
        <p:nvSpPr>
          <p:cNvPr id="59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EBEC-6D8B-481B-95ED-7C10E06B891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level behavior and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ve behavi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taneous, disorganized group actions that often violate norms; arises when people are trying to cope with stressful situations or un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wd behavior: collective behavior in which a crowd acts, at least temporarily, as a unified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behavior: individuals communicate or respond in a similar manner to an ambiguous situation, often based on common information from the news or on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social movements, these forms of collective behavior lack a hierarchy of authority, a division of labor, and a sense of group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4D59-9058-44A1-9B1D-616C3F814C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nimax strategy (rational choice theory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more likely to engage in behavior if they feel rewards outweigh cos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t norm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behavior often takes place in unusual situations where norms break down and new definitions of acceptable behavior emerge as people look to each other for cl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8B5-2BBB-4171-88DD-F08BA35FFC0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i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-added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rtain conditions are necessary for individuals to join together in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conduc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 of a generalized belie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pitation fa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ization for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s are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B998-AF2F-4F51-8C35-34D9A6C21A9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1417680" y="2209680"/>
            <a:ext cx="6886440" cy="1905120"/>
          </a:xfrm>
          <a:prstGeom prst="rect">
            <a:avLst/>
          </a:prstGeom>
          <a:ln w="0">
            <a:noFill/>
          </a:ln>
        </p:spPr>
      </p:pic>
      <p:sp>
        <p:nvSpPr>
          <p:cNvPr id="61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68DD-11AF-4368-8A54-371A2A4D4B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3260880" y="1432080"/>
            <a:ext cx="3200400" cy="43052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F1A9-B794-4695-98B0-C7704B9B9C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collectiv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s (e.g. lynching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ots (e.g. Iraqi riots over lack of job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ic (e.g. in fi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mors (e.g. urban leg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ds (e.g. tatto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hions (e.g. music gen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llective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2452-0964-4E58-A5DF-7A0B3FA5C90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2819520" y="1676520"/>
            <a:ext cx="320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1523880" y="29718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rocess of Change: Can We Make a Differenc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Organizations Plan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ed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berate, structured attempts, guided by stated goals, to alter the status quo of the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hange is desired; sometimes it is forced on the organization by external stre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cannot be fully predicted, as changes in one area may create problems i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2B06-5746-4728-ACBF-A9D8E5AF8F0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planning organization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focus; goal is to move the organization closer to ideal bureaucratic efficiency and effect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system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 internal processes, which create outputs, with external environment, which creates inputs and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s change as ongoing; all parts of organization and environment as linked; change in one part affects the 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359E-3409-4C93-A667-D681176DCDA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Planne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rganizations must change within themselves to meet new conditions and attempt to bring about change in the wor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must try to avoid conflic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generally perceived as desirable if it is evolutionary or planned; unplanned change can be disrup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634F-B41F-4172-A2D8-47F102E72D2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ed change i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level cha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movem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ciously organized attempts, outside of established institutions, to enhance or resist change through group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a common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n organization, leader,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in industrial or post-industrial societies where diverse groups advocate for their own inter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begun by an individual outside the power structure and focus on how resources are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stimulate counter movements: social movements against the goals of the origin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7CFA-D166-498B-AF43-B7CA4634BFB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movement is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arization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join efforts, define goals and strategies, develop recruitment tactics, and identify leaders; the social movement enters the public 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ized st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nt becomes a formal organization, which gains member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 and demise (in some case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reaks apart due to unmet goals, exhausted resources, or leadership that is inept, no longer legitimate, or co-opted by powerful mainlin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5"/>
          <p:cNvSpPr/>
          <p:nvPr/>
        </p:nvSpPr>
        <p:spPr>
          <a:xfrm>
            <a:off x="746280" y="120168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g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4365-F40B-4191-96F0-634CD0A031C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Movement 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ust share basic values, ideals,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must be a preexisting communications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ain and precipitating event galvanizes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leadership eme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develop a sense of efficacy and potenti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3BD4-1A96-4CBE-A307-A757540637C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hanging people, saving them from corrupt lifesty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refor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o change some aspect of society, but members generally support society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utiona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mpt to bring about total change in society by overthrowing existing power structures and replacing them with new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998600" y="160488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or regre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nge as a threat to societal values, want to maintain status quo; try to protect existing systems or restore old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ransnation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place across societies and focus on large-scale, glob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746280" y="1170000"/>
            <a:ext cx="380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v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878-6616-4C1B-AD61-EE7599507DA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622520" y="1523880"/>
            <a:ext cx="6475320" cy="422928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B59-436B-438B-8CBA-A69FAA0872A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Social M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outh countries are coming together to form social movements in response to unjust treatment by Global North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from below”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orts by common people to protect workers and the environment from profit-driven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7EA-0F36-4547-9D8A-913249F4BA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al application of tools, skills, and knowledge to meet human needs and extend human a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losely linked to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revolutions have altered societies and created social div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C0F-CBD7-4275-8D32-5289B85E288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or alterations over time in the behavior patterns, culture (including norms and values), and structur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 controllable, som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evitable and ubiquit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apid or gradual and evolutio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one level often caused by change at another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E457-52F3-4536-96A1-FF0A62454A3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gburn: technological change is brought about by three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ove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ew way of seeing reality, created by an individual or small group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n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ing existing parts, materials, or ideas to form new ones, often through the expansion of science (increasingly 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u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read of an invention or discovery from one place to another (involves macro and micro lev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4ED-C0C1-415C-AAA3-8EF28A31D1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: the systematic process of producing human knowledge; it uses empirical research methods to discover facts and test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pplies science to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ce has become a major social institution in today’s industrial and postindustri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ation: the creation of a stable pattern of roles, statuses, and groups that systematically meet needs for new resources an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institutions involve people, resources, specialized training, communication,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and applie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AAF6-F214-4696-8DC1-709E5E61D7A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e a force for global integration or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lead to economic and political dis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can bring benefits to some, while harming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technological change affects inter-generati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B85-2291-4492-9ADC-012F20566A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, environment, and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divid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wealth, charisma, expertise, or privileged position can bring about 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use many strategies to persuade individuals to accept change, for example, appeal and persuasion, removing uncooperative individuals, using direct command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2D95-B850-485F-8ED3-0C6E3C3497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mate Change: an example “the use of indiscriminate violence to cause mass fear and panic to intimidate a population and advance one’s political goals” (Nolan 200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so-level phenomenon, though it has personal and global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carried out by non-state groups such as ethnic, political, or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institutions like the economy, government, religion, family, and m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BA3E-9F03-4E0A-B992-1E9E25C8842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Institu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hurch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religious denominations have developed programs to be more “green” or “earth-friendly.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universities are switching purchasing to avoid sweatshop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97C-61F7-49AB-AC1A-F084CD74572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at the National and Global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-leve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environmental shifts caused by one nation affect the entire world, but most nations do not want to change environmental practices for economic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and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tus for change comes from global organizations, national and international organizations and governments, multinational corpo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ternational alliances based primarily on economic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825A-7F0A-4594-8256-DFF951E3BE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lexity of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cess of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is trigge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pressures for ch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conflicting goals or belief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pressur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the natural environment, population dynamics, leaders or dominant individuals, technology, the social environment, or major historic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55E-45AB-4387-B7DB-D33F5C5251E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ies of chang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ctively construct meaning; re-definitions of reality can upset the status quo and be powerful impetuses for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-seeking change must set up a situation in which new desired behavior is rewarded, or where people’s perceptions about the advantages and disadvantages of old behaviors are alt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D32A-B57E-4BDF-91EA-C5E865E423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hange: Processes and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21:07:46Z</dcterms:created>
  <dc:creator>Amanda</dc:creator>
  <dc:description/>
  <dc:language>en-US</dc:language>
  <cp:lastModifiedBy>Stephanie Palermini</cp:lastModifiedBy>
  <dcterms:modified xsi:type="dcterms:W3CDTF">2017-07-03T19:19:48Z</dcterms:modified>
  <cp:revision>90</cp:revision>
  <dc:subject/>
  <dc:title>Chapter 16:  The Process of Change</dc:title>
</cp:coreProperties>
</file>