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5143320" y="-36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5143320" y="6513120"/>
            <a:ext cx="39351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DA87-52A7-4518-9424-4AFA93831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7560" y="3257640"/>
            <a:ext cx="72644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5143680" y="6513480"/>
            <a:ext cx="3935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38BF-9DF3-41C6-A902-DD1EEC1CEC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7B6-6DC4-42F7-8F99-55E802FE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360-385F-47DE-A25E-87816FDA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EA6-7BCF-4874-92A9-9BA59F85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7C4-D135-418B-99BD-CBDE33D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BCB-B456-4060-991E-3897758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8D4D3-8444-4AFF-AE47-27B7C48D93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1FA5-3EFB-4F4E-8C9D-205CC08A16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AD1C0-01CB-40CB-8FEA-B698FBCA6B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44C18-DA22-4345-B97C-F54AB00D7A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75D9C-89EA-4677-9A81-0B14EBD2BC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6CA-EFBB-4D6C-8E6C-1E2FD818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C94F7-1AD5-4AC3-B5CA-5DE8AECFAA6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750D1-B0E0-4920-A84A-A03CA26DD3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CE7EF-8DA2-4775-9976-03E6344D87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2D52A-4CBF-4F30-824B-9C5F4E69F5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477D2-61B5-42B4-BABC-2C35EFB078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DE5BE-A127-46B5-8C6A-41A5E27724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C0983-9D68-4EF8-9DB9-C07569C305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939-5298-4299-B773-F6A656AD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C21D-C7A5-4B3F-A30D-E9D70DF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EE1-3E27-497F-8F3B-F539C587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2DD-78BC-4446-A0C5-15F3AC52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7F4-645E-4B70-B7FC-F6DB6B6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056-FA7F-4088-B871-22791BA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C19F-A677-49DF-BB4F-81FEEB2161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4024-68FC-475A-B8BE-D07BA941F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m and Plural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ts believe that citizens legitimize political systems because they serve important functions in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uralist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distributed among various interest groups so that no one group ru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s involves negotiation and comprom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ing multiple power centers offers the best chance to maintain democratic forms of gover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and the Power El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believe that the state protects the privileged position of the fe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elite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 of society by a small group of elites is inevit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hels’ “iron law of oligarchy”: leaders’ influence over who succeeds them allows ongoing elite power and abuse of p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 Wright Mills described the US power elite as cohesive and interlocking, enabling it to make key political, economic, and social decis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ystems influence our personal lives in a variety of w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lso impact government through political participation, such as vo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political participation is affec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people fall in the stratifi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ir perceptions of their power in relation to the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838080" y="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in Democratic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ology and political attitudes affect how people think about power and particip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o we believe about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wer of individuals vs. state pow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distribution of resources versus allowing those with high ability or inherited status to receive more wealth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change is desirab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in Democratic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s of participation in poli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jority of people in the world are uninvolved in the political pro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opportunity in nondemocrat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democratic countries, apathy and alie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can include voting, contact with government representatives, involvement in local and national campaigns and iss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voter turnout is low compared with other democratic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, power, and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political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or provincial governments, national political parties, large formal organiz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political institutions influence and are influenced by other institutions such as the family, education, religion, health care, and the economy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s of Political and Economic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 functions of meso-level political and economic institu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intain social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erve as an arbiter in disp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tect members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present the group in relations with other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lan for the future of th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vide for the needs of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System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nd Privile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nd exercise power relations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institution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l with production and distribution of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and economic institutions are interrela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sets of institutions affect power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arian syst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mes headed by dictators or military juntas who hold absolute power, with little room for citizen invol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itarian stat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n by a single group or party based on a specific political ideology; the state controls many aspects of life such as work and the media; dissent is discouraged or eli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terror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 used by a state to control its own citizens or those of another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two political parties compete for power in elections; government is accountable to citizens, who have significant control over their own lives  Other fea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tizens participate in selecting the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vil liberties are guarant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itutional limits are placed on government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documents such as constitutions are the basis for the development of leg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419640" y="1447920"/>
            <a:ext cx="352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523880" y="29718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litics and Economics: Probing Power; Dissecting Distribution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of democratic govern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liamentary (e.g. Great Brita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idential (e.g. the United St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represent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rtional (e.g. many European count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ner-take-all (e.g. the United St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Politic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syst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echnology delivers political information at high speed, but also has downsid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careful delib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complex issues to binary oppos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individual citiz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ationalism rather than reasoned delib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ulsive rheto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mer mentality rather than citizen men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unds information with wis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systems (capitalism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individual planning, private property, profit-making through free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 and demand let some profit, others f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little governmental oversight is need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s ensure sufficient production, distribution,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s reward innovation, resulting in growth and prospe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xist critics claim capitalism creates class inequality, exploitation, conflict, and r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ly, in most Western capitalist countries, labor unions and laws have emerged instead of rev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ritics: profit trumps human dignity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systems (socialism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based planning and control of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is planned with communal good in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each individual contributes to and receives benefits from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dious jobs are shared, so individuals have time to focus on humanistic and culturally important aspects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qu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ystem has eliminated all private property and privi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both economic and political power in government hands gives too much control to the f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Types of Econom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xed economies (democratic socialism or welfare states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ve or group planning of societal develop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can pursue self-interest within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y is privately owned but regulated; public services are government contro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 political system, public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xation used to redistribute income and pay for education, health, pensions,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: a relatively new form, can be both productive and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, privilege withi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nd the Nation-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-sta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litical, geographical, and cultural unit with recognizable boundaries and a system of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-state and nationalism are relatively recent; they emerged in the sixteenth centu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 entire world is divided among more than 200 nation-stat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s and Rebell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ol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and political transformation of a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nation fails to fulfill expected responsibilities and new leadership emerges to challenge existing reg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vio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results in altered distributions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–macro political conn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/provincial governments and national political parties: less encompassing than the federal government but still influence national politic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-level controversies that influence national poli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ding for the economic stimulus p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dures for nominating and electing the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Interdependencies and Poli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cy and world systems theorists point out inequality between rich core countries and developing peripheral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wth of democracy in peripheral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ring in some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ided, but not imposed, by foreign p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econditions may be economic well-being, lack of extreme inequality, pluralism, strong middle class, market economy, tolerant culture, literacy, influence of world system of democrat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med conflict occurring within, between, or among societies o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called “organized mass violenc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requent but not inevitable condition of human exis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political and economic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force the distribution of power in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ystems involve power relationships between individuals and larger social institution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systems produce goods and services and distribute them unequally, giving some citizens more privileges than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tics and eco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nations go to w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 use moral, religious, or political ideology to legitimize war, though causes may lie elsewhe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 theorists believe underlying social problems cause system disruptions, including war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also see war as functional for social integ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see war as the outcome of oppression by the ruling elite and/or attempts to overthrow that oppres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businesses profit from w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can nations avoid w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re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rgue that if a nation is militarily strong, no one will dare attack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evidence shows that deterrence does not reduce the chance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emely exp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created a “military-industrial comple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ti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discussion to reach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is that negotiation means a partial win—and a partial loss—for each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 from research on twentieth-century w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nation that began a major war in the twentieth century emerged as a clear winn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 between nuclear powers could be suicid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ictor’s peace plan is seldom lasting; equitably negotiated peace settlements are more durab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is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indiscriminate violence to cause mass fear and panic, intimidate citizens, and advance a group’s politica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refers to acts of violence by private, nonstate groups with revolutionary political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errorism: government use of terror to control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orists come from all political orientations: anarchists, nationalists, religious fundamentalists, members of ethnic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because terrorist strikes seem random, so governments have no clear way to respond as terrorists groups are hard to lo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olence on the Glob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ism (con’t): without understanding the underlying causes, we can do little to preven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explanations cite religious and political beliefs that encourage “we vs.  they” think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explanations help us understand when conditions are right for terrorism, for example, when conflict between societal systems is already hi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explanations emphasize the unequal distribution of world resources and the oppression of particular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systems of gover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common social science definition of power comes from Max Weber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the ability of people or groups to realize their own will in group action, even against resistance of others who disag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o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arenas of po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-state attempts to control individual behavior throug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control and coerc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control and mani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of con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the ability to influence interactions and organ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ist perspective: power includes control of economic resources and production, which allows the dominant class to maintain ru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ow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operative in social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also operates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ty, county, state, and national decisions about resources and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bureaucratic organizations, corporations, ethnic, or minority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systems of power include international organizations such as the United N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ple level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theorist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symbols and constructions of reality allow some people to assume power, and how they generate loya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socialization instills belief in the legitimacy of reigning author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trib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 distinguished between legitimate and illegitimate pow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y, or legitimate power, is recognized as rightful by those who are subject to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a government’s power is measur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 state can govern without the use or threat of forceful coercion,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challenges to state authority are processed through normal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and Meso-level Perspectiv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gitimacy of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’s contribution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ways leaders gain legitimate pow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ismatic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-legal authority—most common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ree are legitimate forms of power because the people being governed give their cons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power and privi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8:57:35Z</dcterms:created>
  <dc:creator>Deborah J Barr</dc:creator>
  <dc:description/>
  <dc:language>en-US</dc:language>
  <cp:lastModifiedBy>Stephanie Palermini</cp:lastModifiedBy>
  <dcterms:modified xsi:type="dcterms:W3CDTF">2017-07-03T19:11:33Z</dcterms:modified>
  <cp:revision>76</cp:revision>
  <dc:subject/>
  <dc:title>CHAPTER 13: Politics: Penetrating Pow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31033</vt:lpwstr>
  </property>
</Properties>
</file>