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F97-7B55-42C8-AA79-93204396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8F2-266B-4EF8-B00E-12DDA19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7E6-1E8E-4EDC-9C31-71085266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23F1-B1D8-431D-AD48-CA252559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403D-40C7-45D5-B228-FFCF4B4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83009-8258-4E16-9BAF-16E966B86B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7CAFC-8094-4524-96B4-E98F3C3DE9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8762BA-BD5A-41C1-BC2E-447A99714C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C555A-3C2A-4137-BE04-0BD49B59C8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10D4F-9E3D-40B7-8A3C-65ABBA366F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3AE-52E2-4880-9A50-48E9AD71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D3CC4-DC8E-4451-99B9-29DDE39D1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0CFE9-62D1-4F90-A115-D6CC72B1CF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C30DB-FC6D-4930-B959-2860820527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6FA76-9B16-4627-84CD-FB725DCA30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61229-D807-4364-8B29-F5FC7F126A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962BE-2A5D-492D-9896-032AD558D4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34B56-F838-4A8C-8B4D-8B65902310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F27-82A6-4D0A-BF58-EB38410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1538-6A9D-4DBB-BB9E-DA79BA12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BDDC-0FC7-4468-A25D-BF5FC37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40D9-5A79-4F2E-AEE5-55A3B6E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68A-0DC2-4BD2-8909-4BB54D70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35C-9C4F-4495-972B-1F5FBDB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AE46-11D2-459B-AE30-1B546C5D74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03B-CF20-4616-BFF5-C4FE1F3DB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a key factor affecting health and illn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al control of women carries over into health care systems, reinforcing dependence and submis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North women are profitable for health care systems: they have more and more expensive proced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women’s bodies and “normal” biological experiences are key to patriarchy, as they have been used to “prove” women’s inferior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DB44-1723-49A8-9A44-5C314A70435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onstitutes illness rests on socially defined symptoms and circumstances, not universally recognized bodily malfunc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sons’ “sick role”: rights and obligations of those who are accepted as legitimately i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to be excused from responsibilities until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not to be faulted for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define illness as undesirable and not to prolo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ligation to seek competent help in getting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E3B4-F1F6-4930-80F0-B3CAE759CB3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belief systems and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treating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mental illness vary across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 is universal, but the way it is perceived, explained, and reacted to is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116E-6732-4D0C-8319-577A3524B4E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actors in Health and Ill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edictors of individual health and illn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: older people need more medical interv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Western women report and are treated for more health problems than men; men use more emergency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ic group: ethnicity affects socialization into health care behaviors and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: wealthier individuals are more likely to seek medical help for illnesses early on, in part because they can afford it; lower-income people seek help later, in response to cri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46A9-883D-4815-A003-EA1FA0AE2A0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tatus and roles of the sick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rograms based on the philosophy of health care as a human righ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ed medicine: government-supported consumer service with equal access to all citizens; the government owns most facilities and pays providers directly (e g , Canada, Great Britai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ntralized national health programs: government regulates but does not operate the health care system (e g , France, German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36D-76FB-47D3-B075-4775431200B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National Health Car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the United St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-for-service: doctors and hospitals are paid for each service they perform, perform the services they deem necessary, and decide the price of services; financed by public and privat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in poor count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patterned on former colon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bine Western and indigenous medic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ruggle to provide basic health needs, sometimes aided by global health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FC91-2717-463A-8DAE-08348860AB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Complex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: places for the care and treatment of the sick and injured, and for provision of centralized medical knowledge and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in response to urbanization and industrialization, which led to new health problems requiring systematized, ration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d from places to die to places for hea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highly bureaucrat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control by physicians and administrators is giving way to corporate, profit-oriented control in the United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127-D4B9-4766-9C74-99DB676A6F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spitals as large, bureaucratic organiz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s of labor are extensive and specializ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 systems are based on prestige and power, with physicians historically at the to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coordinate many highly skilled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DA31-E9F8-49C3-A5A2-3B9D362A4C7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nging Professional Status o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confronting physicia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 they are highly respected today, physicians’ authority is relatively rec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 challenges to physician author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tion fo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line in public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spe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rofessionalization: increasing control over physicians’ work by nonprofessional, outside fo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DDEA-C89D-4423-80C2-8C5B48F048F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4952880" y="4114800"/>
            <a:ext cx="358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outpatient c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ing demands from insurance compan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and worst in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practitio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medical research and therapies and in public health programs, for example, to increase motor vehicle safety and reduce tobacc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133720" y="137160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33720" y="28195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ealth Care: An Anatomy of Health and Ill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health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distribution of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family physici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care costs and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st per-capita costs, which continue to g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d care: an attempt to combine efficiency an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 are shifting more health care costs onto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9766-F33E-4DA2-B787-CE549E2C69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, co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4 adults lacked health care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out of 5 did not receive the needed health-related services because they could not afford to visit a do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BC06-8070-4E82-A549-8DFD5984A9E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 S 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ordable Care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ho do not have a group plan or are low income can acquire health insurance through ex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te of those who don’t have insurance has been declining due to this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ithout insurance must pay a fine and pay for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6CC-32C7-4BF3-B1A0-B76F7819536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issues and social r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health care a right that can’t be bought and sold, or a commodity to be purchased on the market, so competition can increase quality and reduce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proposals for reforming the U S ’s market-based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se the partly public, partly privat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in reforms one at a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s a comprehensive reform package to provide national health insurance and government overs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CAE-86B8-4485-B94C-BCDCED760A9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Health Car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hallen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hould be done about the uninsured popul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costs be controlled in a managed care syst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ill the physician-patient relationship shift under new structures of health ca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2A8E-3F2C-4C7B-9E46-C602F2CDA8C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health care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variation in health care practi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’s health care system is shaped by its demographic makeup, value system, and finan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eds of Global North countries, which have more elderly people, are different from those of Global South countries, with mor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ountries have far more doctors tha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na: medicine in a Communis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879B-4EB4-49DA-91D8-802D641496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f medic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sale of body parts on the black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measures of national heal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ant mor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vary in primary causes of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and modern medical prac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20B7-B795-4E6F-8551-9D48EA1115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and the mobility of disea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nsity and mobility of the world’s population affects human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lobal travel can cause disease to spr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land affects the number of rodents and insects, sanitation, contact between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oor circulated air can spread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interests have an impac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nies such as pharmaceutical firms may halt public health efforts that threaten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bacco companies market their products glob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4F18-BE38-4BC1-BF9E-842CC5DE8CF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care around the 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Intervention at the End of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futil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fails to end total dependence on medical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e euthanas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ing dying individuals by prescribing or administering a lethal dose of drugs, only given to patients who request it, usually under legally controlled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005B-7E94-4DC7-981F-C959333E1C4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s administer the dru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few people have chosen the Death with Dignity Acts to arrange their own de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dying differs by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 system is affected by aging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815A-B835-4B9F-95F9-D7954072A6F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ath with dignity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: a state of physical, mental, and social well-being or the absence of dis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: the lack of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illness, and health care affect how individuals and groups carry out their lives at the micro, meso, and macro lev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icro level, health impacts our ability to carry out our responsibil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eso level, health care institutions affect and are affected by other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the macro level, health care practices and beliefs about illness are culturally determin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health issues include pandemics, bio-terrorism, distribution of immunizations and drug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demic: a disease that is prevalent throughout an entire country and potentially around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966-A820-4A31-910F-87CE145AC8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health a social issu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and Labeling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whatever the powerful (e g , doctors) define and label it 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ization: a shift to handling normal or deviant human issues in the health care system rather than family, legal, or religious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s our interpretation of the problem, who treats it and how, whether we hold individuals to bl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a shift from individual to expert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ssues have been de-medic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BFB1-C2AE-40DA-91A3-08D044CD7AD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nds in illness are linked to shifts in macro-level social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define what counts as illness and how to treat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ealth care system helps maintain the social structure and balance between individuals and 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ness is not functional for society: the “sick role” is seen as deviant since it robs society of normal role functio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944B-2C18-42F7-866B-2EDC50FA9C0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persp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access to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ed by people’s economic and social positions and by global inequality among rich and poor countr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in variation in the illnesses people su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rofit motives in shaping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tors’ exercise of social control and differential treatment of patients based on soci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664E-33C7-4042-B68E-D3FF55C1A8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lth and illness: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06:05Z</dcterms:created>
  <dc:creator>Deborah J Barr</dc:creator>
  <dc:description/>
  <dc:language>en-US</dc:language>
  <cp:lastModifiedBy>Stephanie Palermini</cp:lastModifiedBy>
  <dcterms:modified xsi:type="dcterms:W3CDTF">2017-07-03T19:07:02Z</dcterms:modified>
  <cp:revision>88</cp:revision>
  <dc:subject/>
  <dc:title>Chapter 14: Medicine</dc:title>
</cp:coreProperties>
</file>