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FAF1-D5FE-4204-82D2-855D5C1F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6264-EEE3-453A-A382-7081CBBE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D652-579A-4790-B6C6-FF7936C7E4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1D4-0D2F-480F-84AD-553CBBFA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E01-99E2-46EC-9D9B-1B58A280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B6C-01D4-44F1-B2F1-E43A91AC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80A-0DF6-45E1-9595-6EC7765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4A6-C0CC-4C73-9211-080BCFD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0BFC4-5B4F-442D-A8F2-2CB3DABC35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6A53D-8C61-4944-B3E4-EA3BB04B6A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E60A8-4D50-4FC1-AFD6-65391D5997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A81D8-8A2E-44A6-AA86-F80FE2B515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5F03-2675-4350-9EDD-652A3F0AE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A86-536F-4E8B-A2AB-879121E1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75055-1047-4C96-A4CB-A21FB59444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BF4BC-4129-4BAA-B5D1-6AB19A06BC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C4BFC-10EB-4FF8-A41C-FD9B9A05DA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29446-B3C9-4BB0-BA93-FB9F4773AD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3D53-C0F9-4CB9-ADF3-82A049D177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A6B26-4933-416A-9043-71FE706AF3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C4F8D-9A58-4609-B6EE-4CF9F0991A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71E-27B5-457E-8045-2D6C060B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722-15EC-488A-934B-B3C11D3B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771-9327-47FD-98CB-6CF82DDF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EE3-6FEE-4872-8EF4-F0858334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D36-3944-4121-81E4-F16206A0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330-496D-4F15-89FF-8EDE102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AD6-9561-4BA7-A5EA-04AA4A815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3287-7B69-4870-846D-E080ADFBF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1"/>
          <p:cNvSpPr/>
          <p:nvPr/>
        </p:nvSpPr>
        <p:spPr>
          <a:xfrm>
            <a:off x="746280" y="1392120"/>
            <a:ext cx="559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Second Shift”: Who does the chor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636D-B74F-4575-B548-D70B4D31928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"/>
          <p:cNvPicPr/>
          <p:nvPr/>
        </p:nvPicPr>
        <p:blipFill>
          <a:blip r:embed="rId1"/>
          <a:stretch/>
        </p:blipFill>
        <p:spPr>
          <a:xfrm>
            <a:off x="1033560" y="2021040"/>
            <a:ext cx="7000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ucture of the Family Institution–Families are cha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marriag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ct 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ial mon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ya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fami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ded famil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clea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A2E-871E-4964-9DFF-C636707102F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conomic Institution and the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amily is the primary economic unit of consum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and famil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% of US families live below the poverty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mothers are often in poverty due to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 roles as workers and m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nings are less than me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regular receipt of child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representation in policy-making bo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of poverty”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ABAC-E97B-4B06-BFF1-82E15ADE123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5" descr=""/>
          <p:cNvPicPr/>
          <p:nvPr/>
        </p:nvPicPr>
        <p:blipFill>
          <a:blip r:embed="rId1"/>
          <a:stretch/>
        </p:blipFill>
        <p:spPr>
          <a:xfrm>
            <a:off x="990720" y="1630440"/>
            <a:ext cx="7010280" cy="20048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5867280" cy="2617920"/>
          </a:xfrm>
          <a:prstGeom prst="rect">
            <a:avLst/>
          </a:prstGeom>
          <a:ln w="0">
            <a:noFill/>
          </a:ln>
        </p:spPr>
      </p:pic>
      <p:sp>
        <p:nvSpPr>
          <p:cNvPr id="59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B8F5-9BA4-40B0-921D-DE60BE6A031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conomic Institution and th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worker famil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al-career marriages reduce economic strain but complicate family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A has been slow to institute family–friendly work policies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ly available child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ing leaves for child birth and illness (Family and Medical Leave Act of 19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commuting: working from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-time: individuals schedule their own hours within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sharing: individuals can split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093-8E4D-431D-8EDA-732BF2A3926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amily as i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family patterns and polic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trengthen families, should the USA make it more difficult to obtain a divor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s claim “pro-family” policies will promote stability and are a precursor to healthy relationship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s believe that limiting divorce would leave many women vulnerable in relationships to abusive 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laim “pro-family” policy might create more lasting marriages, but not necessarily healthier 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BFA7-B580-4B04-B237-F9071C5718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riage, divorce, and social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-Sex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 Supreme Court declared same-sex marriages legal in all 50 states on 26 Jun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SA, support for same sex marriage has rapidly incr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nents of same-sex marriage argue that marriage has been a function of the church, temple, and mosque for centu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4AE0-0D2B-4624-835B-1446258F760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and global family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ing skills like reading, writing, and math, in a building, through systematic instruction by a trained profess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most affluent countries and urban areas, formal schooling is necessary for survival and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eracy is necessary for democratic governments, where informed citizenry elect officials and vote on public poli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chooling is a modern concept, which became necessary once jobs required literacy and math ski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F215-1EC8-4CF2-B9E3-AC71928DF14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world’s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 and the Peer Culture of Schoo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 peer cultu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ble set of activities, routines, artifacts, values, and concerns that children produce and share in interaction with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er cultures create identities and lab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’ class, race, gender, and sexuality affect their school experien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 outside the school affects students’ experiences within 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E195-0AF9-4812-8396-428D7A9E01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: The Front 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ront line in implementing school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e as gatekeepers, controlling the flow of students, activities, resources, and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strain: need to judge students’ performance while also encourag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r status and reward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ats to professional autonomy and self-re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54C1-BE06-47D0-A137-43C8AE14EB3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743200" y="1676520"/>
            <a:ext cx="3733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371600" y="2971800"/>
            <a:ext cx="7086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mily and Education: Institutionalizing Social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or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of the scho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op of the hierarchy in local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te between individual schools and larger education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geting, reporting, regulatory comp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 hiring, firing, training, and negoti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and public relations; acting as a buffer in conflicts between parents and teac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ing discip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2CCB-9FEA-4CC4-B97F-E3EA75D9290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uses and roles in education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 system of schoo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spoken, unwritten, and implicit norms of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and enforced by teachers and/or by student pee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the hidden curriculum, educational climate, value climate, and classroom power dynamics and coping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dden curriculu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mplicit “rules of the game” students must learn and respond to in school to be socially accepted and to succeed in the education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1287-2231-4718-8F67-C5AEE5BCADA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form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ducational climate of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eneral social environment of schools and classrooms, for example, stimulating or stif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d by factors such as teacher expectations, student groups, classroom layouts,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vary by students’ gender, race, ethnicity, cla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lue climate of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’ motivation, aspirations, and achie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d by students’ home environments, parental and teacher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DCB-EA19-4FBF-A436-06E97252E52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dynamics and coping strategies in the classroo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ry to get students to obey, cooperate, take responsibility; students try to win some control and freedom from teac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develop coping strategies, which become part of the “hidden curriculum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4B16-4283-47BD-B378-6CA8C85EF0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really happens inside schoo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ureaucratic Schoo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ber’s bureaucratic model applied to scho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 rules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ized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 of bureaucratic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-effective, efficient, produ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 of bureaucratic school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, rigid, alienating, lack of attention to personal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2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06F7-232D-4644-B980-0AB8E1FB3E1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and the social institution of fami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 is thought to be the most important influence on children’s school achieve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 of parents in motivating and preparing children for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and changing work structures affect parents’ ability to encourage and direct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E716-5DB5-4371-9C12-EEE21B3D34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and Racial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dle to Pipeline” (Children’s Defense F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p in educational achievement for boys is especially strong for African American, Hispanic, and low-income 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ck students are 3.5 times and Hispanic students 1.5 as likely to be suspended as whit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6F81-1CE9-4E64-B1CD-97D4D2D3D27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so-level: Educational organiz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s of Educ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alis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D4F9-2022-4597-A062-682F3C6665D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8077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and Educa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are used by powerful and affluent groups to ensure that their self-interests are m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s do not provide equal educational opportunities for all children in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are manipulated to preserve privileges for the children of “haves”; children of “have-nots” are prepared for less rewarding pos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sults in the reproduction of class: socioeconomic positions are transmitted across gener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A46B-D2A4-4BC6-A7C4-8787E7001E5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schools bring about equality in societ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al opportun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eople have an equal chance of achieving high socioeconomic status regardless of class, ethnicity or race, or gen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s of equal educational opportunity, according to James Colem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a common curriculum for all children, regardless of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for children from diverse backgrounds to attend the same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equality within a given loc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239C-5FCC-4F89-9413-831CF35D7B2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990720" y="-7632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, patterned, enduring sets of social structures that provide guidelines for behavior and help society meet it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e mostly at the meso level but also act to integrate micro and macro levels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the family, education, religion, politics, economics, and health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interdependen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ts in one can affect the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abstractions, but with real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060E-AD1F-4AFF-A503-7E4CB31333B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 is supposed to be a meritocrac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itocracy: a formal system in which people are allocated to positions according to their ability and credent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itocracy is consistent with bureauc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in many cases educational meritocracy does not ex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sts maintain that education perpetuates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EB5-0838-488A-AB60-78AAA3FA154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ns of placing students in school according to their achievement and merit, and of determining their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ics claim tests are biased against lower-class, immigrant, minority, and/or femal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tional tests reveal educational inequalities betwee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D34-902C-4EB8-9DBF-53ED61E6CA6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: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5" descr=""/>
          <p:cNvPicPr/>
          <p:nvPr/>
        </p:nvPicPr>
        <p:blipFill>
          <a:blip r:embed="rId1"/>
          <a:stretch/>
        </p:blipFill>
        <p:spPr>
          <a:xfrm>
            <a:off x="1241280" y="1417680"/>
            <a:ext cx="7239240" cy="48769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rces of inequality: 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7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8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80F2-EDCA-4071-9CED-4E8C068EB0F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r stream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ing students in ability groups so educators can better address individual learning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suggests that track placement is not always a measure of a student’s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s correlate with ethnicity, language skills, appearance, and other socioeconomic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can reinforce preexisting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search suggests that children learn more when working in groups based on achievement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A35-7F6B-4295-9837-33A1130422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at 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ole of Education i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s of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ool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USA, unequal school spending results from reliance on local property taxes as well as state and federal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ing is closely related to the race and class composition of the schools, and to student achievement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nding differences perpetuate existing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5601-7B90-4AF8-98C1-784315E96B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ducation at 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Census Bureau defini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 of two or more people (one of whom is the householder) related by birth, marriage, or adoption and residing together . . . [and] related subfamily member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sociological defini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who share economic property, sexual access among the adults, and a sense of commitment among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religious groups define family as a mother, father, and their children; others include several spouses and even parents and siblings living under one roo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4E26-BB5F-43F3-B06F-548CD23D24B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as the most basic social institu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n the family that most people learn the norms of the larger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spend most of our lives in famil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life events take place within the fami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es fulfill a number of social functions that other institutions cannot prov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of orientation, in which we are born and ra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of procreation, in which we hav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6701-8544-4ABB-8686-7BE887CD320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 fami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y focuses on women to spotlight them as active agents and to uncover biases in male assump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icro-level branch examines women’s interactions and constructions of real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conflict theory argues that patriarchal families are a chief source of women’s oppre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’s equality can be enhanced with changes to the patriarchal family, women’s education and employment, and child care avail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FBC-678A-47D3-8569-36A972E4A9B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 on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proce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eties of mate sel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est tab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ga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ranged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-choice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antic lo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trend toward the Western model is changing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E6E2-3413-493C-BF0A-BA6B2FA2F43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 selecti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-Stage Courtship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mulu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meet someone to whom we are attr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ompariso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find the person compatible if they affirm our own beliefs and valu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es and need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uple explores the roles of companion, parent, housekeeper, and lover to find common needs, interests, and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33D2-DE30-4CB9-8483-2EBA88EF5E4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0492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ty Relations in Marri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 decision-making and work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 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ale dom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alitarianis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 is sh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pouse with greater resources has greater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9C22-52E6-45C4-847B-7CD56BF3D6D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y dyna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4:17:48Z</dcterms:created>
  <dc:creator>Deborah J Barr</dc:creator>
  <dc:description/>
  <dc:language>en-US</dc:language>
  <cp:lastModifiedBy>Stephanie Palermini</cp:lastModifiedBy>
  <dcterms:modified xsi:type="dcterms:W3CDTF">2017-07-03T19:05:04Z</dcterms:modified>
  <cp:revision>78</cp:revision>
  <dc:subject/>
  <dc:title>Chapter 10: Family:</dc:title>
</cp:coreProperties>
</file>