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BDA6-5147-4BA3-82C1-913B699EE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DD1F-9D12-4BDF-B4E4-EA995E9068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BDD-2D09-44A0-8B0A-84AED089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C6C-A87B-46A3-B32B-6F42CC8D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0D7-BBB5-49A2-9B28-57E07376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FA5-DC8C-4C2A-BF90-B4F0C30B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4EC-AE18-447F-803B-0122444D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53622-37EB-48DB-938D-B8B5517C0A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BAEE3-DD90-4CAA-BD07-72DE984D85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9D3F2-E93A-4EE9-A0F8-5E291A6D3F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CCF76-2356-49C7-BE3D-6FA0852A1D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8385B-7880-40C0-A353-4EE3424E4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75F-E795-4576-BC73-1507D23B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A635A-F7F1-413E-994C-527528A44F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3E283-2AD3-40AC-B33C-381DA2CFB6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30B7C-5FD5-4174-BD54-D0DB418B22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89DD2-CA56-4557-94BE-9B04AE369A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4AC6D-E10B-4402-B80A-7FB655B7C5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88334-5877-447C-9E27-43CB5E8F1E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EC9FB-0638-4D49-8E84-F4EBDD4F90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9A32-AA54-403D-917D-3F21B5E3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289-9DB2-4170-9B7D-79BC4A0F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351-886B-4ACE-B85B-A0026942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7D1-EBD8-4E42-9331-7D67A4D7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7E0-076B-4E8F-BB05-EA28606E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FE6-B18D-4FFB-88B1-4E421742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9557-F2F5-4D77-9B75-AE637FE0E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CCA9-5054-455F-887C-928CE638A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–Meso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der socialization: process by which people learn the cultural norms, attitudes, and behaviors appropriate to their 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gender behavior is reinforced and improper behavior is punished through sa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in gender social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infancy &amp; childhood, parents/family play major role (Na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meso-level agents are import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 media (Electronic games, tele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gious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8E42-7765-48B2-A03F-943CAA27923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–Ma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ass ceil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orces that keep women from reaching the highest levels of corporate and public respons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icky floo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orces that keep the majority of the world’s women stuck in low-paid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ass escalato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forces that push men up the organizational hierarchy even if they do not seek to climb it, especially in female-dominated occup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kplace itself is gend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C505-1833-40A3-83EE-83F54CE021D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ed Organizations and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places have a gender configuration: the ratio of men to women affects work experien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do not earn as much as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orkplaces are supportive of workers’ family responsibilities; others are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mpacts women more than men; according to dominant gender expectations women must balance work and family needs, while men are seen primarily as wor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53BA-CBC4-4C78-B39F-94F545C00CB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ed Gender Discri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 discrimination: woven into the social structure and taken for gr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jure discrimination: deliberate discrimination, often justified by beliefs about women’s inability to carry out certain tas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facto discrimination: unequal treatment that is uninte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de effect discrimination: rests on links between practices in different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st-in-present discrimination: practices from the past that may no longer be allowed still affect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66E6-920C-498D-9664-0D5D297B373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, biological sex differences act as symbols that differentiate rights and rew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is socially constructed; it is not intrinsically related to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hasizes human agency, or ability to influence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s do not just passively adopt gender roles; we actively “do” gender in everyday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6460-61EE-4FBC-AD28-12D5464562B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ex has a role to play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societies change, so do roles &amp;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: from mechanical to organic solid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: from similar to differentiated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but complementary ro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ive (private sphere) – fem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rumental (public sphere) – ma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E6B0-C2B1-45B1-8895-1E84BC50690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s males as “haves” (power, wealth), women as “have not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keeping women in subordinate roles, men protect their privile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le dominance justified by traditional ide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 will not voluntarily give up their privileged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D631-F2BA-4583-9971-87470C0278F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to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ew men dominate all others, including women, children, less powerful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riarchy is primary cause of women’s opp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, race, and gender intersect in a way that privileges some women over others, though most women are still subordinate to most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pite intersections, women are a “minority group” subject to stereotypes, prejudice, discrimin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m actively advocates change to the social order to eliminate patri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E23A-7554-455E-8A01-20CF0BD3D7A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 to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, Homosexuality, &amp; Minority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uality exhibits a broad range of combinations; societal expectations impose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eatment of homosexuality often determined by the government and dominant religious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y men and lesbians are often minority groups subject to prejudice and discri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mophobia: intense fear and hatred of homosexuality and homosex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erosexism: social reinforcement of heterosexuality, marginalization of those who don’t conform (rural are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7AE4-B3E0-47E3-9E04-A68886C62F2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38088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ychological &amp; Social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id gender stereotypes are cons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women: superwoman image and beauty image can lead to depression and health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men: image of “perfect” male body &amp; unemotional male role can lead to guilt, anxiety, and neuro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3280-529C-4376-AC3D-1CCBF05B3F8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s &amp; consequenc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743200" y="182880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219320" y="2895480"/>
            <a:ext cx="6705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der Stratification: She/He—Who Goes First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to macro-level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al Costs and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has consequences for all social institu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or educational achievement of female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talents, resources of half of the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health care impacts women and their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divisiveness can lead to alienation, host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ccupations and profession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 “take gender privilege with them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take disprivilege, which lowers their positions and w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129C-0891-4409-A3AE-6F9D087DBDB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ts &amp; consequences of gender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es used by other groups may be eff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violent protests, sit-down strikes, and walko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tual support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internet to carry the message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ycot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ilding on traditions of community &amp; church activ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y of ending women’s subjugation: many women agree on the goal, but not the means of achieving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B00F-02C3-41C8-A78F-63E54D504C7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ing gender stratification &amp; social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 and identities are not biological, but socially constru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 vary widely; each society has its own way of assigning tasks in order to meet its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 may change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5B24-526D-4EFD-B3FD-D8806B6C657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al and/or anatomical differences between men and wo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ocieties divide roles based on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societies insist on assigning a sex to all inf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sexed: persons with ambiguous genitalia, such that sex is difficult to as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teronormativity: expected attraction to members of the other sex; taken for granted norm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A2FA-69DA-4176-BC01-7B77C0FEFCB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ly constructed notions of masculinity and femini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identit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individuals form their identity using gender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rol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ly assigned tasks or expected behaviors linked to an individual’s sex-determined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gend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dentity of someone who is challenging or changing the gender they were assigned at bi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F808-916E-4F47-AB7A-AFBA6FF5845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x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ulture shapes the meanings of our experiences with our own bodies and our bodies in relation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ke sex and gender, sexuality is socially constru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0787-2ED7-4080-B734-50E7BE04E36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ough socialization, we learn the gender roles assigned to our sex and established by our 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expectations are inculcated by many agents of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lure to comply often results in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exuality: The micr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s: the roles we play in institutions differ by sex, as well as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nstitutions segregate people by sex and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nstitutions allow leadership roles to be held only by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ed rites of passage, or rituals which mark changes in status, often differ by sex and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’s reduced power in micro-level settings is often related to lack of power in meso-level organizations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5D70-0B9A-42A0-A654-CA8B8E81E1D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exuality: The mes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alized privilege &amp; disprivileg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terns of action embedded in a social system which provide unrecognized advantages and disadvantag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ibute to sex inequality at the global/national level that is independent of personal preju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61E1-314A-481F-B569-9B7408C5A0A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x, gender, and sexuality: The macr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6:18:01Z</dcterms:created>
  <dc:creator>Deborah J Barr</dc:creator>
  <dc:description/>
  <dc:language>en-US</dc:language>
  <cp:lastModifiedBy>Stephanie Palermini</cp:lastModifiedBy>
  <dcterms:modified xsi:type="dcterms:W3CDTF">2017-07-03T18:57:39Z</dcterms:modified>
  <cp:revision>61</cp:revision>
  <dc:subject/>
  <dc:title>Chapter 9: Gender Stratification</dc:title>
</cp:coreProperties>
</file>