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1B92E-F385-483D-AA35-30AD030D2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E523-A926-41B2-AD18-3FC613FFAFE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B06C3-5913-4548-B415-68BA2ED4C4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37046-B730-4D19-9394-27FB29260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7"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2"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3"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7"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1"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4"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6"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8"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9"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2"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3"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4"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5"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6"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FFB7B-A5A3-43CD-9DC0-404C82F83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0"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2"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4"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0"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1"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3"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5"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9"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4"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5"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7"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92520-50FE-428F-A286-2FE091779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0"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1"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2"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3"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4"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8"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0"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2"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1"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3"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7"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9"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5"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7"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8"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9"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0"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1"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5"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8"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2"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4"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5"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2"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3"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4"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5"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6"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7"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C3DC9-A856-4D1F-9868-2DC52AC92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2E3721-EAEE-4426-BD16-73E3ACB0142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F62EE6-8F88-49E3-BEE1-20F66D57645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DF6A7C-9F7F-4661-8DDF-EB16A4F27C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E8640C-5055-48AF-9EBF-680594AD79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1D009E-C420-4BAE-99DE-00551B33AC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A759D-E93C-447A-B927-24B05F644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59F926-96D6-49C0-9C95-B62E61536CB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A806FA-8394-4A90-9F6F-6CD3F81EF3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B7CD97-6E03-4F76-95B6-A935649A245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E19DF6-80B0-40AC-96CC-045F20E89E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7F6315-1D83-4184-9DAD-6F8A337FDD5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64FE6B-9FD4-4A6B-97F4-2B3621C10C0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1492F3-2B6A-4E29-8914-9DC2BE07C2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2"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620A2-81EB-4E2D-A489-8098B65CE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7"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1"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3"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6"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01BBB-03F7-4361-804A-87F52E5CC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0"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5"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0"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1"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3"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5"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1"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5"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6"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DE0E1-3621-4C2C-9AA5-26E38B463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9"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0"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1"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3"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8"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2"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3"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8"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9"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3"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6"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7"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0F1B7-B06F-4BC6-AB0F-48E3801E8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9"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0"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2"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7"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9"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0"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1"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6"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8"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0"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1"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5"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6"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A4226-E78A-4183-B0FC-6D1B400F1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9"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0"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1"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7"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8"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0"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1"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2"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3"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5"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6"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7"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8"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6"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8"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9"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EBAA9-4969-4826-B03D-479E8953C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74628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4" name="PlaceHolder 3"/>
          <p:cNvSpPr>
            <a:spLocks noGrp="1"/>
          </p:cNvSpPr>
          <p:nvPr>
            <p:ph/>
          </p:nvPr>
        </p:nvSpPr>
        <p:spPr>
          <a:xfrm>
            <a:off x="497916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5"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762120" y="1623960"/>
            <a:ext cx="40158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8"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9" name="PlaceHolder 4"/>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2"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3" name="PlaceHolder 4"/>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5" name="PlaceHolder 2"/>
          <p:cNvSpPr>
            <a:spLocks noGrp="1"/>
          </p:cNvSpPr>
          <p:nvPr>
            <p:ph/>
          </p:nvPr>
        </p:nvSpPr>
        <p:spPr>
          <a:xfrm>
            <a:off x="762120" y="162396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6" name="PlaceHolder 3"/>
          <p:cNvSpPr>
            <a:spLocks noGrp="1"/>
          </p:cNvSpPr>
          <p:nvPr>
            <p:ph/>
          </p:nvPr>
        </p:nvSpPr>
        <p:spPr>
          <a:xfrm>
            <a:off x="762120" y="3988080"/>
            <a:ext cx="822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76212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9" name="PlaceHolder 3"/>
          <p:cNvSpPr>
            <a:spLocks noGrp="1"/>
          </p:cNvSpPr>
          <p:nvPr>
            <p:ph/>
          </p:nvPr>
        </p:nvSpPr>
        <p:spPr>
          <a:xfrm>
            <a:off x="4979160" y="162396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0" name="PlaceHolder 4"/>
          <p:cNvSpPr>
            <a:spLocks noGrp="1"/>
          </p:cNvSpPr>
          <p:nvPr>
            <p:ph/>
          </p:nvPr>
        </p:nvSpPr>
        <p:spPr>
          <a:xfrm>
            <a:off x="76212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1" name="PlaceHolder 5"/>
          <p:cNvSpPr>
            <a:spLocks noGrp="1"/>
          </p:cNvSpPr>
          <p:nvPr>
            <p:ph/>
          </p:nvPr>
        </p:nvSpPr>
        <p:spPr>
          <a:xfrm>
            <a:off x="4979160" y="3988080"/>
            <a:ext cx="40158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3" name="PlaceHolder 2"/>
          <p:cNvSpPr>
            <a:spLocks noGrp="1"/>
          </p:cNvSpPr>
          <p:nvPr>
            <p:ph/>
          </p:nvPr>
        </p:nvSpPr>
        <p:spPr>
          <a:xfrm>
            <a:off x="76212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4" name="PlaceHolder 3"/>
          <p:cNvSpPr>
            <a:spLocks noGrp="1"/>
          </p:cNvSpPr>
          <p:nvPr>
            <p:ph/>
          </p:nvPr>
        </p:nvSpPr>
        <p:spPr>
          <a:xfrm>
            <a:off x="354456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5" name="PlaceHolder 4"/>
          <p:cNvSpPr>
            <a:spLocks noGrp="1"/>
          </p:cNvSpPr>
          <p:nvPr>
            <p:ph/>
          </p:nvPr>
        </p:nvSpPr>
        <p:spPr>
          <a:xfrm>
            <a:off x="6327000" y="162396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6" name="PlaceHolder 5"/>
          <p:cNvSpPr>
            <a:spLocks noGrp="1"/>
          </p:cNvSpPr>
          <p:nvPr>
            <p:ph/>
          </p:nvPr>
        </p:nvSpPr>
        <p:spPr>
          <a:xfrm>
            <a:off x="76212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7" name="PlaceHolder 6"/>
          <p:cNvSpPr>
            <a:spLocks noGrp="1"/>
          </p:cNvSpPr>
          <p:nvPr>
            <p:ph/>
          </p:nvPr>
        </p:nvSpPr>
        <p:spPr>
          <a:xfrm>
            <a:off x="354456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8" name="PlaceHolder 7"/>
          <p:cNvSpPr>
            <a:spLocks noGrp="1"/>
          </p:cNvSpPr>
          <p:nvPr>
            <p:ph/>
          </p:nvPr>
        </p:nvSpPr>
        <p:spPr>
          <a:xfrm>
            <a:off x="6327000" y="3988080"/>
            <a:ext cx="2649600" cy="21585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type="subTitle"/>
          </p:nvPr>
        </p:nvSpPr>
        <p:spPr>
          <a:xfrm>
            <a:off x="762120" y="1623960"/>
            <a:ext cx="8229600" cy="45259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762120" y="1623960"/>
            <a:ext cx="8229600" cy="45259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762120" y="6356520"/>
            <a:ext cx="457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1295280" y="6356520"/>
            <a:ext cx="64771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Ballantine, Our Social World: Condensed 5e. SAGE Publications, 2018.</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29600" y="6356520"/>
            <a:ext cx="457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3C9E-48BE-4061-9F2B-BCD22E31EF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48"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86"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4"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6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501" name="PlaceHolder 3"/>
          <p:cNvSpPr>
            <a:spLocks noGrp="1"/>
          </p:cNvSpPr>
          <p:nvPr>
            <p:ph type="ftr" idx="6"/>
          </p:nvPr>
        </p:nvSpPr>
        <p:spPr>
          <a:xfrm>
            <a:off x="533520" y="6356520"/>
            <a:ext cx="5486400" cy="36504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llantine, Our Social World: Condensed 5e. SAGE Publications, 2018.</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1" name="PlaceHolder 3"/>
          <p:cNvSpPr>
            <a:spLocks noGrp="1"/>
          </p:cNvSpPr>
          <p:nvPr>
            <p:ph type="ftr" idx="4"/>
          </p:nvPr>
        </p:nvSpPr>
        <p:spPr>
          <a:xfrm>
            <a:off x="1295280" y="6356520"/>
            <a:ext cx="64771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Ballantine, Our Social World: Condensed 5e. SAGE Publications, 2018.</a:t>
            </a:r>
            <a:endParaRPr b="0" lang="en-US" sz="1200" spc="-1" strike="noStrike">
              <a:solidFill>
                <a:srgbClr val="000000"/>
              </a:solidFill>
              <a:latin typeface="Times New Roman"/>
            </a:endParaRPr>
          </a:p>
        </p:txBody>
      </p:sp>
      <p:sp>
        <p:nvSpPr>
          <p:cNvPr id="82" name="PlaceHolder 4"/>
          <p:cNvSpPr>
            <a:spLocks noGrp="1"/>
          </p:cNvSpPr>
          <p:nvPr>
            <p:ph type="sldNum" idx="5"/>
          </p:nvPr>
        </p:nvSpPr>
        <p:spPr>
          <a:xfrm>
            <a:off x="8229600" y="6356520"/>
            <a:ext cx="457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7165-FDCD-4700-919E-CAC316C723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2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58"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96"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34"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72"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462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10" name="PlaceHolder 2"/>
          <p:cNvSpPr>
            <a:spLocks noGrp="1"/>
          </p:cNvSpPr>
          <p:nvPr>
            <p:ph type="body"/>
          </p:nvPr>
        </p:nvSpPr>
        <p:spPr>
          <a:xfrm>
            <a:off x="762120" y="162396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hnic Group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hnic group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ership is based on shared cultural heritage, often connected with national or geographic identity</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erm “ethnic” includes most minorities and avoids problems of the term “ra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groups inhabit ethnic enclav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hnicity is defined in part by the governmen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nsus categories encourage diverse groups to think of themselves as parts of a larger category, or panethnicity (e.g. Asian, Hispanic)</a:t>
            </a:r>
            <a:endParaRPr b="0" lang="en-US" sz="2200" spc="-1" strike="noStrike">
              <a:solidFill>
                <a:srgbClr val="000000"/>
              </a:solidFill>
              <a:latin typeface="Arial"/>
            </a:endParaRPr>
          </a:p>
        </p:txBody>
      </p:sp>
      <p:sp>
        <p:nvSpPr>
          <p:cNvPr id="577"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78"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2BC1-4C99-43D2-888B-67A57B8D0DB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79"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
        <p:nvSpPr>
          <p:cNvPr id="580"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racial and Multiracial Popul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e is a social construct that can chang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countries are now multiracial due to migr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individuals are now multiracial</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t the legacy of the “race” concept remains</a:t>
            </a:r>
            <a:endParaRPr b="0" lang="en-US" sz="2200" spc="-1" strike="noStrike">
              <a:solidFill>
                <a:srgbClr val="000000"/>
              </a:solidFill>
              <a:latin typeface="Arial"/>
            </a:endParaRPr>
          </a:p>
        </p:txBody>
      </p:sp>
      <p:sp>
        <p:nvSpPr>
          <p:cNvPr id="582"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83"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26E0-5BF2-4032-A41D-46C61FB250D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8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
        <p:nvSpPr>
          <p:cNvPr id="585"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cro-Level Analysi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judice and Discrimin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judic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titudes that prejudge a group, usually negative and not based on fact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be stimulated by meso- and macro-level events, but attitudes are held at the micro-level</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riminat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ial treatment and harmful actions against minoriti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ions occur at micro, meso, and macro levels</a:t>
            </a:r>
            <a:endParaRPr b="0" lang="en-US" sz="2200" spc="-1" strike="noStrike">
              <a:solidFill>
                <a:srgbClr val="000000"/>
              </a:solidFill>
              <a:latin typeface="Arial"/>
            </a:endParaRPr>
          </a:p>
        </p:txBody>
      </p:sp>
      <p:sp>
        <p:nvSpPr>
          <p:cNvPr id="587"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88"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8E784-64A8-4020-9327-F67CCC1573C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89"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judice &amp; Racis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ature of Prejudi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lts partly from in-group loyalty and information overloa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reotyping: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egorizing the personal qualities of large groups of people based on racial or ethnic featur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orted ideas are passed down through culture</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as applied to all group members and used to justify discrimination and inequality (may lead to hate crim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f-fulfilling prophecy: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orities may incorporate prejudiced views of themselves into their behavior</a:t>
            </a:r>
            <a:endParaRPr b="0" lang="en-US" sz="2200" spc="-1" strike="noStrike">
              <a:solidFill>
                <a:srgbClr val="000000"/>
              </a:solidFill>
              <a:latin typeface="Arial"/>
            </a:endParaRPr>
          </a:p>
        </p:txBody>
      </p:sp>
      <p:sp>
        <p:nvSpPr>
          <p:cNvPr id="591"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92"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12DF-5CD3-4033-8050-8EE51C27CD9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93"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judice &amp; Racis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
          <p:cNvSpPr txBox="1"/>
          <p:nvPr/>
        </p:nvSpPr>
        <p:spPr>
          <a:xfrm>
            <a:off x="762120" y="1600200"/>
            <a:ext cx="3962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ustration–aggression theor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s of prejudice and discrimination are carried out by individuals who cannot achieve their goals, and direct their anger and frustration at vulnerable minority groups</a:t>
            </a:r>
            <a:endParaRPr b="0" lang="en-US" sz="2400" spc="-1" strike="noStrike">
              <a:solidFill>
                <a:srgbClr val="000000"/>
              </a:solidFill>
              <a:latin typeface="Arial"/>
            </a:endParaRPr>
          </a:p>
        </p:txBody>
      </p:sp>
      <p:sp>
        <p:nvSpPr>
          <p:cNvPr id="595"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judice &amp; Racism</a:t>
            </a:r>
            <a:endParaRPr b="0" lang="en-US" sz="3600" spc="-1" strike="noStrike">
              <a:solidFill>
                <a:srgbClr val="000000"/>
              </a:solidFill>
              <a:latin typeface="Arial"/>
            </a:endParaRPr>
          </a:p>
        </p:txBody>
      </p:sp>
      <p:sp>
        <p:nvSpPr>
          <p:cNvPr id="596" name=""/>
          <p:cNvSpPr txBox="1"/>
          <p:nvPr/>
        </p:nvSpPr>
        <p:spPr>
          <a:xfrm>
            <a:off x="4998600" y="1604880"/>
            <a:ext cx="3962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pegoating: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inority group is blamed and victimized for acts carried out by others, as the perpetrator cannot vent frustration on its real target or cause</a:t>
            </a:r>
            <a:endParaRPr b="0" lang="en-US" sz="2400" spc="-1" strike="noStrike">
              <a:solidFill>
                <a:srgbClr val="000000"/>
              </a:solidFill>
              <a:latin typeface="Arial"/>
            </a:endParaRPr>
          </a:p>
        </p:txBody>
      </p:sp>
      <p:sp>
        <p:nvSpPr>
          <p:cNvPr id="597" name="Text Box 9"/>
          <p:cNvSpPr/>
          <p:nvPr/>
        </p:nvSpPr>
        <p:spPr>
          <a:xfrm>
            <a:off x="831960" y="1201680"/>
            <a:ext cx="5181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Explanations for Prejudice</a:t>
            </a:r>
            <a:endParaRPr b="0" lang="en-US" sz="2200" spc="-1" strike="noStrike">
              <a:solidFill>
                <a:srgbClr val="000000"/>
              </a:solidFill>
              <a:latin typeface="Tahoma"/>
            </a:endParaRPr>
          </a:p>
        </p:txBody>
      </p:sp>
      <p:sp>
        <p:nvSpPr>
          <p:cNvPr id="598" name="Text Box 10"/>
          <p:cNvSpPr/>
          <p:nvPr/>
        </p:nvSpPr>
        <p:spPr>
          <a:xfrm>
            <a:off x="831960" y="593244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at these theories don’t explain: why only some people vent their frustrations on others, why particular groups become scapegoat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so-level Analysi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rimination: actions taken against members of a minority group</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vidual discrimination (micro level): action against minority members by individual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tional discrimination (meso level): intentional or unintentional actions by organizations and institutions that restrict minority membe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crimination and prejudice often work together and reinforce one another</a:t>
            </a:r>
            <a:endParaRPr b="0" lang="en-US" sz="2200" spc="-1" strike="noStrike">
              <a:solidFill>
                <a:srgbClr val="000000"/>
              </a:solidFill>
              <a:latin typeface="Arial"/>
            </a:endParaRPr>
          </a:p>
        </p:txBody>
      </p:sp>
      <p:sp>
        <p:nvSpPr>
          <p:cNvPr id="60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01"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0943-AB5B-43A7-89DE-179B373B136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0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rimin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s of Institutional Discriminat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ntional discrimination: built into the law or explicit organizational polic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ntentional discrimination: results from policies that have unanticipated consequences favoring one group over another</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de-effect discrimination: practices in one institutional area that have a negative impact due to links to other area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t-in-present discrimination: practices from the past that may no longer be allowed today but continue to affect people anyway</a:t>
            </a:r>
            <a:endParaRPr b="0" lang="en-US" sz="2200" spc="-1" strike="noStrike">
              <a:solidFill>
                <a:srgbClr val="000000"/>
              </a:solidFill>
              <a:latin typeface="Arial"/>
            </a:endParaRPr>
          </a:p>
        </p:txBody>
      </p:sp>
      <p:sp>
        <p:nvSpPr>
          <p:cNvPr id="60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05"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8738-649A-4D13-A24E-C248EB25C2CB}"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06"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rimin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minant/Minority Group Contac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rm of dominant and minority group relations depend on several facto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 has more power</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minant group needs for labor and other resources that could be provided by minoriti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ultural norms of each group</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ocial histories of the group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ysical and cultural distinctions between group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imes and circumstances</a:t>
            </a:r>
            <a:endParaRPr b="0" lang="en-US" sz="2200" spc="-1" strike="noStrike">
              <a:solidFill>
                <a:srgbClr val="000000"/>
              </a:solidFill>
              <a:latin typeface="Arial"/>
            </a:endParaRPr>
          </a:p>
        </p:txBody>
      </p:sp>
      <p:sp>
        <p:nvSpPr>
          <p:cNvPr id="608"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09"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9C138-E6AD-4FC4-A599-4E2CA4748A1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1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Text Box 9"/>
          <p:cNvSpPr/>
          <p:nvPr/>
        </p:nvSpPr>
        <p:spPr>
          <a:xfrm>
            <a:off x="762120" y="2090880"/>
            <a:ext cx="5715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ypes of Dominant/Minority Group Relations</a:t>
            </a:r>
            <a:endParaRPr b="0" lang="en-US" sz="2200" spc="-1" strike="noStrike">
              <a:solidFill>
                <a:srgbClr val="000000"/>
              </a:solidFill>
              <a:latin typeface="Tahoma"/>
            </a:endParaRPr>
          </a:p>
        </p:txBody>
      </p:sp>
      <p:sp>
        <p:nvSpPr>
          <p:cNvPr id="612"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13"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FDF7-19C8-49C5-9A5F-6DC04D82185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1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pic>
        <p:nvPicPr>
          <p:cNvPr id="615" name="Picture 6" descr=""/>
          <p:cNvPicPr/>
          <p:nvPr/>
        </p:nvPicPr>
        <p:blipFill>
          <a:blip r:embed="rId1"/>
          <a:stretch/>
        </p:blipFill>
        <p:spPr>
          <a:xfrm>
            <a:off x="888840" y="2895480"/>
            <a:ext cx="7944120" cy="2210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
          <p:cNvSpPr txBox="1"/>
          <p:nvPr/>
        </p:nvSpPr>
        <p:spPr>
          <a:xfrm>
            <a:off x="762120" y="1600200"/>
            <a:ext cx="3962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ocid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effort by dominant group to destroy a minority group</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ugation: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ordination of one group by another that holds power and author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transfer: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minority group from a region or country, often forced</a:t>
            </a:r>
            <a:endParaRPr b="0" lang="en-US" sz="2000" spc="-1" strike="noStrike">
              <a:solidFill>
                <a:srgbClr val="000000"/>
              </a:solidFill>
              <a:latin typeface="Arial"/>
            </a:endParaRPr>
          </a:p>
        </p:txBody>
      </p:sp>
      <p:sp>
        <p:nvSpPr>
          <p:cNvPr id="617"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ypes of dominant/minority group relations</a:t>
            </a:r>
            <a:endParaRPr b="0" lang="en-US" sz="3600" spc="-1" strike="noStrike">
              <a:solidFill>
                <a:srgbClr val="000000"/>
              </a:solidFill>
              <a:latin typeface="Arial"/>
            </a:endParaRPr>
          </a:p>
        </p:txBody>
      </p:sp>
      <p:sp>
        <p:nvSpPr>
          <p:cNvPr id="618" name=""/>
          <p:cNvSpPr txBox="1"/>
          <p:nvPr/>
        </p:nvSpPr>
        <p:spPr>
          <a:xfrm>
            <a:off x="4998600" y="1604880"/>
            <a:ext cx="3962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milation: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d or chosen social and cultural merging of groups in which minority members may lose their original ident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ralism: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group maintains its culture and institutions but has recognized equity in socie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Rectangle 2"/>
          <p:cNvSpPr/>
          <p:nvPr/>
        </p:nvSpPr>
        <p:spPr>
          <a:xfrm>
            <a:off x="1981080" y="1600200"/>
            <a:ext cx="49150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8</a:t>
            </a:r>
            <a:endParaRPr b="0" lang="en-US" sz="3600" spc="-1" strike="noStrike">
              <a:solidFill>
                <a:srgbClr val="000000"/>
              </a:solidFill>
              <a:latin typeface="Tahoma"/>
            </a:endParaRPr>
          </a:p>
        </p:txBody>
      </p:sp>
      <p:sp>
        <p:nvSpPr>
          <p:cNvPr id="546" name="Rectangle 3"/>
          <p:cNvSpPr/>
          <p:nvPr/>
        </p:nvSpPr>
        <p:spPr>
          <a:xfrm>
            <a:off x="1371600" y="3124080"/>
            <a:ext cx="6781680" cy="1371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ce and Ethnic Group Stratification: Beyond “We” and “They”</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ing Dominant/Minority Group Relation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uctural Functional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ority groups often serve as pools of cheap, marginally employed labor, and this has several functions for socie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a labor force to do “dirty work”</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e possible occupations which service the poor</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y goods others do not w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 examples for others of what not to b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 others to feel good about giving to charity</a:t>
            </a:r>
            <a:endParaRPr b="0" lang="en-US" sz="2200" spc="-1" strike="noStrike">
              <a:solidFill>
                <a:srgbClr val="000000"/>
              </a:solidFill>
              <a:latin typeface="Arial"/>
            </a:endParaRPr>
          </a:p>
        </p:txBody>
      </p:sp>
      <p:sp>
        <p:nvSpPr>
          <p:cNvPr id="62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21"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A873-9070-46DA-9848-9BBCD4FAE1B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2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ing Dominant/Minority Group Relation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lict Theor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ominant group protects its privileges and resources by creating a “lesser” group</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contributing to hostility over resour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wo groups are identifiably differ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wo groups want the same scarce resour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one group is more powerful</a:t>
            </a:r>
            <a:endParaRPr b="0" lang="en-US" sz="2200" spc="-1" strike="noStrike">
              <a:solidFill>
                <a:srgbClr val="000000"/>
              </a:solidFill>
              <a:latin typeface="Arial"/>
            </a:endParaRPr>
          </a:p>
        </p:txBody>
      </p:sp>
      <p:sp>
        <p:nvSpPr>
          <p:cNvPr id="62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25"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62EC-5F35-43CB-BD51-53BACB3A1E9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26"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ing Dominant/Minority Group Relation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lict Theory, co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lit Labor Market Theor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bor market has two level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mary market– “good” job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ary market–“bad” job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orities are more likely to work in secondary job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ition for secondary jobs sets minorities against each other and against low-income Whit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ployers enjoy reduced threats to their dominance and profit from cheaper labor</a:t>
            </a:r>
            <a:endParaRPr b="0" lang="en-US" sz="2200" spc="-1" strike="noStrike">
              <a:solidFill>
                <a:srgbClr val="000000"/>
              </a:solidFill>
              <a:latin typeface="Arial"/>
            </a:endParaRPr>
          </a:p>
        </p:txBody>
      </p:sp>
      <p:sp>
        <p:nvSpPr>
          <p:cNvPr id="628"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29"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66D5-EFFD-4ABF-A062-498596862AD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3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aining Dominant/Minority Group Relations: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ltural Explanation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judice and discrimination are passed on from generation to generation through cultural transmission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cialization, macro-level structures, and media stereotypes all contribute to transmiss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ltural stereotypes do not generate inequality by themselves, but they do stabilize it</a:t>
            </a:r>
            <a:endParaRPr b="0" lang="en-US" sz="2200" spc="-1" strike="noStrike">
              <a:solidFill>
                <a:srgbClr val="000000"/>
              </a:solidFill>
              <a:latin typeface="Arial"/>
            </a:endParaRPr>
          </a:p>
        </p:txBody>
      </p:sp>
      <p:sp>
        <p:nvSpPr>
          <p:cNvPr id="632"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33"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F0C9-9044-4F9D-9FBB-453FBE16265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3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cro-level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icies to reduce prejudice, racism,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discrimin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vidual or small group solutions: educational workshops, group encounters, therap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oup contac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ated housing, employment, and education; especially successful when groups must cooperate to achieve a goal</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tional &amp; societal strategie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bbying, legislation, watchdog monitoring, information dissemination, social protest </a:t>
            </a:r>
            <a:endParaRPr b="0" lang="en-US" sz="2200" spc="-1" strike="noStrike">
              <a:solidFill>
                <a:srgbClr val="000000"/>
              </a:solidFill>
              <a:latin typeface="Arial"/>
            </a:endParaRPr>
          </a:p>
        </p:txBody>
      </p:sp>
      <p:sp>
        <p:nvSpPr>
          <p:cNvPr id="636"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37"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9D32-7FCB-4C74-B9F9-BD9E3D4D8753}"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38"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li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
          <p:cNvSpPr txBox="1"/>
          <p:nvPr/>
        </p:nvSpPr>
        <p:spPr>
          <a:xfrm>
            <a:off x="762120" y="162396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ies to reduce discrimination, cont.</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irmative Action legislation: </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policies intended to fight institutional racism</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affirmative action: </a:t>
            </a:r>
            <a:endParaRPr b="0" lang="en-US" sz="2000" spc="-1" strike="noStrike">
              <a:solidFill>
                <a:srgbClr val="000000"/>
              </a:solidFill>
              <a:latin typeface="Arial"/>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irmative or positive steps to prevent unintended discrimination</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a systems: </a:t>
            </a:r>
            <a:endParaRPr b="0" lang="en-US" sz="2000" spc="-1" strike="noStrike">
              <a:solidFill>
                <a:srgbClr val="000000"/>
              </a:solidFill>
              <a:latin typeface="Arial"/>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 employers to hire a certain percentage of minoritie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ence policies: </a:t>
            </a:r>
            <a:endParaRPr b="0" lang="en-US" sz="2000" spc="-1" strike="noStrike">
              <a:solidFill>
                <a:srgbClr val="000000"/>
              </a:solidFill>
              <a:latin typeface="Arial"/>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belief that due to institutional discrimination, sometimes people must be treated differently in order to be treated fairly (i.e. 2013 Supreme Court upheld Fisher v. University of Texas)</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41"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D471-3408-430A-8521-7E4D93FABD3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4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li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obal movement for human right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lobal issues and ethnic conflicts are interrelate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ited Nations passed the Declaration of Universal Human Rights after the Holocaust to ensure the rights of all, regardless of n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ted Nations affiliated and privately funded groups advocate for international human rights that transcend national boundaries</a:t>
            </a:r>
            <a:endParaRPr b="0" lang="en-US" sz="2200" spc="-1" strike="noStrike">
              <a:solidFill>
                <a:srgbClr val="000000"/>
              </a:solidFill>
              <a:latin typeface="Arial"/>
            </a:endParaRPr>
          </a:p>
        </p:txBody>
      </p:sp>
      <p:sp>
        <p:nvSpPr>
          <p:cNvPr id="64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645"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B64D-3BF2-4307-8E80-912CADBCEE1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646"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lic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ority groups are characterized b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tinguishable by features–e.g. appearance, language, religion</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cluded or denied full participation in economic, political, and other institu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s access to power, resources, and prestig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stereotyped, ridiculed, condemned, or defamed, which justifies poor treatme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collective identities, communities, and institutions to insulate themselves</a:t>
            </a:r>
            <a:endParaRPr b="0" lang="en-US" sz="2200" spc="-1" strike="noStrike">
              <a:solidFill>
                <a:srgbClr val="000000"/>
              </a:solidFill>
              <a:latin typeface="Arial"/>
            </a:endParaRPr>
          </a:p>
        </p:txBody>
      </p:sp>
      <p:sp>
        <p:nvSpPr>
          <p:cNvPr id="548"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49"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8881-84A2-4806-B81F-00C36778F6C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5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ority groups, co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d by history and ideology</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group that is a minority in one time or place may be a dominant group in other times and pla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minant groups are not always the numerical major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hnic and racial groups are the most common minority groups</a:t>
            </a:r>
            <a:endParaRPr b="0" lang="en-US" sz="2200" spc="-1" strike="noStrike">
              <a:solidFill>
                <a:srgbClr val="000000"/>
              </a:solidFill>
              <a:latin typeface="Arial"/>
            </a:endParaRPr>
          </a:p>
        </p:txBody>
      </p:sp>
      <p:sp>
        <p:nvSpPr>
          <p:cNvPr id="552"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53"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3BA0-C390-4978-A230-27A2CD6AAB7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54"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ncept of r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e: a group identified by society because of certain biologically inherited physical characteristic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ial classifications have been based on different combinations of characteristics</a:t>
            </a:r>
            <a:endParaRPr b="0" lang="en-US" sz="2200" spc="-1" strike="noStrike">
              <a:solidFill>
                <a:srgbClr val="000000"/>
              </a:solidFill>
              <a:latin typeface="Arial"/>
            </a:endParaRPr>
          </a:p>
        </p:txBody>
      </p:sp>
      <p:sp>
        <p:nvSpPr>
          <p:cNvPr id="556"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57"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D6C6-EB15-417F-95E9-C3F3FCF9F84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58"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igins of the Concept of R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eighteenth and nineteenth century, scientists developed four major race categori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goloid, Caucasoid, Negroid, Australoi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1970s, the United Nations issued a “Statement on Race”: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people are born free and equa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ism retards personal developme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ial) conflicts cost nations resourc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ism creates international conflict</a:t>
            </a:r>
            <a:endParaRPr b="0" lang="en-US" sz="2200" spc="-1" strike="noStrike">
              <a:solidFill>
                <a:srgbClr val="000000"/>
              </a:solidFill>
              <a:latin typeface="Arial"/>
            </a:endParaRPr>
          </a:p>
        </p:txBody>
      </p:sp>
      <p:sp>
        <p:nvSpPr>
          <p:cNvPr id="560"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61"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6FCD-87BA-4DEE-8911-C27DB106DA2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62"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igins of the concept of race, co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e categories are defined by society, often based on what is convenient for the dominant group</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cist doctrines lack any scientific basis</a:t>
            </a:r>
            <a:endParaRPr b="0" lang="en-US" sz="2200" spc="-1" strike="noStrike">
              <a:solidFill>
                <a:srgbClr val="000000"/>
              </a:solidFill>
              <a:latin typeface="Arial"/>
            </a:endParaRPr>
          </a:p>
        </p:txBody>
      </p:sp>
      <p:sp>
        <p:nvSpPr>
          <p:cNvPr id="564"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65"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3BD2-4371-4D6B-A1E2-66FAD7304F0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66"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7" name=""/>
          <p:cNvSpPr txBox="1"/>
          <p:nvPr/>
        </p:nvSpPr>
        <p:spPr>
          <a:xfrm>
            <a:off x="762120" y="1623960"/>
            <a:ext cx="8229600" cy="452592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bolic Interaction Analysis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ocial Construction of Rac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people believe something in real, it is real in its consequences</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believe race categories are real, which has real consequence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use race categories to classify themselves and others based on physical characteristic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dea of race expanded from physical differences to psychological and moral difference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dea of psychological and moral race differences has been used to justify discriminatory treatment</a:t>
            </a:r>
            <a:endParaRPr b="0" lang="en-US" sz="2200" spc="-1" strike="noStrike">
              <a:solidFill>
                <a:srgbClr val="000000"/>
              </a:solidFill>
              <a:latin typeface="Arial"/>
            </a:endParaRPr>
          </a:p>
        </p:txBody>
      </p:sp>
      <p:sp>
        <p:nvSpPr>
          <p:cNvPr id="568"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69" name="Slide Number Placeholder 2"/>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5459-754B-4653-AB68-8EAEA4A42D42}"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70"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
        <p:nvSpPr>
          <p:cNvPr id="571" name="Rectangle 4"/>
          <p:cNvSpPr/>
          <p:nvPr/>
        </p:nvSpPr>
        <p:spPr>
          <a:xfrm>
            <a:off x="380880" y="-152280"/>
            <a:ext cx="9144000" cy="13716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
          <p:cNvSpPr txBox="1"/>
          <p:nvPr/>
        </p:nvSpPr>
        <p:spPr>
          <a:xfrm>
            <a:off x="762120" y="162396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ntinuing Significance of Rac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lear racial economic hierarchy exists with White Americans on top and other racial groups below</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ion is one of the key means of social mobilit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urns on educational investment are distributed unevenly according to race</a:t>
            </a:r>
            <a:endParaRPr b="0" lang="en-US" sz="2200" spc="-1" strike="noStrike">
              <a:solidFill>
                <a:srgbClr val="000000"/>
              </a:solidFill>
              <a:latin typeface="Arial"/>
            </a:endParaRPr>
          </a:p>
        </p:txBody>
      </p:sp>
      <p:sp>
        <p:nvSpPr>
          <p:cNvPr id="573" name="Footer Placeholder 1"/>
          <p:cNvSpPr/>
          <p:nvPr/>
        </p:nvSpPr>
        <p:spPr>
          <a:xfrm>
            <a:off x="1295280" y="6356520"/>
            <a:ext cx="6477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ahoma"/>
              </a:rPr>
              <a:t>Ballantine, Our Social World: Condensed 5e. SAGE Publications, 2018.</a:t>
            </a:r>
            <a:endParaRPr b="0" lang="en-US" sz="1200" spc="-1" strike="noStrike">
              <a:solidFill>
                <a:srgbClr val="000000"/>
              </a:solidFill>
              <a:latin typeface="Tahoma"/>
            </a:endParaRPr>
          </a:p>
        </p:txBody>
      </p:sp>
      <p:sp>
        <p:nvSpPr>
          <p:cNvPr id="574" name="Slide Number Placeholder 3"/>
          <p:cNvSpPr/>
          <p:nvPr/>
        </p:nvSpPr>
        <p:spPr>
          <a:xfrm>
            <a:off x="8229600" y="6356520"/>
            <a:ext cx="457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4AA1-4EC9-4622-95A7-19425A4A315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
        <p:nvSpPr>
          <p:cNvPr id="575" name="PlaceHolder 1"/>
          <p:cNvSpPr>
            <a:spLocks noGrp="1"/>
          </p:cNvSpPr>
          <p:nvPr>
            <p:ph type="title"/>
          </p:nvPr>
        </p:nvSpPr>
        <p:spPr>
          <a:xfrm>
            <a:off x="74628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ce and ethnic grou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8T15:33:38Z</dcterms:created>
  <dc:creator>Deborah J Barr</dc:creator>
  <dc:description/>
  <dc:language>en-US</dc:language>
  <cp:lastModifiedBy>Stephanie Palermini</cp:lastModifiedBy>
  <cp:lastPrinted>2009-04-22T19:24:48Z</cp:lastPrinted>
  <dcterms:modified xsi:type="dcterms:W3CDTF">2017-07-03T18:54:48Z</dcterms:modified>
  <cp:revision>65</cp:revision>
  <dc:subject/>
  <dc:title>Chapter 8: Race and ethnic group stratification: Beyond "we" and "the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51033</vt:lpwstr>
  </property>
</Properties>
</file>