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974E-835E-4D38-8330-FBE034642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3381-0716-4CE6-9F84-4BDAFC55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39D-2492-4F07-BCF9-71031830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B971-EC1D-4CE4-B0A4-EB0AFB5B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5F69-E92C-4AD7-8FBF-B617605E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BBB-FEF9-402E-AFEB-F48D5766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0D7-59E8-4C94-943D-6F4D6451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876-FDA7-409B-BB3E-B6B308F6C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1F1-763D-4319-954C-3D7849C2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54DE-443D-4835-9650-8A2482BA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C38-3347-4013-9AB2-4E52E4646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779-766F-4616-B2F4-D2AFBE20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B8C7-9D12-41C4-877C-1144D1F95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EAF2-04CF-4F28-8219-89DCF824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8F1-DA3C-4BCB-9EDA-9D77F6DC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3172-4242-4043-BF7A-4D5BDDB8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CCDE-7A26-4B67-AD39-824FF6AB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C2F2-708E-47DF-AC11-4B410521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9C3B-32F9-4E11-8010-22219AA6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7F1-6F5A-4848-99BD-6DAF9DEDD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1F61-D8C0-42E6-9D7D-2F696CCE0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342C-9DE8-4F84-8FE4-640B209F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54DC-1432-44D3-8D37-4EC02D796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198C-AB7A-403A-8873-7EF3B706B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2BCD-5500-4A08-A70F-148DF37B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E78D-F1C5-46D6-8DF6-AF72F283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65EF-C264-42EA-884D-71ED12B7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68E0-0E2A-49C8-910C-8CB414E3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586-AFBE-41F7-83ED-84C4392D8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BDD9-0E89-414B-836C-594BFD92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6BD5-2CC0-4383-AE46-4E3B1030C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DB5-E673-478A-8F19-4478EB70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BEB-9E1D-4D59-B97F-B3A1B3FF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27AD-D9C7-435D-A90A-E85F6B12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072-899D-421D-A76E-EF15EC80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B7B-FA1B-4FC9-A16A-510C4AB2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4D4-992B-472A-8948-08A0423D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24560-56CC-4EF9-B9A0-0A4232F8BD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BB49-2BC3-4E03-82C0-091C3753254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A093E-C7AA-4C97-A4DB-5941C6183B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9F1B1-A03C-4087-8511-6E3C00DB7F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8AAAE-685A-4121-8F78-6319284BB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091-F4CD-4F28-98FB-43C95E0F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18776-F201-44AE-90DE-B930713FB4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A8219-C23B-4107-B464-A78021CDED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CBE9B-28CF-487F-BDE8-8FE7F98720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8BEC6-7506-46C3-85B8-418521404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A5B87-8A1F-4157-B6D2-9A824D782F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155CC-E703-40C5-9827-5B2367EEF9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4635A-3A31-4CB4-A11A-83977C2F3D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225-FB1E-4A64-9B75-BC707AA9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C6E-2762-47A1-890E-86426566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EDE-DC69-4036-AB84-2BEF5FC6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71A-9113-41A9-B211-FFF16869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463-15C5-4257-8EFF-C9E3533F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B7B-55F3-4A1C-97FF-C5E1210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C1CF-E255-4A76-B035-31536F3214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7A1E-588B-4601-B6DC-C959CE9FB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within societies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provides each individual with a position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atification system motivates individuals to carry out thei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result, each individual contributes in some way to the maintena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Theory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vis and Moore 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ositions are more highly valued because people feel they are very impor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wards for these positions are high because society must motivate talented individuals to undertake the necessary but difficult preparation for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rewards for positions result in unequal distribution of resources; stratification 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cation is the outcome of struggles for dominance and scarce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groups act in their own self-interest, taking advantage of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—between those trying to hold onto existing advantages and those trying to gain new advantages—is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rl Marx, an originator of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d during a time of economic change which prompted him to question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d distribution of wealth in capitalist societies as based on what people can take, not what they need, want, or ea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 described two economic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ourgeoisie, capitalists, or “hav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letariat, working class, or “have not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rises from struggle between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control the means of production, i.e. money, materials, factories, which they use to create profits for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ce members of the working class lack their own means of production, they must work for capitalists in order to earn a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fore, capitalists can exploit workers in order to maintain and enlarge their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x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 remain in control becaus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control the norms and values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use their power to make inequality seem “fair” and jus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system will last unti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king class develops class consciousness, or shared awareness of the causes of their low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may be aided in this by intellect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class consciousness, the working class will overthrow the bourgeoisie and create a classless society in which wealth is sh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, also a conflict theorist, critiqued Marx’s sole focus on economic factors. His stratification theory included power and prestige, as well as proper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nt conflict theorists argue that there are five social cla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066680" y="411804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tty bourgeois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4572000" y="430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ork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nd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urvive people must cooperate, but conflicts occur when important decisions advantage one group over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d items are always in demand but short supply; struggle over these scarce items is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 shapes the distribution of scarce resources, but after basic societal needs are met, power determines distribution of surp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ary Theory of Stratification, co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hesis of functionalist and conflic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lented individuals need to be motiv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ll attempt to control as much wealth, power, and prestige as possible, resulting in potential confli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oitation contributes to creating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inequality depends on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inequality is useful, too much can be harmfu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-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 Ch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 chances: one’s opportunities, which depend on achieved and ascribed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factors affecting life chan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, social conditions, and life expect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2971800" y="1600200"/>
            <a:ext cx="296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143000" y="2895480"/>
            <a:ext cx="70866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atification: Rich and Famous—or Rags and Famin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Life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style: one’s attitudes, values, beliefs, and behavior patterns, which depend on socialization into one’s culture an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lifesty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tudes toward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life and child rearing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gious memb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in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 social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–Meso Conn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mobility: the extent to which people move up and down in the clas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issues dominate analysis of mobi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of 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that affect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ther there is a “land of opportunit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generational mobility: change in status compared to parents’ status, usually resulting from education and occupational attai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ragenerational mobility: change in status within an individual’s life, whether up or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ical mobility: movement up or down the stratification hierarchy, sometimes including a change in social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ing Soci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itional method: compare the occupations of fathers and sons or daught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high level of occupational inheri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igher the father’s occupation, the greater the son’s chances of occupational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considerable intergenerational movement up and down the lad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s are more likely to move up than down; daughters are even more likely to move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’s and women’s occupational attainment is powerfully influenced by class orig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Individual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facto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background, socialization, an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occupational structure and economic vit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population tre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is)advantages linked to gender and ethn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markets and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of these factors are interre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988920" y="-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“land of opportunity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mobility across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difficult to identify opportunity-rich countries due to the complex factors that influence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rtunities for upward mobility are changing due to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ing jobs are now in developing countries, leaving less-educated US workers with fewer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A has high-tech jobs, providing opportunity for those from small, educated families that value individual achie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Stratificat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ratification systems: individuals’ positions in society are determined by characteristics they are born wi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ratification systems: individuals earn their positions through ability and eff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te systems: the caste one is born into determines one’s occupation, potential marriage partners, residence, group memberships, and prestig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dividual’s caste is recognized through clothing, speech, family name, skin color,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learn their caste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rigid ascribed status system; maintained by norms, ideologies, and social control mechanisms embedded in religious, political, and economic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te systems: one is born into the nobility, the political–military elites, or into the peasantry, whose labor supports the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receive protection and enough food to survive from the n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asants are tied to a noble’s land and are rarely able to become independent land ow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s and rights are clearly spell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 is bolstered by arranged marri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system: social class is defined by property, power, and prestige; it is officially achieved, but actually inherited in pa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: income and ass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wer: ability to control or influence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wer Elite vs. Pluralism mod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: recognition, esteem, respect given those whose occupation and lifestyle are socially valu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members share similar lifestyles, education, culture, and interaction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ry: When an individual or a family bound in servitude as the property of person or household, bought and sold, and forced to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stimated 30 million people are slaves (women and children from poor families in poor countr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trafficking has claimed 20.9 victims worldwide as of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are often used as slave labor in factories and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people in the U.S. identify as “middle class,” but the middle class is shr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p between the richest 5% and poorest 40% has increased since the 1970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wages and salaries have declined since the 198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es in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5410080" y="1392120"/>
            <a:ext cx="32004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solute poverty: not having sufficient resources to meet basic survival needs (food, shelter, cloth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no prestige, power, or accumulated w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 poverty: having an income below the poverty line, and an inadequate standard of living relative to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poorer health, shorter life expectancy, greater infant mortality than others in the same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zation of poverty: trend in which single females, often young and with children, make up a growing proportion of those in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poor women grew up in female-headed families or suffered economically following divo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alent in and around major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ed b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ming the vict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poor women comprise a reserve group of cheap, easily exploite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erty Determinants and Social Poli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sts of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oor have lower physical and mental health, are more alienated, have higher rates of addi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st of addressing the needs of and regulating the p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talent and abilities that the poor could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diction to cultural values of equality and upward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welfare programs aim to eliminate poverty by changing the factors that perpetuat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jobs, money, altering our socia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d Progra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, Infants, &amp; Children (WIC) Program: 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 Start: early childhood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ta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minating Poverty: Policy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f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orary Assistance for Needy Families (TAN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d Aid to Families with Dependent Children (AFDC), which was criticized as creating depend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individuals receiving assistance to work 20–30 hours/week or attend training/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s and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there jobs available at a “living wage”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rs want tax cuts, which reduce our ability to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take public funds that could be used to fight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al and Global Digital Di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divide: the gap between those with and without access to information technolo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s from differences in socioeconomic status, minority group status, and urban versus rural resid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with insufficient computer and internet access or skills face barriers to many professions and opport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and private organizations are developing low-cost technologies that may help level the digital playing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atification: individuals and groups are layered or ranked in society according to how many valued resources they poss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ongoing process of sorting people into layers, legitimated by cultural beliefs that justify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ratification assumes th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divided into ranked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d resources are unequally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ociety determines how individuals are ranked, depending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ic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s of those in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tige and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ty, power, and prestige are accorded to individuals wit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: knowledge and access to importan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apital: networks with others who have influ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qualities also influence cultural and social capi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ess to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 status is shaped by access to resources and reinforced by the family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treatment by educational, religious, political, and other institutions often depends on our status, and also reinforces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experiences of life are shaped by ou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influences on stratific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systems and resources within a particular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that country within world systems of economic stra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ro-level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take up social positions through socialization, in which they learn the appropriate cultural capi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capital influences children’s school and home enviro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ositions are represented by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picuous consumption: displaying goods in a way that will be noticed and will earn the owner re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ies of stra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5:29:33Z</dcterms:created>
  <dc:creator>Deborah J Barr</dc:creator>
  <dc:description/>
  <dc:language>en-US</dc:language>
  <cp:lastModifiedBy>Stephanie Palermini</cp:lastModifiedBy>
  <cp:lastPrinted>2009-04-22T19:24:48Z</cp:lastPrinted>
  <dcterms:modified xsi:type="dcterms:W3CDTF">2017-07-03T18:49:07Z</dcterms:modified>
  <cp:revision>81</cp:revision>
  <dc:subject/>
  <dc:title>Chapter 7: Stratificaiton: Rich and famous - or rags and famin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91033</vt:lpwstr>
  </property>
</Properties>
</file>