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9E2-3C08-4637-B172-C9B3332A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A41-56B0-48CE-95A8-868D7D75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342-5543-4E7E-BD9C-CA965DF0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24CB-4956-40D5-A118-533E8847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E54-1329-432E-A375-B2CFA4AB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4D2F-7604-4D83-991D-FEAB66E2EC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AC9A4-E0A5-4E3D-BA20-B592D69915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306EE-297E-4675-94FE-439FF2D482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396A-F74C-4BA3-B7E6-E3F11251F2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DF6C5-8F11-4A48-A7AC-C5124FCCE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4D2-47AE-42DE-9C78-31E5D90F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63D2-175B-4670-95F8-DE0CC53C8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EA11D-27FB-4AB6-8E55-8470070276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AED61-8268-4422-958D-F3AAB4B7F8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5025E-D18B-481C-B069-9868F3F068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EFD75-70C2-4916-8EA6-D1709AFC61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7590C-38B8-4808-AA65-4B56556FE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1EFC0-AD15-4BC0-B416-44D6EC0B83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9FC1-0031-486E-A9D6-DBB95B7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68F-88B7-4284-97E8-DF38278D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0BA-EFDC-45B5-8359-58CA29B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D0A-347E-495F-B0D4-18BC2045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2DC-CBF0-4341-B69D-AF5696B7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C715-EFA6-40BA-BE20-09FF71A6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2B3-1F58-4A00-97D7-3164EA576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39BD-C6D0-48E5-BE86-F22D56987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make choices about deviance based on costs and benefits to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sanctions: rewards (benefits) for socially approved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sanctions: punishments (costs) for breaking social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costs of deviance are higher than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ishment should impose high costs for criminal behavior, as a deter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F025-53BA-4447-8818-CF8F74D876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 and Meso-Level Explanation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ist Theories: focus on anomie and str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ies: focus on social inequality and power strug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996920" y="88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5B8-B3DC-48E5-9826-694653BF50A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, deviance helps society becaus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s examples of un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s behavior necessary to mainta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ds people together through common rejection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work for those who deal with devi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s social problems that need to be addressed and thereby creates positiv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s society to creative new ways of thin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3AA-58EA-4988-9F52-59EEBFB9084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s encourage us to adhere to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bonded to society in four 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achment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conventional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ment in activities that keep them bus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 in the social rules of thei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9C1-2240-4A39-9382-36451C1C7A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follow norms, we conform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controls: voices within that tell us when a behavior is acceptable or un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controls: society’s formal or informal controls against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rol occurs when we derive more benefit from conformity than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C0BF-F6A5-4C1E-B522-3FAFA52B3B7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and social disorganization can cause abnormally high level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: a breakdown of norms caused by lack of shared, achievable goals or lack of socially approved mean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is likely in conditions of rapid urbanization, war, or economic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11F7-1A43-41CE-97C7-F5CEB57B79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another source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rustration resulting from gap between socially shared goals and access to legitimate methods of achieving thos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 causes some people to turn to deviant ways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2A1-7349-4041-B850-C7320941B6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in: five ways of adapting (Mert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ity: embracing society's goals and adhering to approved means of achiev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on: using illicit means to reach approv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tualism: strict adherence to social rules, but with no hope of achiev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reatism: giving up on both the goals and th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bellion: rejecting socially approved goals and means and replacing them with alternative goa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retreatism, rebellion, in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0FC-537A-4981-ABD4-A87FF252FB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5" descr=""/>
          <p:cNvPicPr/>
          <p:nvPr/>
        </p:nvPicPr>
        <p:blipFill>
          <a:blip r:embed="rId1"/>
          <a:stretch/>
        </p:blipFill>
        <p:spPr>
          <a:xfrm>
            <a:off x="1255680" y="1417680"/>
            <a:ext cx="7210440" cy="4695840"/>
          </a:xfrm>
          <a:prstGeom prst="rect">
            <a:avLst/>
          </a:prstGeom>
          <a:ln w="0">
            <a:noFill/>
          </a:ln>
        </p:spPr>
      </p:pic>
      <p:sp>
        <p:nvSpPr>
          <p:cNvPr id="60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1126-6BEC-4737-AB0C-51535BD50E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 of Dev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results from power struggles between socially unequa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tes use deviance to maintain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have the power to define as deviant activities and groups that threaten their interests or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duce crime and deviance, we must alter the structure of society, making it more eq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F03F-1788-400B-B2FF-A8DEC9708A4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819520" y="1600200"/>
            <a:ext cx="3352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1066680" y="28954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iance and Social Control: Sickos, Perverts, Freaks, and Folks Like 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often victimized or defined as deviant due to secondary social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w status results from structures such as the gendered division of labor, separation of public and private spheres, and socialized gende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men are less often in a position to commit crimes, and women’s crimes differ from me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ttitudes toward crime against women differ based on the status of women in the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0D12-DEE2-4724-9769-E1E41727D21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and individuals: Micro-level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rime is t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estimate because not all crime is reported to pol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levels and trends are examined using rates per 100,000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ultiple methods of measur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889-8FAD-4983-8C03-E783E6A4D33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rime is measu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form Crime Reports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 crimes: murder, rape, robbery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II crimes: fraud, simple assault, vandalism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Incident-Based Reporting System–FB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criminal particip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reported victimization 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method has flaws; triangulation of data leads to the most accurat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D993-2F72-4582-B867-DDF6012BE4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atory or street crime: crimes against individuals or prop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ctimless or public order crimes: criminal acts committed by or between consenting ad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: criminal offenses motivated by the offender’s bias against a particular socia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te crimes are committed on the basis of religion, ethnicity or race, national origin, gender, and sexual orientation and are often under-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386F-B834-42B6-90E5-61B2143020C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analys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crime: ongoing criminal enterprises that aim to obtain personal economic gain through illegitimate me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ically organized; rely on violence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inent in societies undergoing transition and/or anomie, and among marginalized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ies include sale of illegal goods and services; infiltrating legitimate businesses; extor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 organized crime takes place across borders and is an increasing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B7C-7408-4C9F-8BD7-815B0D31FA3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involving organizations &amp;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pational or white-collar crime: violation of the law committed by an individual or group in the course of legitimate, respected occupational, or financial activity (medical fraud-Medicare and Medica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occupational crim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mpanies (employe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employees (wage thef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consu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s against the pub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 and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4F5F-D7A6-4ED5-BA82-05AFE7F0E2D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Analysi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rorism: premeditated, politically motivated violence against noncombatant targets by subnational groups or clandestine agents, usually intended to influence an aud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domestic or interna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any types of terroris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organized crime: criminal acts committed by government offic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omplicity in smuggling, assassination, torture, eavesdropping, accepting bribes, cor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457200" y="-15228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50D-8DBB-4DDE-909D-9800E2C0C3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national comparis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 rates vary across societies due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different levels of stigma, or disapproval attached to disobeying laws and norms (Jap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levels &amp; causes of economic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income inequality increases, so does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tions in overall economic heal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0937-AB78-42C9-A40A-803855D28B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rime: acts that violate international laws, treaties, and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crimes involving transnational conglomerates that smuggle illegal goods, or nations that violate environmental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systems perspective: sees the cause of global crime as economic inequality and competition between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italism has increased inequality between core and periphery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phery nations may resort to unconventional means to meet their go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7D39-F65B-4DAE-845D-D9A792912C2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internet crime: growing rapid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criminals have a wide audi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stains an “underground web” of illegal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itimate internet businesses inadvertently connect people to illegal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 enforcement is difficult due to uncertainty about juris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&amp; global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E592-01EC-4694-A977-5B1B6010C0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: the violation of social nor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acteristic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ance is socially constru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s may be deviant in one time and place but not in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group or status may be defined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devia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5ECD-8D55-4C3F-AD30-AAA9489E6D0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iminal Justic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the justice system is important for maintaining order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deterring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the justice system supports the powerful by depicting crime as a threat from poor people and min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cy should focus on the injustices of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6B7B-1B8D-4D4C-8F8C-52250D00CE6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J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tal institutions: completely control prisoners’ lives and regulate all their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mates’ lives are changed thr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gradation: marks inmate as devia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tification: breaks down inmate’s original self as he/she experiences resocializ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social systems develop within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ils as “catchall” asylums for the poor, margina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 incarceration rates have increased due to “get tough”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6A7-6168-410E-8099-8106993CD29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urposes of p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he functional perspective, prisons serve many purpo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nge or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ing dangerous people from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r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the recidivism rate is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kelihood that someone who goes to prison will later be a repeat offender is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s deterrence and rehabilitation functions are not working very w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AF5-4249-450A-9F8A-F63194A684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and Pro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sons can be a source of jobs for commu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prisons are now operated by for-profit compan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izations of prisons has grown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its are found through inmate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D519-D46A-4FC0-9043-25F247D3AD7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(or Capital Punish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ntroversial method of contr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ommon argument for the death penalty is that it deters others from committing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s suggest this is not the case; however, the death penalty does serve as re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ath penalty is most common in Asia, the Middle East, and parts of Af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evidence that the death penalty is race and class bi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yland became the 18th state in 2013 to abolish th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F766-5B49-420F-9FC0-7CB94E6F6A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Forms of Social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otential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ocial capital (networks, resources, and shared values) so as to reduce likelihood of crime and impris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minor offend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 or job skills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ck probation: early release of first time offenders in hopes that the shock of prison life will dete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treatment or half-way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service and work releas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itution: offender compensates victim or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ization of prison: attempt to make prisons more cost effective, and make a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ing crime: Policy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46BE-0957-42DA-9AE8-9D40903794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Some acts are inherently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relative to time, place, and stat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Those who deviate are socially 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Much deviance goes unrecogn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ts break the law purposefu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Deviance is often driven by emotion, disagreements, or situational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: Deviance occurs due to human dishonesty and selfish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: People do not attribute their deviance to dishonesty or other negative tra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sconceptions about dev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AFE7-607D-40C6-BC2D-8E4D7275CD1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me: deviance that violates laws and is punished with formal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: a type of norm that reflects opinions about what is considered right and wrong in a particular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nsus crimes: members of society agree about the seriousness of the deviant 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crimes: members of society disagree about the seriousness of the acts, and/or the law disadvantages a particular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me: Deviance that violates th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1BE8-7CA2-4E30-8E22-9CDAEEFE2BA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Explanations of Devian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ies: focus on individual choices, costs, and benef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ist Theories: focus on relationships and mea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EAE5-D789-4122-ADAF-6D90765B433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 of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others shape one’s definition of what is normal and 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how society defines some acts as devi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 deviance-related symbols and how they affect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26D-9A29-4510-92D4-F3F4CB6630E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ing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 and behavior become deviant because they are labeled as su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ies define behaviors as deviant and impose sa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(isolated) deviance—actors are not labeled devi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(ongoing) deviance—actors are labe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ng labeled reinforces deviant behav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ance becomes a self-fulfilling prophe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se with less power and status are more likely to be labeled as deviant (link to conflict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017-FF46-4701-B663-9AA0EBEC43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Learning Theory of crime and dev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labeling and differential association the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ffects of labeling depend on the individual’s associations with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1F2D-F4AA-4DC8-B5D7-2D77C30AB4E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3:57:51Z</dcterms:created>
  <dc:creator>Deborah J Barr</dc:creator>
  <dc:description/>
  <dc:language>en-US</dc:language>
  <cp:lastModifiedBy>Stephanie Palermini</cp:lastModifiedBy>
  <dcterms:modified xsi:type="dcterms:W3CDTF">2017-07-03T18:47:13Z</dcterms:modified>
  <cp:revision>98</cp:revision>
  <dc:subject/>
  <dc:title>Chapter 6: Deviance and Social Control:</dc:title>
</cp:coreProperties>
</file>