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39D1-5717-4CD3-9388-4F3E4ABF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67EE-31DC-4032-9B5C-D306F30E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3A1C-7DB1-4435-9974-FBF1D06B1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5AA4-0489-4FCC-B0AA-9F5D74D55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90B0-10B4-41DA-8425-5167B20CF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56D5-5A21-419D-A652-01385F5B7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39EF-8EEA-4888-8758-B8BEAE2C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9B21-0AF6-4E6F-96DE-F363FF33F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D99B-7C13-4B50-8432-94617ABEA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761F-B2AE-4BFE-BEF1-51BDDE92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C07-8C34-4926-B6F6-6AB11EAED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FB08-43FB-4CCB-ACD6-8B76DE5A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AF82-3AA8-4292-B899-FFA1F18F6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6B9E-2F30-4EC1-AA12-76D721F53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499-994B-49AA-A738-AB5B7D6A2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E350-7B12-417B-9800-DA3796890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E9A4-B009-46D1-9278-462F1F99A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4CD2-7D77-4873-9A68-4CB6AFBA7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0F39-EECD-4FCC-8953-595992657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8269-957B-43C4-9065-15E96AADD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0864-7DAD-47F8-9E7F-A2EFC4788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14A0-70A7-444C-ACCD-C909FAB3A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E5EF-02E7-4E76-8CFD-B4C91DE5D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31F3-E73D-4752-B3A4-03558EEBA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0364-F2E3-41E1-A000-8C9F91C02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C841-C162-4588-B5A3-B2A6F816B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BBAB-0665-421A-877D-088AE350C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9EC-01C9-465F-9C3D-2846D597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6ADF-32AD-4268-A415-10F02249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507-FC74-4103-87A0-1E46B9B1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6B0-6196-47EE-9085-99423D4C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454-5B5F-4F1E-8830-1FA1254D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E0D4A-5FB4-4F8D-ADE4-637416C3FA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2E1BD-5112-419C-8650-16E1C2F18F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16E05-B15B-4687-A17C-56FFF6CFFC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1F932-FF47-4CBF-A944-AFD448C86E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DCA54-E7BA-4200-939B-DB674BACFD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1A5-7A8E-477F-A43F-918C9C62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90A61-6C72-402C-8DAF-F2309AAEE8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C9D41-146E-4EC2-8D54-4D518EFE3A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4BE96-CB05-48F0-8B8D-13F3CB1395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94496-7ACD-4BE5-9F04-3F5F44C112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6BF06-3409-4593-9CC4-D87AA9FF3E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FAF2A-AD1D-48DA-9492-E02A127EDC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55CC5-E273-49AD-B0AD-7B721DB90FA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C6F-B52F-4457-A65B-C9F1FFE7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5653-1038-44C1-A309-A0084F57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89A-4F4A-4FCF-B44A-16ED62B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171-F2A4-43B3-B17C-A59937BD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6922-DB0A-4762-8839-9B10C89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C25-D77E-4CB8-90C3-DC55EF48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7B31-6305-427C-B0D5-A45AFF5E33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E49B-9FFF-4571-BE40-22EC8DECC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es on how people interpret interactions and manipulate others’ interpre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var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omethod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matu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1796-E39B-45F8-BA7E-21B0A16EC8F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on: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matur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es interaction as if it were a staged play with audiences, parts, scripts, props, and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perform different parts for different aud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learn parts and scripts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ession management”: we attempt to convey a positive, advantageous image of our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 stage” behavior: public, scripted, presents an image we hope others will take as re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stage” behavior: we relax, let feelings sh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1037-6F4A-4846-8797-B562C9F531B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on: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y (or Exchange The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hips are formed and maintained based on individual rewards and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interaction is sustained when its benefits are high and costs are 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that our choices about inter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based on calculations of self-interest (current or eventual payof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guided by rea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 expectations of reciprocity (individual contributions will balance out over tim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C4F7-D97C-413E-94BB-694865437EE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action: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atuses: positions that individuals hold in the social 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es define how we interact with othe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differs according to whether participants are of equal or unequal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 set: an individual’s combination of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ribed status: a status that is assigned at birth and does not change during an individual’s life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hieved status: a status that is chosen or earned by decisions one makes or by personal 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 status: a person’s most important status, that takes precedence over other stat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C596-3E64-4957-B34A-A01F5E92A62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status: The link to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9058-3033-4D83-9A2A-5DB7569C6EE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status: The link to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1387440" y="1446120"/>
            <a:ext cx="6291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lationship between status and 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: the expected behaviors, rights and obligations associated with 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behaviors are part of our culture, learned through soc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s and statuses link us to others in the soci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s for a particular status depend on the statuses of those the individual is interacting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8769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es can be formal or in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es connect us to meso- and macro-level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strain and role confli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strain: tension between roles within on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conflict: conflict between the roles of two or more stat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6" descr=""/>
          <p:cNvPicPr/>
          <p:nvPr/>
        </p:nvPicPr>
        <p:blipFill>
          <a:blip r:embed="rId1"/>
          <a:stretch/>
        </p:blipFill>
        <p:spPr>
          <a:xfrm>
            <a:off x="5105520" y="1447920"/>
            <a:ext cx="35812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: two or more people who interact with each other because of shared interests, goals, experiences, and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have a sense of belon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 is well-def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rules for members’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t all collections of people are groups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form through a series of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e of a collectiv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mpts to expand collective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26AE-1EE3-468B-9433-9C80F437D4D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s: The micro–meso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kheim’s Study of Suic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ed how groups impact individual behavior by comparing different groups’ suicid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conditions leading to suici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mie – the group lacks norms or r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goism – bonds tying individuals to the group are too wea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ruism – bonds tying individuals to the group are too str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081C-7456-48AE-A1C9-36E069D3556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groups for the indivi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621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ary group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, person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e of belonging, caring, identity, and loyal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fluence on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membership, lasting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intrinsic value: belonging is the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876920" y="16002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group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, impersonal, businesslike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 to accomplish a task or 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alized tasks and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embership; may be short or long-ter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067200" y="1447920"/>
            <a:ext cx="2933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1523880" y="2819520"/>
            <a:ext cx="6629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raction, Groups, and Organizations: Connections That Wor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 group: members act as role models for one another and establish standards against which members measure their con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group: members feel a sense of loyalty and belonging; often a reference and/or a primary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-group: a group that exists in competition with or opposition to an in-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6AAA-9A0B-4B48-8566-A42859B7818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2DF5-DF33-4759-AFC6-3AAC0E1E38F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 and bureauc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1878120" y="1295280"/>
            <a:ext cx="5311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organizations: formal, rational, bureaucratic; originated during industrialization in the 170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organizations: complex secondary groups formed to pursue and achieve certain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ity: the attempt to reach maximum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reaucracy: a specific type of large, formal organization that attempts to maximize efficiency by establishing formal relations, clear procedures, and stated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Contrast: traditional organizations are run on the basis of custom or whi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3656-7A68-4BFF-96F8-E320BF83705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volution of moder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al societies: societies in which a majority of people work in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cDonaldization of society: increasing dominance of organizations characterized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y maximized by sam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ability, nothing left to ch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tion of every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control over customers and 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McDonaldization lead to dehumaniz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DD76-14E6-42E0-A488-7B2CC757F63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volution of modern organiz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ied growth of bureaucracy in the twentieth centu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ed “ideal types,” or conceptu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l type bureaucracy characteris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 based on technical compe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ive hier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rules and reg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hasis on rationality and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sion of lifelong car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reaucracies also have an informal structure, unwritten rules and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5BD3-8B8C-49F8-9F14-B661031BFDA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bureau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s of bureaucra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enation: workers with boring, dead-end jobs feel uninvolved, uncommitted, unappreci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ligarchy: concentration of power in a small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ron law of oligarc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 displacement: original purposes are displaced by new, secondary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inson’s law: work expands to fill the time available, creating inefficienc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organiz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e-owned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cratic-collective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EA4B-C00A-466B-B705-14C8DB94A5F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 in bureauc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ategories of people face special challenges in bureaucrac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ionals may face conflicting loyalties to their profession and to the bureaucratic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of minority groups, such as ethnic minorities or women, may have little opportunity to reach the highest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Nonetheless, both groups make important contributions to bureaucracie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510D-146B-41E5-83C8-898C2E15753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viduals in bureaucra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&amp; Global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transportation and communication systems, including the internet, are generating global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national corporations make their own rules, without oversight bodies: profit, efficiency, and calculability are highly pr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and international organizations are governed through rational, bureaucratic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groups rebel against these structures, resulting in global confli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3664-B233-4CE0-AF73-B392FABD394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cro-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networks: sets of relationships between individuals, groups, and/or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, meso-, and macro-level net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iends and fam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 civic, sports, and religious organiz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umni groups, political parties, and sub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ent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 the Internet influences ou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A11F-25E1-4E75-9C58-7E7B6E9F11D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s &amp;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s connect us to society and place us within larger soci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s can create opportunities for their members, but also generate obligations that limit members’ fre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’ access to networks differs by their gender and other characte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access to opportunity-enhancing networks are one reason for persistent ine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9926-1437-4D48-BAC1-9F41A693511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s &amp; 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interaction consists of two or more individuals purposefully relating to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creates micro-level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interaction has three compone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c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mmon go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ocial context governed by 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ction, goal, and context help us interpret the meaning of the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AC3E-FDF5-4268-B02C-F3790C86578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of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ssume that others will share their interpretations of a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interpretations include situational norms, which create cues for appropri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(verbal and nonverb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norms and expectations are learned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789E-D08F-4DA0-9FC3-A94509DE261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 includes verbal and non-verbal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 communication: interactions using facial expressions, the head, eye contact, body posture, gestures, touch, walk, status symbols, and person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 communication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ly speci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ed through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in all cultu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DB20-30AD-47D3-BF5F-90008E9FAC6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space: an example of nonverbal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mount of personal space people need varies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ontex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space communicates social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in higher positions have greater control of physical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BDAB-7203-4D57-AD07-DEEA86925AC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egories of Social Distance in the U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imate distance (0–18 in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 and affectionate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distance (18 inches–4 f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iends and acquain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distance (4–12 f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 business re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distance (12 feet or mo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peaking, especially in formal settings or with high-status spea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0F2B-2A10-4351-877F-1EC9C5F5013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lements of social inte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20:14:11Z</dcterms:created>
  <dc:creator>Deborah J Barr</dc:creator>
  <dc:description/>
  <dc:language>en-US</dc:language>
  <cp:lastModifiedBy>Stephanie Palermini</cp:lastModifiedBy>
  <dcterms:modified xsi:type="dcterms:W3CDTF">2017-07-03T18:44:31Z</dcterms:modified>
  <cp:revision>86</cp:revision>
  <dc:subject/>
  <dc:title>Chapter 5: Interaction, Groups, and Organizations: Connections that Work</dc:title>
</cp:coreProperties>
</file>