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1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1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50C7-4415-4C73-B445-12A1FFC25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E969-1918-4808-9D5F-43267B38B0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C690-552E-4147-9103-AF9706443E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CBD4-15B1-40CC-B634-0A04CC69FA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0296-4B00-448E-B819-0973A8DA68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BDFB-4D47-4962-9720-E2CFDD0957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A87C-6434-4154-AAA1-04D4BC6777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59F6-BA6E-49B0-8CC0-EB2B6F5104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1D57-0B04-45F1-8C59-03F2140090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658A-6C1D-4A08-947F-A76F3F7895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35DA-B520-4BE8-99C8-FACF9E8935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9A15-9749-4223-A38F-A89FB8BFE4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D1B5-A1ED-4AA2-96C8-92263B00C0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52CF-422B-4163-BEBE-0604587649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0034-154D-4212-BAD4-83D0677847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475C-577D-4BD2-B30A-8ED17CB42B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FC95-7CAD-4208-BE7D-B2BE59086C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F607-1AA5-425A-AE2A-FD34372217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A0DB-B5D1-4C7A-8D4E-089E941E874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E54F-8C7E-44CF-92E5-4112689FB0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847-C342-4658-B65D-CD3C7530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FCED-50E1-41F1-8611-4BE57855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3BBD-810D-4F62-B369-0B5EA002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2845-EA74-4DAF-95C5-63395F4A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2A19C3-BA18-43C5-B7DF-45CE84DEAD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4EFCEE-6CA8-48A0-A3A9-AF502740C6E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564335-96D7-4DE0-A22C-C2816EE2E6C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B438B5-E54C-403E-BFB0-9F00970E391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405610-E9BB-4B37-BBCD-0567EE75A8C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0E1922-E27A-485D-BD75-87B8D17FD92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FB0FA9-C5F8-4176-A68D-24605A3240A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384F75-A12B-40B4-8D18-DBE5E935CDC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B057EA-F726-4B75-8A74-1DD9AFE3EEA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9828B3-9254-4ABE-BA60-5525DFBAEA9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7A2CB7-F770-407A-BCE2-15D80A0223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5B7705-E668-4D29-A12C-EDCF52EB54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9608-B997-489E-85D2-7C00DD50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789B8-AB8B-4F04-9080-EB3EC2748E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8AE70-5C4F-4C69-A760-77F34CF514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F19FC-DB04-4CB6-BBD9-75CD2D57D1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1D574-CB0F-486D-BCBB-FB55BDBA43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F7F8A-2E8A-4146-83ED-B6DE9735FE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9DEA-680F-4981-BF48-E9952E0C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78BA0-27A4-4CB6-A9B8-D24C109144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7F471-4DE7-4729-9BD0-6A495DE3D7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1B07F-CC87-4E38-A324-B9FDCA6CB3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BDC80-7EA5-4138-888F-99488DE5F5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09CEE-0B02-4B33-9C5C-53316FDBDB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868EF-55C1-4834-A468-F24BFC209A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4A69A-E588-4538-8E3C-BF4E82F5E6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68AA-7046-4A0B-82A3-64B555A5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444-CD1B-40AD-B744-7C091DF4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D36-C3F5-43AD-A40F-A4125E0F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C10A-FF14-428D-9039-27BB7A78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DBA-B796-4680-ACC9-1B8FE9B1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D8F-B6A2-4358-8942-7673434C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F047-8277-49D3-A51A-CD22F88A77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Num" idx="7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4FEA-2C19-43B7-A137-B21C0E21B1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8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4C2B-EAA8-42DA-B731-1CDAD30EB2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ist theory of the sel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rge Herbert M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w ourselves through interaction with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we can symbolically recognize objects, we can the view the self as an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having a name allows us to see ourselves as objects separate from other objects; the difference between “me” and “I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lexive behavior: ability to view oneself from the outside, as an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4F62-881D-4981-A6FE-8258F95B2A6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le-t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d’s Parts of the Self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“I”: spontaneous, unpredictable, impulsive, acts without considering social consequ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“me”: the reflexive part of the self, formed through role-taking, that knows the rules of society and attempts to control and direct the “I” into socially acceptabl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“me” requires the ability to take the role of others, anticipating others’ re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E910-06A2-4B40-8A23-8E56A63EB4A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s of the 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d’s Stages of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itation: child observes and imitates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y: children play at taking the roles of significant others, but do not understand complex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me: children take the roles of multiple others concurrently &amp; the role of the generalized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other: a composite of social expec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behavior comes to be governed by abstract rules, children can enter into novel social are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9238-786D-4FD3-B1C5-0315427D385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ges in the development of the 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owa School of Symbolic Intera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sense of self is rooted in our positions within social organizations and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develop a relatively stable core self, or sense of who we are regardless of immediate setting, based on our most important social po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have a vested interest in the preservation of the organizations and institutions that contribute to our social positions and sense of 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1AE1-784A-4AD5-AFA5-8D55FE0DF5F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elf and connections to the meso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ization throughout the life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tes of passage occur at most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tes of passage: public celebrations or recognitions of passage from one status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because they impact others’ perceptions, self-perceptions, and expectations of the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ization occurs throughout lif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h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l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ult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Adult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rement, the Elderly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ing and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cialization: the process of abandoning one or more social positions in favor of others that are more suitable for a newly acquired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cialization may occur in a total institution, in which people are isolated from the outside world and lead bureaucratically regimented l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2596-3857-42FF-B551-D3AAA0B35AD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cess of re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ts of socialization: people, organizations, and institutions that enable us to learn the beliefs, values, and behaviors of our cul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 level: family, peer group, local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 level: educational, religious institutions; 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: socialization is stated goal (e.g. the family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l: socialization isn’t a stated goal but occurs anyway (e.g. the med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ts of socialization shift over the life cou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agents’ messages may concur or confl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881B-31FC-4A8C-81A5-65945A9D16A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ts of 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ies use positive and negative sanctions to help teach children right and wr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mber and type of sanctions shape the socialization process and the 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y socialization differs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 of children in the household and birth 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E5F8-9ECE-4634-AC6D-4B333CE8047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milies: Micro-level 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lass: the wealth, power, and prestige rankings individuals hold in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lass and socialization: Parents socialize children to meet expectations of the social class into which they are bo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dle class: autonomy, creativity, self-dir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ing class: rule-following, respect auth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socialization in the family impacts later socialization in sch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826D-8F60-49A4-A498-C12DC1292BA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 class: Meso-level 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ic media as socialization agents: television, computers, internet, DVDs, video games, au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8 % of homes have computer and internet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5 % of teens own cellph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0 % of children under the age of nine own their own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DCC4-A257-497E-8342-2462BC66C2C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media: Meso-level 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2743200" y="1828800"/>
            <a:ext cx="39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1447920" y="2819520"/>
            <a:ext cx="7010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ialization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oming Human and Huma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Footer Placeholder 1"/>
          <p:cNvSpPr/>
          <p:nvPr/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ose who control the mass media can influence socialization within the h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messages do these agents of socialization send to childre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impact of children spending more time with media and less time with caregivers and peer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socialization is radicalizing young peop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0518-174A-4F9A-B0AC-4A466BB8325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onic media: Meso-level 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ization in a globalized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nationalism: the situation of individuals or families who have national loyalty to more than one country, often a result of mi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result in multiple and conflicting messages about appropriate behav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communications and ev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lead us to interact with diverse others, or solidify feelings of “we” vs. “the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12FC-5B6D-47B9-95E0-B6CE4E8CCAF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ization and macro-level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ization: the lifelong process of learning to become a member of the social world, including learning the values and beliefs of our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: the basic building block of socialization, through which a child is shaped into a human being and becomes a member of  a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self: the perceptions we have of who we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B9F9-F628-4993-9227-E0C4C306E6B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ture vs. nurture debat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est explains the human self and human behavior—biology or socialization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ture argu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biology (evolutionary psychology): claims our genes “wire” us for social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urture argu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biology is a reductionis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behaviors vary, are not hardwi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ization is more important than ge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6896-0810-40AB-A5F0-9623AEBF6EE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ure vs. Nur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 need human contact, affection, and interaction in order to fully devel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idence: Cases of isolated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Anna, Isabelle, neglected orph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cause these children were not socialized at the proper time, they experienced developmental disorders and could not be fully integrated into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51FC-9EC5-427F-8C2E-EB665739F50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mportance of so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activities are part of the socialization experien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 level: e.g. parents, peer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 level: e.g. schools, religious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 level: e.g. national advertis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importance of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tions are dependent upon socialized people to help them surv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adequate socialization increases the likelihood of deviant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A9EF-4594-4119-B509-E1CD578ECE7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ization &amp; the social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pectives on Soc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 level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ism: the development of the 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 and Macro leve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–functionalist perspective: various socializing agents support one another and society as a wh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perspective: various socializing agents have conflicting 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ose in power ensure that others are socialized into supporting power structures which benefit eli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individuals have little power to decide their fu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CE06-5177-4EB4-BB6C-DC66AEBEC6D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ization &amp; the social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: the perceptions we have of who we are, derived from our perceptions of the way others respond to 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velopment of the self allows us to interact with others and function in the social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are not born with a self; its development begins in infa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ology and society both contribute to the development of the 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lf, our ability to be aware of ourselves as individuals, may be distinctive to hum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10BA-5435-4E3A-8FB9-9DBCCFB55B9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ment of the self: Micro-level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ymbolic interactionist theory of the self developed by Charles H. Cool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ooking glass: “Each to each a looking-g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lects the other that doth pass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1677-B2B6-4FFE-8EC6-7AFB1EE3DB2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oking glass 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6" descr=""/>
          <p:cNvPicPr/>
          <p:nvPr/>
        </p:nvPicPr>
        <p:blipFill>
          <a:blip r:embed="rId1"/>
          <a:stretch/>
        </p:blipFill>
        <p:spPr>
          <a:xfrm>
            <a:off x="822240" y="3505320"/>
            <a:ext cx="81694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2:04:57Z</dcterms:created>
  <dc:creator>Deborah J Barr</dc:creator>
  <dc:description/>
  <dc:language>en-US</dc:language>
  <cp:lastModifiedBy>Stephanie Palermini</cp:lastModifiedBy>
  <dcterms:modified xsi:type="dcterms:W3CDTF">2017-07-03T18:39:15Z</dcterms:modified>
  <cp:revision>75</cp:revision>
  <dc:subject/>
  <dc:title>Chapter 4: Socialization:</dc:title>
</cp:coreProperties>
</file>