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9BA42-B172-4B32-8BE5-757BE7D12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CDDF0-1706-460F-B810-A2C6993BA5B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t 17 origi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8507E-45CD-4DDE-AE1B-2FD0DEB01C1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5834-20B9-4E78-A3F4-430EBC87A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43D4-2CE2-4059-A80B-1F6DED5A7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1A44-4C21-4FFC-9048-CF1F846DD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670F-DD15-47E7-B8C8-DA2EEC9F2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7386-5DF1-4153-868E-CC170270D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BE92BC-CE2D-42B7-8837-430668628AD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A6C0EA-DBBA-451E-8DAF-FA31CD9B0AA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F0667B-48F2-4AB4-B67C-84D134CF684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159233-AA1E-4B91-B2D1-2A61F722DE4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0E9F75-D310-499A-88F0-34B6641ED0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5C8B-657E-4D0E-B1E8-850313B34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899F8F-4D3C-450C-97FC-A2C8E383E9B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97A2ED-8B05-4804-B8EB-7C87F240BE5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C207F4-6294-4746-8E22-49004334BD4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BA78B7-15C6-48FD-9A0E-E65ED4CF40E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970038-2BF1-4FC1-809B-E4508A45A8B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F4173F-54BB-49B9-B8A7-ED1C61EF932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80DCC1-E792-480F-891B-3F630B8CB68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D1C5-82C8-405F-86CE-6E66C9E53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7F2D-A4F8-4339-89A8-D60C2FA4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6AFA-5343-4BF2-B839-03B767677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FD59-0285-48A4-9311-0254EEEF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FC46-FC2A-45A3-A129-F8221440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D7D2-FEB0-46C0-A8A3-BF99AEEE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36BF7-FB09-4799-80A1-5862D8BB91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ftr" idx="6"/>
          </p:nvPr>
        </p:nvSpPr>
        <p:spPr>
          <a:xfrm>
            <a:off x="533520" y="6356520"/>
            <a:ext cx="548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allantine, Our Social World: Condensed 5e. SAGE Publications, 201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4"/>
          </p:nvPr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5"/>
          </p:nvPr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BF58F-6D7A-40A1-ADCA-DBB28454A8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ustrial socie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y on mechanized produ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nsive division of labor based on experti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reased material wealt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ge labor replaces feudal system; high inequality between owners and labor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pulation concentrates in c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inship patterns change; smaller famil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ansion of meso-, macro-level instit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change more rap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72EB7-FD1D-4E5A-AB14-10380738E447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s of socie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tindustrial or information socie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technological revolution”: compu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reased reliance on automated produ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ift from manufacturing to information and service job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ed workforce with high levels of technical and professional edu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class inequalities based on edu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ientific and creative problem-solv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conomic and technological glob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F92B2-C07D-4C91-A5B6-498EF0E0B4B2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s of socie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ltur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as and material objects passed on from one generation to the next in a society, which provide guidelines for action and inter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ludes knowledge, beliefs, values, rules and laws, language, customs, symbols, and material produ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17E19-D905-41AD-A3A2-672A846E0E87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lture: The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nciples of cultur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eryone shares a culture with oth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lture evolves and adapts over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reation of culture is ongoing and cumula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ransmission of culture separates humans from other anim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C91BD-C3AD-4694-8F7D-827B832390BE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lture: The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thnocentrism: the tendency to view one’s own group and its cultural expectations as right, proper, and superior to oth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US foreign relations illustrate how ethnocentrism can produce host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ltural relativism: setting aside one’s own cultural beliefs and prejudices in order to understand another group through the eyes of its own memb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B8C9A-9580-4E4E-9420-CE04234B6F71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thnocentrism &amp; cultural rela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terial culture: All the objects we can see or touch that are made by humans; the artifacts of a group of peo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material culture: Invisible or intangible aspects of a group’s culture, including its values, beliefs, norms or rules, and langu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87CCE-9A40-4A22-B417-4751AC9B5DEB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omponents of cul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lture: The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l cul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s, values, and beliefs that are considered most desirable and consciously taught to new members of socie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cul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s, values, and beliefs that reflect how things in society are actually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9"/>
          <p:cNvSpPr/>
          <p:nvPr/>
        </p:nvSpPr>
        <p:spPr>
          <a:xfrm>
            <a:off x="762120" y="1170000"/>
            <a:ext cx="5181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Nonmaterial cultu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s (nonmaterial cultu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s are shared judgments about what is desirable or undesirable, right or wrong, good or b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ress the basic ideas of a 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y become a “creed” if they gain the power of religious doctr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ten taken for gran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lict may arise between groups with different value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31C0B-ED8A-4597-97E1-5E6E11745B4A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omponents of cul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liefs (nonmaterial cultu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liefs are ideas we hold about life, how society works, and where we fit into 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e from traditions, religious teachings, experiences, lessons from parents and oth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luence the choices we ma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ten based on values, which are broader, more abstract notions of what is desir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C14B8-2DAA-41B8-8F82-482854A8FF85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omponents of cul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rms (nonmaterial cultu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rms are rules of behavior shared by members of a society and rooted in the society’s value system. They includ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lkways: desirable but not strictly enforc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s: observed by most, great moral signific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boos: prohibit actions; very strong penal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ws: formally encoded, violation seen as deserving of formal punish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59E12-0C55-417D-858F-EC1A2A6F3BB0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omponents of cul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057040" y="1523880"/>
            <a:ext cx="4724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ooter Placeholder 1"/>
          <p:cNvSpPr/>
          <p:nvPr/>
        </p:nvSpPr>
        <p:spPr>
          <a:xfrm>
            <a:off x="533520" y="6356520"/>
            <a:ext cx="5486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allantine, Our Social World: Condensed 5e. SAGE Publications, 2018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Rectangle 5"/>
          <p:cNvSpPr/>
          <p:nvPr/>
        </p:nvSpPr>
        <p:spPr>
          <a:xfrm>
            <a:off x="838080" y="25909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ciety and Culture: Hardware and Software of Our Social Worl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nctions are behaviors that reinforce norms through rewards and penal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al san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itive formal san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gative formal san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ormal san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itive informal san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gative informal san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BC2C3-A7CD-4401-85E6-FB7A7076EF02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omponents of cul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nguage (nonmaterial cultu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nguage is the use of symbols to convey meaning, objects, or ide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foundation of every 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kes three form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ok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rit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verb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F5D2A-C3D7-4316-A5C3-97E915946613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omponents of cul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oken langu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unds symbolize objects or ide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unds have similar meaning for all members of 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ritten langu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ages symbolize objects or ide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ows societies to store information for fu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ommunication over dista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verbal langu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stures, facial expressions, body postures symbolize objects or ide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4A8F7-3F3C-45D3-B22A-AFDB78304208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omponents of cul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nguage influences perception and thou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nguistic relativity theory posits that people who speak a specific language make interpretations of their reality based on that langu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5C441-8045-48A4-94A8-323A5FF11F28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omponents of cul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lture operates at every level of the social wor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63E6E-1F90-4C6D-B5E7-431116A4576E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vels of cul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Picture 6" descr=""/>
          <p:cNvPicPr/>
          <p:nvPr/>
        </p:nvPicPr>
        <p:blipFill>
          <a:blip r:embed="rId1"/>
          <a:stretch/>
        </p:blipFill>
        <p:spPr>
          <a:xfrm>
            <a:off x="1041480" y="2438280"/>
            <a:ext cx="76708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icro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cultures influence only a small segment of individuals’ lives or a limited period of their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CFC70-1887-41AC-982F-F2CE096485C2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vels of cul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eso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ubculture is the culture of a group smaller than a nation but large enough to sustain people through the life sp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bines its own unique elements with those of the dominant 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ys a continuous role in members’ l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mbers believe in rightness of subcultur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mbers have sense of “we,” as opposed to “they” (outside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B913F-847A-4F9D-A37A-167D1A052E1A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vels of cul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eso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counterculture is a group with expectations and values that contrast with the values of the dominant society (i.e. Anti-Govt “Patriot” group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untercultures wish to reject and replace values of the dominant socie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lict and compromise with the dominant society, or withdraw from i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erate at meso level when they continue over time, or micro level when short-liv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713E4-14BE-4579-8D1F-E0B88678788D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vels of cul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acro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tional culture comprised common values and beliefs that tie citizens toge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fects the everyday lives of all citizens to some ext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t may be less influential than subcul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8459E-69BA-4CA9-A82A-0DC9D81A11AD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vels of cul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acro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obalization is the process whereby the entire world is becoming more interdependent, integrated, and unifo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obalization or Westernizatio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obal culture refers to behavioral standards, symbols, values, and material objects that have become common across the glob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368CE-F8C4-41A9-8005-83EE62D4629A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vels of cul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ety represents the hardw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tructures that organize group lif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lture represents the softw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as and material objects that provide meanings and guidelines for liv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ety and culture are interdepend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BA78-94A7-4322-9BB9-09D6A331F155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ulture and soci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Picture 5" descr=""/>
          <p:cNvPicPr/>
          <p:nvPr/>
        </p:nvPicPr>
        <p:blipFill>
          <a:blip r:embed="rId1"/>
          <a:stretch/>
        </p:blipFill>
        <p:spPr>
          <a:xfrm>
            <a:off x="1828800" y="1409760"/>
            <a:ext cx="5410080" cy="4662360"/>
          </a:xfrm>
          <a:prstGeom prst="rect">
            <a:avLst/>
          </a:prstGeom>
          <a:ln w="0">
            <a:noFill/>
          </a:ln>
        </p:spPr>
      </p:pic>
      <p:sp>
        <p:nvSpPr>
          <p:cNvPr id="658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C9173-F447-46BF-BFCC-45270D001722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ciety, culture, &amp; our social wor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icro Level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mbolic Interaction The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cus on how we learn to share meanings of symbols, the basic elements of 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umanness” comes from our ability to influence each other using symbols with shared understand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a society, we use symbols to define what is real, normal, and go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7BC62-5293-423B-B417-B70F3C7298A0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ltural the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mbolic Interaction Theory, co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ree steps through which symbols gain meaning and import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ymbol is crea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ymbol is objectified; it assumes reality independent of its crea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group internalizes the symb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7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E50AF-1842-4316-B47E-101F9DF8FB5E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ltural the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eso and Macro Level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ctural Functional The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ety is composed of interdependent parts, each fulfilling a necessary functio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function of cultural norms, values, and beliefs is to hold the group toge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ever sometimes norms, values, and beliefs are dysfunctional for individuals or groups within a socie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1CDBE-7862-4C49-8D4D-E1B319628B56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ltural the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eso and Macro Level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lict The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ety is composed of conflicting groups, each trying to protect its own self-interests and to make its own culture domin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minant groups may impose their cultural beliefs on minorities and other groups, laying the groundwork for confli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ever, dominant groups may manipulate institutions so others learn beliefs &amp; values that justify their power, thus reducing conflict and securing their stat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CA799-1C9A-4B2D-831D-9B982D4E7ABB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ltural theories at the meso and macro-lev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ase of Techn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chnology is changing all socie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ould policy-makers respect cultural differences and reduce the rate of change—even if new technology has benefits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095A9-3828-49B9-9A30-2ED4F06CC47E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licy and cultural ch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ociety may be compatible with many types of culture, but there are lim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uter software doesn’t work with incompatible hardw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tempts to transport US culture to other parts of the world show that ideas such as individualism, democracy, and capitalism do not succeed in all socie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FBA82-CEC6-4A4A-98FD-D5A4C5C37DD0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fit between hardware and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eties are composed of structur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itions we ho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oups we belong 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itutions we participate 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A1A3B-74E7-4CF5-A31B-3BF04B69E897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ociety: The hard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volution of socie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chanical socie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mall, simple, premoder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ttle division of labor except by age, se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d together by common beliefs, values, and emotional 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64796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ganic socie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rge, complex socie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nsive division of labor, specialized task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d together by interdependence of specialized individu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0"/>
          <p:cNvSpPr/>
          <p:nvPr/>
        </p:nvSpPr>
        <p:spPr>
          <a:xfrm>
            <a:off x="685800" y="1828800"/>
            <a:ext cx="7772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mile Durkheim’s Types of Societi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eties vary in terms of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vision of lab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dependence of posi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chnological advanc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s and uses of ener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B437-D504-4861-8E65-A36521AB874D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olution of socie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unter–gatherer socie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ve by hunting and gathering available fo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madic, few material posses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mall groups (20–50 members), organized around kinshi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vision of labor only by gender and 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cus on well-being of whole gro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aring of resources regulated by complex systems of oblig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280F2-667D-406F-9D96-5F71D6D50CF3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s of socie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rding &amp; horticultural socie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rding societies: keep herds of domesticated animals for fo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ticultural societies: use primitive gardening and some animals for fo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mi-nomadic, some material posses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reased group size (up to 3,00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e a food surplus, leading to material inequalities, status, and power hierarch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7449B-F815-4384-8CA2-B6AEF17853D0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s of socie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gricultural socie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ise crops for food, using technological advances (e.g. plows, irriga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manent settl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pulation of up to a mill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rth of feudal syste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od surpluses allow some to leave land, trade goods/services for fo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ergence of socia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ergence of meso-level instit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cations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62541-9F10-4F04-AA56-FF781823D21E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s of socie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7:53:14Z</dcterms:created>
  <dc:creator>Deborah J Barr</dc:creator>
  <dc:description/>
  <dc:language>en-US</dc:language>
  <cp:lastModifiedBy>Stephanie Palermini</cp:lastModifiedBy>
  <dcterms:modified xsi:type="dcterms:W3CDTF">2017-07-03T18:36:29Z</dcterms:modified>
  <cp:revision>74</cp:revision>
  <dc:subject/>
  <dc:title>Chapter 3: Culture and Society: Hardware and Software of Our Social World</dc:title>
</cp:coreProperties>
</file>