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1CE4-4993-4A3B-ACA8-2721DAA4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76B0-F4E9-43FB-BDB8-6D846895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2BB0-D0A4-4041-849E-1BC20BD6A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0DD6-9BFA-4F7F-A45F-231D8AD7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72A5-4302-422C-B4D6-96701B84F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742D-D90C-4F86-8006-26D6F96DA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EC0F-E7BF-4873-9868-D17671567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D354-FCB0-4CD2-A79C-A1122389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1581-8C58-4AFF-8575-DD4C82FE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F458-9A73-4243-846F-BE832D799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EE95-3661-47E5-827F-75A1D11B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C63D-E88E-45E0-84F7-5577AC27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247E-11E9-45A3-A4A9-E27E17650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23D1-3145-424A-99FE-D74D3DC17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83B6-2C2D-4D4C-9CBA-2F9685F04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BEF1-4F44-4EA2-80C1-9A958D75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99D5-ABA4-4AF3-938A-3D7F6C9D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2CA3-26E9-4FA7-89C4-A8D62450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4078-E07F-411C-A39A-7B0991A91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8813-C212-466D-B6CB-FE9E81590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3F2-C23E-4779-8300-D8F64662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93CB-ED44-4BF7-A740-4DA44874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5DB7-B78A-449B-857B-4086EECD3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7BD8-AA18-4068-89D4-121520FF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E970-2984-43F3-A5AB-36F0656E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EF4-D867-4700-9C73-2E031A47A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3BC2-27D9-43DC-B24E-45EDF251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DE94-FB06-43CF-81DD-36477456F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723-120D-4C4A-AF0E-94113365B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6C93-56B2-4116-B6C5-C9059E50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97D-1A8D-42C8-A1CE-C0D9ED1F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CCF8-3F10-4433-B2B8-CF85F9B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600-8D96-42F9-AB6B-F5E8A748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D0B-1EDE-45BA-A972-4FBE50E5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340A-F41E-427A-885B-19BC7E8A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E681D-C742-4A8C-99FF-092D47B8FB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B731-CB07-4787-8881-4FAF11B66E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7D9F7-8BC2-4C9D-BED6-7E655F9C2F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9FF75-B506-42F7-8318-A92C76659E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DED55-6DE4-4A70-A8F7-39E078A02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CA4-81E0-4271-A3EB-8FB5FDA7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26886-21F8-44AE-AF94-4FCF0FD129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8D984-E8F9-4516-9ED0-9792D4AEF0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7DA78-2658-4C47-96BD-FBEBC75BF0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61BB0-4480-4D49-BD84-BC66C1C6F2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4FA85-7E8F-4910-A2FC-56253C858C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1BA6F-8F29-4628-BC9C-42C372E825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334F8-149A-4171-BA28-05B4D94020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310-FFC7-4847-B528-C5BF7A4F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EDD-D547-483E-A0F4-A5C63A72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12D-B79F-486D-9F81-A229FF2B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E5E-FDE9-41F7-BAD6-7E5E3520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2B7-1976-4290-8EFF-3D47F0D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652-CCC5-4771-90F5-96DF175B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923C-4954-4DDC-B3A0-FDD336E6F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4801-6A6D-4C22-8D5A-3B84652AE4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-functional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r functional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part of society has a necessar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s fit together into a stable, orderly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s may be manifest (planned) or latent (unintended); some things may be dysfunc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claims are abstract, difficult to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easily explain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conflict is harmful, which isn’t always tr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stability is good, ignoring inequ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heorists: Comte, Durkheim, Mer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F218-36FE-41A5-BD3F-810998D03D7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qualities in resources and power create conflict, which underlies all social re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werful impose their values and beliefs on weak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leading to greater equality is desi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s the micro-le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test empi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easily explain cohesion and co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s on assumption of self-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heorists: Marx, DuBois, Dahrendorf, C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2960-E5A1-493B-9E81-358A7B05952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minist sociological the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ed in conflict theory, symbolic interactio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hierarchies disadvantage women and advantage 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has traditionally been male dominated, resulting in an incomplete view of the worl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y should address the intersection of gender, race, class, and other inequa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622B-C089-4911-A626-43C3D09A27F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o- and Macro-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 Weber’s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tehen (understanding): emphasized the importance of interpreting the meanings people give to their actions (mi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ed on bureaucracy guided by rationality as key element of modern organizations (mes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ined how history has been shaped by politics, economics, religion, psychology, and ideas (macro-lev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stant Ethic and the Spirit of Capital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nd explanation for how capitalists view the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BBC-E6A1-448E-B59E-FCB0061BCC5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theory is right or wrong; each has advantages and disadvantages for studying particular levels or aspects of socie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D5B1-36A4-453A-A7B7-2B948B1B490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erent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"/>
          <p:cNvPicPr/>
          <p:nvPr/>
        </p:nvPicPr>
        <p:blipFill>
          <a:blip r:embed="rId1"/>
          <a:stretch/>
        </p:blipFill>
        <p:spPr>
          <a:xfrm>
            <a:off x="1282680" y="2819520"/>
            <a:ext cx="71517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nning a research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ing the research plan and method for collect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ing sense of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B298-C3E7-4CD7-9552-724869EA410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sociologists study the social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s in planning a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Define the problem clear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estion must be specific and pre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Find out what is already known about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existing theory an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Formulate hypotheses and defin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hesis: educated guess about the relationship between two variables, which can be tes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: concept that can vary in frequency of occurrence across persons, places, o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onalizing a variable: linking the variable concept to a specific measur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B0E7-3859-42DD-A5D2-03B0E51F1CE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a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aims to find causal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ys that two variables can be relat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: variables change toge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sation: one variable causes another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 variable (IV): the cause of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ent variable (DV): the variable that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ing: change in IV must precede change in D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urious relationship: IV and DV change together due to effects of a third variable; not a causal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variables help eliminate effects not related to the hypothesis, especially spurious relationshi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3AED-1AC7-4A61-9FD2-9BA4FE34997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a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design is important: the value of a study depends upon the quality of its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methods depend upon the level of analysis of the research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sociological research method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ng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7B2B-6421-4B22-A74B-A26D7825124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gather information from many people about how they think or what they w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asking respondents a set of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s: questions asked by phone or in 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: questions and other types of i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-ended: respondents can say what they wi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-ended: respondents must choose from a set of predetermined ans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7AA2-7A37-4B35-A177-864D5F33B02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52400" y="18284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523520" y="32000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xamining the Social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Do We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views and open-ended questions yield in-depth information, but are time consuming and cos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naires and closed-ended questions provide less information, but are cheaper and more prac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8C2A-E15C-4210-97DD-D6A97A444DF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ies (observational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systematically observe and record interaction in the settings where it takes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field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participant observation: observation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nt observation: researcher participates in and observes activities of group being stud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hnography: researcher uses observation, interviews, self-reflection, and other techniques to pursue any data relevant to the research problem, which may evolve over the course of the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4787-293B-4E2C-BBBF-7B00BC8B3BC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eld study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s qualitativ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ative data: written or verbal observations, used to interpret the meaning of some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ntitative data: numerical, “hard” data, can be conveyed with percentages or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nt observation: potenti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effects: the group being studied may be altered by the presence of the researc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as: researcher may become so involved in the group that objectivity becomes diffic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2ED2-5F7F-4AAA-9210-A5A62D718B2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as a powerful test of cause and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of a controlled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ers manipulate an independent variable and determine its effects while all other variables are held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group: subjects who are exposed to the effects of the 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group: subjects not exposed to the independen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experimental group is exposed to the variable, the two groups are compared to determine its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used to study many sociological questions, research effects may result, and it is unethical to introduce many variables into th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F898-A581-4166-9DC2-BB2C13834A6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the research &amp; collecting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ed experiment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aluable test, b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be used for questions dealing with macro-level phenomenon that can’t be placed in a controlled sit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’t study questions involving independent variables that might cause harm to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effects: subjects may be affected by the fact that they are in a laboratory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DB0E-D073-4E01-BA29-273F4CA7818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the research &amp; collecting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data is used in new ways, especially i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rom past years are desi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concerns meso- or macro-level social patter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ary analysis: employs data already collected for other studies or by agencies such as the Census Bureau or United 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nt analysis: systematic recording and classification of information from written or recorded sources, e.g. newspapers or le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F60-28D0-47EC-99B4-9A6D87DD6C5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sources: consid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data sources may be inexpensive; research is unobtrusive and may be easy to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ential probl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y not represent the precise population the researcher wishes to stu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problems with the original data will carry over into the secondary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does not capture the “human side” of research questions as well as interview or observational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C26C-8055-4583-8F9B-5C03BE72266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angulation (or multiple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methods of data collection are used to increase the amount of data and the accuracy of fi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vey methods, field study, experimentation, and existing sources may be used in various combin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C5E1-37BF-49E7-B2CF-3AD59C6B392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ing (all metho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: a small group of people who are systematically chosen to represent the larger population being stud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s of s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resentative: accurately reflects the population being studied, so findings can be generalized to the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dom: every person in the population has an equal chance of being selected for the sample; the most common type of representative s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284B-F04B-454A-BF4C-F697AAC22A0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gning research &amp; collect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zing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oal is to determine relationships between the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s must be cl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er must choose most effective tools for analyzing relationships among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ussion with and criticism from other researchers aids accuracy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should be replicable, or capable of being repeated so results can be compa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253F-3339-4B84-8F8B-C6818936897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: Making sense of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uses scientific methods to expand knowledge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stematic use of theories and research methods makes sociology much more than guesswork or opi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D9B2-231C-45A5-B8C6-6009B9B6612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as underlying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searcher develops a report, includ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 of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analysis, which may include tables or figures that summarize th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: Are hypotheses supported by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s and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cial science no one study can definitively prove a hypothesis; instead, findings may tend to support or reject a hypothe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41FD-4CC6-4EFF-9559-F06C5F8872C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: Making sense of the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cal research is bound by ethical codes which generally require tha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subjects give informed consent to participate in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 are not harmed or put at ri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’ privacy is not invaded unnecessar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jects’ private information is prot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 findings do not cause h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 Subjects Review Boards at universities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research institutions help protect su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AF6C-6A71-463A-9012-F4F62FCE706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ical issues in social re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ociology: attempts to integrate sociology into communities in order to promote public debate and social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D5DA-1BDF-4343-8DCC-C5869F7E210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tting sociology to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thought before sociology: strongly influenced by religion and philosop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ociology arose in nineteenth-century Europe, influenced by several condi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nialism: exposure to other cul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ustrial Revolution &amp; French Revolution: desire to know how dramatic change could be systematically expl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ces in the natural sciences: desire to apply scientific method to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2CD8-75C4-4198-B2C7-7FEF0A59915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gust Comte &amp; the science of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ined the term “sociology” in 18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ought society’s problems could not be understood by philosophical or religious speculation; scientific knowledge w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ain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holds society togeth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ocial statics or structure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re change in society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ocial dynamics or proc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065B-5287-45A4-87A2-640CEE4F1BC5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sociology after Com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massive social and economic change brought by Industrial Rev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relationship between micro-, meso-, and macro-leve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rly sociological theorists: Emile Durkheim, Karl Marx, Harriet Martineau, Max Weber, and W.E.B. DuBo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of scientific method to test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105D-CBF1-4C65-9372-7C191122876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evelopment of soc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etical perspective: a basic view of society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uides sociological research and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n overall approach to understanding social behavior, social systems, and relationships betwee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micro- or macro-level; all can be used at the meso-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3EE1-36CC-4E95-8AF7-10A5F05DF6B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ology’s major theoretical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c interaction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social construction, interpretative the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id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interact on the basis of shared symbols to construct a meaningful world—which then serves as a basis for further inte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mphasize agency, individuals’ active role in constructing their social environments, or how their social positions shape their co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ects macro-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study concepts like “mind” and “sel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theorists: George H. Mead, the Iowa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89EA-27F6-4C51-B81E-2E099D7632B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to-Meso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ional choice the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r exchange theo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ide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ct by making rational, self-interested decisions that will maximize their rewards and minimize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 criticism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lects macro-level processes and micro-level, internal 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not easily explain altruistic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do not always act rationally or accurately assess their self-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774-F1B3-4B6D-B710-4E7DEEA4E23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-to-Meso level the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1:08:03Z</dcterms:created>
  <dc:creator>Deborah</dc:creator>
  <dc:description/>
  <dc:language>en-US</dc:language>
  <cp:lastModifiedBy>Stephanie Palermini</cp:lastModifiedBy>
  <dcterms:modified xsi:type="dcterms:W3CDTF">2017-07-03T18:30:15Z</dcterms:modified>
  <cp:revision>116</cp:revision>
  <dc:subject/>
  <dc:title>Chapter 2</dc:title>
</cp:coreProperties>
</file>