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4B24-6FB2-404E-BD4A-1BA3E2D0C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000E-C3F1-4C43-A49F-260E6AF2ADB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9C53-D29B-4F07-810B-1FBFED1D562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B515-9B0B-4B38-92E3-60106F1D6BB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8F87-A886-40CA-A8BA-909E835AA5A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CC7E-8E7A-4BE5-BD9D-6A303FDF5BE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B783-CDF1-4F7C-8AE1-E92424484BA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F19D-41FB-4A14-93DE-27FEA2C321D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5725-20A0-4979-B16B-D5E33918167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07BB-9122-452A-A38C-1B41B43ACE1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D1C3-7E30-4459-B580-33C9165658D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2EA1-6E38-4BC7-836A-32013F457D7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C737-995E-4101-8F4C-428E23DEF1B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6706-99FF-4749-B0CB-2A7107932CB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A9F7-EA5E-4D2F-90B3-59937BA29AC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EA7F-090A-428A-8BCD-FBF44E7A336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6758-4304-48A7-94D4-E59D6784315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A72D-4E26-4E0C-8D1F-6611C693DEB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B377-6C81-459D-B4BB-C9C555833D5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DC03-B4D8-4E98-BBC8-5B95FCD73A8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ere I cut the bit about the scientific method as it is not in the condensed ver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251D-F5A1-45AF-AB92-86E00111EEE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AD8F-7F5C-49CC-902A-2BF7D23D67A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F23C-64D8-4160-AC49-E85B507A0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0271-350E-428B-853C-BABE9B00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5AD3-B410-40E3-AAEE-5573B234D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D5B2-816C-4984-8DD1-5DC78F919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DBAB-EC38-473B-9920-CCBDC6CF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670E2-5CA4-4605-8FFA-7FA65FB3FFC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AECED-30E5-4E5C-AF0A-88812BA42EC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7FFAC-16FE-42B6-855A-044ACA19710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2E777-3412-4F23-B3A5-CE0DCA5ED3E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DE146-C3F3-4ABD-A48F-3F7B6CBFCA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A898-5DF2-412F-95BA-1962AAD4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A254B-4C2D-4B0F-B812-8B257211C30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528EE-0FBA-426C-8BA9-CB04CD1D6C2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8CB7A-8642-402F-8844-40DE0EF8DD8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BC1D3-B0F0-4375-8474-1172761ED30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C0915-6452-4B9F-8ABD-157F1F89DCB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FD1BA-C016-4BE1-8BBF-2C14B4DAA3B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6C0F6-E3DD-4D73-B805-60EB25874F9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B45D-2A09-4163-B70C-CEAB6BAA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E557-07FF-44A8-AC1D-17F6AA24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9C31-0740-419F-AB1F-830BB3C7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DEE8-B13E-4C2F-A64C-AB380C9E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1FDB-BE05-484E-9013-2AF62B8E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EEBD-A082-4D9E-A4E0-E0CDED9E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746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762120" y="3988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79160" y="1623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6212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979160" y="3988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4456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327000" y="1623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76212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4456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327000" y="3988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628C-2454-4653-9C91-B0D1717935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4"/>
          </p:nvPr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5"/>
          </p:nvPr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1739-45B5-45BF-8D8B-1733B57338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aring the social sci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study aspects of human behavior and social life, but each has a different focu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al anthropology: the culture or way of life of a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ychology: individual behavior and mental pro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itical Science: government systems and po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conomics: economic conditions and how people organize, produce, and distribute g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ology: human interaction, groups, and soci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sociolog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BC46-5B65-4B1A-90F7-B06943AD075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sential ingredients in sociological stud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observe what is happening in the social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s us to be more effective as we carry out our r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re to understand and explain why it is happening (i.e. High School Dropou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o sociologists do—and 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8F92-DE6E-48B1-8BFD-23A1AC876CB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practical rewards of sociological stud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f-awareness and self-improv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understanding of social situa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ive, systematic understanding of both domestic and global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ing of diverse cultural perspec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assess the impact of social poli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eciation of the complexities of social lif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ful ski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o sociologists do—and 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8F66-7BD5-41AE-8D8D-6BE3E1AE4CC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sociologists 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 in colleges and univers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ach, conduct 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 in social service organiz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ress interpersonal relations or deviant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 in busi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ress organizational needs or human resourc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 in govern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data for policy and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o sociologists do—and 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ACCF-12A9-4A9E-970D-BB2A989AD69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ful skills honed in sociological trai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ion &amp; interpers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alysis and 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ter/techn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sitivity to diversity and global understa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ing and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ptual, problem-sol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onal val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o sociologists do—and 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063D-82EE-434D-81FC-295B94C6C64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vels of analysis: size of the social groups being considered, from the smallest to the larg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ing sociology requires understanding multiple levels of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ocial world model allows us to picture levels of analysis in our social environment as an interconnected series of small groups, organizations, institutions, and socie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ortant question: How do the levels connect or conflict with one anothe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ocial world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5E39-42AC-406B-9518-46291B70916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ocial world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5" descr=""/>
          <p:cNvPicPr/>
          <p:nvPr/>
        </p:nvPicPr>
        <p:blipFill>
          <a:blip r:embed="rId1"/>
          <a:stretch/>
        </p:blipFill>
        <p:spPr>
          <a:xfrm>
            <a:off x="2514600" y="1289160"/>
            <a:ext cx="4038480" cy="5033880"/>
          </a:xfrm>
          <a:prstGeom prst="rect">
            <a:avLst/>
          </a:prstGeom>
          <a:ln w="0">
            <a:noFill/>
          </a:ln>
        </p:spPr>
      </p:pic>
      <p:sp>
        <p:nvSpPr>
          <p:cNvPr id="564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EE83-525A-49C8-AC33-4CCA46C94BB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Struc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units: interconnected parts of the social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structure: a particular combination of social units that orders our l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institutions: provide the rules, roles, and relationships to meet human needs and guide human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ional society: a population of people living in a specified area with a common political authority, many common ideas, and a social structure and instit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ocial world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7CA6-924D-4C2A-9443-E15FEF671F8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Proc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al processes: actions taken by people in social units. For exampl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of socialization: how we learn to be productive members of socie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of stratification: process of layering people on the basis of birth, income, or other fa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of change: every social unit is continually changing, and change in each unit affects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ocial world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E4AF-C9C6-49C3-8940-2248A3A9725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nviro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nvironment: the setting that surrounds and influences each social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 physical, organizational, or technological set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unit has its own distinctive environment, to which it must adj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understand a social unit, we must consider not only the structure and processes within the unit, but also its interaction with the surrounding enviro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ocial world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F2D3-7F39-4FFB-A182-D05D6834722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514240" y="190476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itle 1"/>
          <p:cNvSpPr/>
          <p:nvPr/>
        </p:nvSpPr>
        <p:spPr>
          <a:xfrm>
            <a:off x="1600200" y="2895480"/>
            <a:ext cx="64008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ahoma"/>
              </a:rPr>
              <a:t>Sociology: A Unique Way to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ahoma"/>
              </a:rPr>
              <a:t>View the Worl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Footer Placeholder 2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5098-B62B-4A06-A321-6BA89BCAB4C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ying the Social World: Levels of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ocial world can be studied at many level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-level (individuals and small group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ortance: micro interactions form the basis of all social organiz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o-level (intermediate size uni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ortance: helps explain relations among institutions, organizations, and large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ro-level (nations, global &amp; international trend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ortance: helps explain how larger social forces shape everyday lif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level adds depth to a top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ocial world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E896-B1D8-4124-9BA2-42A76946684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6" descr=""/>
          <p:cNvPicPr/>
          <p:nvPr/>
        </p:nvPicPr>
        <p:blipFill>
          <a:blip r:embed="rId1"/>
          <a:stretch/>
        </p:blipFill>
        <p:spPr>
          <a:xfrm>
            <a:off x="852480" y="1752480"/>
            <a:ext cx="8142120" cy="304812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ocial world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ooter Placeholder 7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Slide Number Placeholder 8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F52C-16E4-4CC2-9EF9-C0944B6473E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level of analysis would you use to examine each of the following question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couples divide housework responsibiliti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factors determine the percentage of women in political power in a certain countr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s the size of a school’s sports stadium matter for students who are choosing a colleg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ocial world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3032280" y="336600"/>
            <a:ext cx="405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48F4-2A57-4C16-A628-7CA1C8B6C3D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swer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three questions could be studied from any of the levels, or from a combination of lev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ocial world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6" descr=""/>
          <p:cNvPicPr/>
          <p:nvPr/>
        </p:nvPicPr>
        <p:blipFill>
          <a:blip r:embed="rId1"/>
          <a:stretch/>
        </p:blipFill>
        <p:spPr>
          <a:xfrm>
            <a:off x="988920" y="3218040"/>
            <a:ext cx="7775640" cy="1338120"/>
          </a:xfrm>
          <a:prstGeom prst="rect">
            <a:avLst/>
          </a:prstGeom>
          <a:ln w="0">
            <a:noFill/>
          </a:ln>
        </p:spPr>
      </p:pic>
      <p:sp>
        <p:nvSpPr>
          <p:cNvPr id="594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89D2-7892-4E70-AC4B-A34A3BC280B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mans are fundamentally social be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ocial world is not just outside us; we also carry it within 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take social patterns for granted as routine, ordinary, and expect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out socially shared expectations, life would be chaot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viduals and the social world mutually influence one an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is the social world importa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ooter Placeholder 5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Slide Number Placeholder 6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34A4-F5EF-4DEE-97DB-F1B455AFC0B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ology: the scientific study of social life, social change, and the social causes and consequences of human behavi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ologists ask questions such 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and how do people and groups interact with one another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are different groups or societies organized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they deal with conflict and chang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changes in one society affect other societi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sociolog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89BE-84A2-41C5-B873-E9F55BBF003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ologists study groups of all siz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yads (e.g. a romantic coup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all groups (e.g. a famil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 groups (e.g. the auto industr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ions (e.g. the US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global society (the world as an interdependent entit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sociolog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3433-C8F4-403C-8881-70A260C35B5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lying assumptions of soci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are social by n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live most of their liv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actions between people and groups are reciprocal: each influences the 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oups feature recurrent social patterns, ordered behavior, shared expectations, and common understand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lict and change are inevi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sociolog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AEC3-F69E-434F-AE10-C48E518E0F7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ology vs. Common Sen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on sense ideas seem sensible to any reasonable person; they are taken for granted and rarely question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sociolog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596E-FC0E-4D97-B9D6-AF31BC06A8CD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ociological imag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d by C. Wright Mills as understanding individual problems to be rooted in broader social or public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social factors influence layoff rates and personal experiences of unemployment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have social factors shaped the causes and rates of divorc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sociolog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BB13-6C0D-4756-81D4-8AD0B793128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762120" y="162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stions sociologists do and don’t 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ologists don’t ask questions that require philosophical or moral judg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ciologists do ask questions that can be studied objectively and scientif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 sociologists may study a group’s religious beliefs, but they do not make judgments about whether the beliefs are right or wro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lied sociologists conduct research to create change, for instance through social policy or by helping organizations solve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46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sociolog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3"/>
          <p:cNvSpPr/>
          <p:nvPr/>
        </p:nvSpPr>
        <p:spPr>
          <a:xfrm>
            <a:off x="1295280" y="6356520"/>
            <a:ext cx="647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Ballantine, Our Social World: Condensed 5e. SAGE Publishing, 2018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Slide Number Placeholder 4"/>
          <p:cNvSpPr/>
          <p:nvPr/>
        </p:nvSpPr>
        <p:spPr>
          <a:xfrm>
            <a:off x="82296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EFC6-058F-4A4D-889E-510CAED2880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22:26:17Z</dcterms:created>
  <dc:creator>nscrofano</dc:creator>
  <dc:description/>
  <dc:language>en-US</dc:language>
  <cp:lastModifiedBy>Stephanie Palermini</cp:lastModifiedBy>
  <dcterms:modified xsi:type="dcterms:W3CDTF">2017-07-03T18:21:38Z</dcterms:modified>
  <cp:revision>1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261033</vt:lpwstr>
  </property>
</Properties>
</file>