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2C1-DF45-4441-8E06-CEB02EAC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AEF-5FA2-4FE7-9EFF-928F7674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2B3-FD58-47A2-833D-14DDA9B9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1BA-8B83-4A82-A794-3A8A2CAC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A8D-A82B-4757-B44E-FED5355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A71-41CB-40BA-B346-A169A755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843-5FDE-429F-AFEE-FA8E8F3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F9D-1CA0-45D6-BCDC-048073FE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4A2-504B-4CB0-B1EF-B7D7C4F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34C-013D-4DCA-A4FE-1CEA5C6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65D-B380-4C8C-97C0-EDA460C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DD2-3CB8-4464-BA91-A0768F7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F63-F8EF-4620-B465-A9F40C18D7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4: The Process of Change: Can We Make a Differenc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systems theory: all societies today have been influenced by capit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 nations: economically and politically powerful; have controlled and profited most from world economic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ipheral nations: countries that provide cheap labor and raw materials for core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peripheral countries: in intermediate position between core and periphery, trading with bo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76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6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ld System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7248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"/>
          <p:cNvSpPr/>
          <p:nvPr/>
        </p:nvSpPr>
        <p:spPr>
          <a:xfrm>
            <a:off x="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  <a:ea typeface="MS PGothic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behavior and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ve behavi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disorganized group actions that often violate norms; arises when people are trying to cope with stressful situations or uncertain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wd behavior: collective behavior in which a crowd acts, at least temporarily, as a unified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s behavior: individuals communicate or respond in a similar manner to an ambiguous situation, often based on common information from the news or on the Inter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social movements, these forms of collective behavior lack a hierarchy of authority, a division of labor, and a sense of group a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i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inimax strategy (rational choice theory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are more likely to engage in behavior if they feel rewards outweigh co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ent norm theo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llective behavior often takes place in unusual situations where norms break down and new definitions of acceptable behavior emerge as people look to each other for cl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i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-added theo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ain conditions are necessary for individuals to join together in collec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conducive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str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read of a generalized beli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ng fa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bilization for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controls are wea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371600" y="35053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7104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4419720" cy="2676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4383000" y="3276720"/>
            <a:ext cx="4608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llective Behavi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collectiv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s (e.g., lynch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ots (e.g., Iraqi riots over lack of jo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ic (e.g., in fi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mors (e.g., urban lege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ds (e.g., tattoo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hions (e.g., music gen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rganizations Plan for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ed chan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berate, structured attempts, guided by stated goals, to alter the status quo of the social un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hange is desired; sometimes it is forced on the organization by external stres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cannot be fully predicted, as changes in one area may create problems in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for planning organizationa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 system mode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focus; goal is to move the organization closer to ideal bureaucratic efficiency and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35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uman resources or organizational development approach: organization participants should be involved in decisions leading to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system mode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 internal processes, which create outputs, with external environment, which creates inputs and feedbac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35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ews change as ongoing; all parts of organization and environment as linked; change in one part affects the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lanned Change in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577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Planne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rganizations must change within themselves to meet new conditions and attempt to bring about chang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s must try to avoid confli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7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s generally perceived as desirable if it is evolutionary or planned; unplanned change can be disrup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Proces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chan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52400" indent="-344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tions or alterations over time in the behavior patterns, culture (including norms and values), and structure of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s controllable, some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evitable and ubiquit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rapid or gradual and evolu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at one level often caused by change at anoth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33600" indent="-633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0" indent="-633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movemen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ciously organized attempts, outside of established institutions, to enhance or resist change through group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a common inte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an organization, leader, and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industrial or post-industrial societies where diverse groups advocate for their own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ually begun by an individual outside the power structure and focus on how resources are distribu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stimulate counter movements: social movements against the goals of the original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9810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liminary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the movement is 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rization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join efforts, define goals and strategies, develop recruitment tactics, and identify leaders; the social movement enters the public are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47960" y="198108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itutionalized stag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7720" indent="-203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becomes a formal organization, which gains members and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3760" indent="-203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gmentation and demise (in some cases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7720" indent="-203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breaks apart due to unmet goals, exhausted resources, or leadership that is inept, no longer legitimate, or co-opted by powerful mainline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tages of Social Move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120" y="15235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Movement 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ust share basic values, ideals, stat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 preexisting communications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ain and precipitating event galvanizes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leadership eme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develop a sense of efficacy and potential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5998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2400" indent="-212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ressiv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changing people, saving them from corrupt lifesty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refor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k to change some aspect of society, but members generally support society as a wh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olutiona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92560" indent="-2124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mpt to bring about total change in society by overthrowing existing power structures and replacing them with new 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istance or regressiv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 change as a threat to societal values, want to maintain status quo; try to protect existing systems or restore old 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transnationa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 place across societies and focus on large-scale, glob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0" y="1066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ypes of Social Move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v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ization and Social M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South countries are coming together to form social movements in response to unjust treatment by Global North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ization from below”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orts by common people to protect workers and the environment from profit-driven glob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35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actical application of tools, skills, and knowledge to meet human needs and extend human ab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4440" indent="-344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is closely linked to the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4440" indent="-344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cal revolutions have altered societies and created social div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1880" indent="-281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gburn: technological change is brought about by three proces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ove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way of seeing reality, created by an individual or small group (micr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n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ing existing parts, materials, or ideas to form new ones, often through the expansion of science (increasingly meso-lev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600" indent="-330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us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8360" indent="-330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pread of an invention or discovery from one place to another (involves macro and micro lev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and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: the systematic process of producing human knowledge; it uses empirical research methods to discover facts and test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applies science to solve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has become a major social institution in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industrial and postindustrial socie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ization: the creation of a stable pattern of roles, statuses, and groups that systematically meet needs for new resources an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institutions involve people, resources, specialized training, communication,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00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ic and applie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an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be a force for global integration or dis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lead to economic and political dis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can bring benefits to some, while harming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technological change affects inter-generational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Technology, Environment, and Chang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Individu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with wealth, charisma, expertise, or privileged position can bring about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ations use many strategies to persuade individuals to accept change, for example, appeal and persuasion, removing uncooperative individuals, using direct command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Institu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limate Change: an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ed to pollution and use of Earth’s natur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so-level phenomenon, though it affects people at all levels in the social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-level organizations have developed policies and practices to reduce emission of pollutants and change the way they use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Complexity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hange at the National and Globa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etal-leve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environmental shifts caused by one nation affect the entire world, but most nations do not want to change environmental practices for economic rea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systems and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etus for change comes from global organizations, national and international organizations and governments, multinational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international alliances based primarily on economic 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Soci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is trigger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7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l pressures for chan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1440" indent="-214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conflicting goals or belief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7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s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5840" indent="-272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pressures for ch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31440" indent="-214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natural environment, population dynamics, leaders or dominant individuals, technology, the social environment, or major historical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s actively construct meaning; re-definitions of reality can upset the status quo and be powerful impetus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seeking change must set up a situation in which new desired behavior is rewarded, or where peop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perceptions about the advantages and disadvantages of old behaviors are al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evolutionary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339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eties move slowly from simple to more complex fo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7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linear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76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societies progress through the same steps; advancement is defined as posi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7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lan and Lenski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(2008) five stages of societal progress: hunter-gatherer, horticultural, agrarian, industrial, postindustrial; no stages ar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,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ut pattern is typ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 of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ist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339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ies are mostly stable; due to interdependence, change in one part of society will affect other parts; change may come from outside or within; slow change may occur as societies become more complex, rapid change is potentially dysfun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339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ies are dynamic, change is inevitable; conflict between those in power and the oppressed will lead to changes that may be useful for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ocial Change: Processes and Theo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21:07:46Z</dcterms:created>
  <dc:creator>Amanda</dc:creator>
  <dc:description/>
  <dc:language>en-US</dc:language>
  <cp:lastModifiedBy>nmainardi</cp:lastModifiedBy>
  <dcterms:modified xsi:type="dcterms:W3CDTF">2015-06-03T17:58:11Z</dcterms:modified>
  <cp:revision>71</cp:revision>
  <dc:subject/>
  <dc:title>Chapter 16:  The Process of Change</dc:title>
</cp:coreProperties>
</file>