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DAB-C859-4959-A853-7B24B2FB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462-0A70-417E-8C43-738A977E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713-3F5C-4A3B-B0CD-50626C44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BA1-9E18-44B8-8CD6-D05C48B8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15C-2AF3-4A10-8A81-C69372F6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081-1FDB-4D3A-B4C6-5D0C487D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2BE-0BD0-454E-B428-7943A8DF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353-81F7-4EDD-BA1B-5DA48CB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F49-3525-47C2-BDC4-B60ADD4C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7D9-491B-4C2E-9CA5-B37E1234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F4F-D6CA-491C-93E4-96FD08BE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3A5-E56F-43CF-B075-C0BC49F9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2D77-66DD-4C9B-9947-4734EB4D69D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2"/>
          <p:cNvSpPr/>
          <p:nvPr/>
        </p:nvSpPr>
        <p:spPr>
          <a:xfrm>
            <a:off x="0" y="449568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3 – Population and Urbanization: Living on Planet Eart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143000" y="3352680"/>
            <a:ext cx="6934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0"/>
          <p:cNvSpPr/>
          <p:nvPr/>
        </p:nvSpPr>
        <p:spPr>
          <a:xfrm>
            <a:off x="457200" y="19051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6" name="Picture 11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876560" cy="52768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tiq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ls to consider several fact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ge at marri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raceptive avail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country’s land and resour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structure, religious beliefs, political philosop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176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s modernization results in rational choice about family size; instead, small families are due to economic development and urb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lth flow theory: decisions about family size result from two strategies: wealth flow from parents to children and vice ve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ealth flows from parents to children, family sizes are sma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children are working for their parents, family sizes are lar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53316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and structural factors built into the economic system, not automatic population growth, are the cause of pover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ist structures result in wealth for capitalists and create overpopulation and poverty for wor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ist societies can absorb population growth; all can find jobs as the system expands to include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Economic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decisions often rest on whether leaders believe that population growth slows economic development, since economic prosperity is a political go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s to slow population growth: improved sex education, access to contraceptives, and providing education and job opportunities, especially for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53352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spects of population chang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: overall number of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sition: characteristics such as sex ratio, age distribution, religious/ethnic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bution: geographic density or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graphic processes that affect popul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tility: birth 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tality: death 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ration: geographic movement of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088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fertility ra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factors: the relationship between fertility and poverty or prosperity is compl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natalist policies: encourage ferti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natalist policies: discourage fer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us and cultural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(especially for wom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ility of contra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0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 Affecting Fertility Rates: Wome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Edu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Picture 1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48560" cy="41148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Mortality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 expectanc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verage number of years people live in a particular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overall health conditions in a count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differences in mortality are caused by disease, poor health care, poverty, war and civil strife, draught and famine, malnutr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2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917960" cy="556272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troductory Te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052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ograph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tudy of human populations, including their size, geographic location, movement, concentration, and changing characteristic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refer to any society, group, or category of peo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low replacement level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pulation decrease since there are fewer births than de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pulation momentu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pulation increase due to large numbers of bir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rbaniz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3081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ement of people to ci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Migration an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sh-pull mode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eople are pushed from their original locations by wars, plagues, famine, political or religious conflicts, economic crises, or other factors, and pulle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new locations by economic opportunities or political and religious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14479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Migration an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migration: movement within a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banization, or rural to urban migration, is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d by job and housing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ly displaced persons: forcibly relocated within their own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052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Migration and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migration: movement from one country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d by political unrest, war, famine, natural disasters, economic conditions and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been tightly controlled in Western countries, but immigration is still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bed by restrictive immigration laws in receiving countries and by economic re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ugees: those who flee in search of refuge from war, political oppression, or religious persecu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Policy: Population and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Institutional Infl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Population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by boom and baby b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the population influenc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b prosp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irement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er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anc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Urba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rbaniz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move from rural to urban locations, where they hold mostly non-rural occup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undergo a change in lifestyle in the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rbanization accompan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erniz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ormation from traditional societies to bureaucratized st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strializ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ormation from agricultural and handmade goods to manufacturing indust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Urba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088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are locations that provide resident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to l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nse of identity and belo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ghbors and 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ities and social invol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basic necessities such as food, jobs, schools, and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nies’ two community extrem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meinschaf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, traditional communities characterized by families and personal relationships and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ellschaf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, impersonal urban areas characterized by formal relationships, contracts and a money economy, and isol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088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kheim’s Two Types of Social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solidar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held together by shared beliefs, values, and traditions, homogeneity of thought; typical of rural areas and simple soc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system emphasizes moral or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c solidar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ety held together by an interdependence among people with a specialized division of labor; common in complex soc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system emphasizes making amends for wrongdo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ral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minant for much of human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ral area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wer than 1,000 people per square m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% of the U.S. population lived in a rural area in the year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ral sociolog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udy of social life in non-metropolitan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ization: Movement from Rural to Urba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, more than half of all people live in urban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00-60.4 % of Americans lived in rur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-19.3 % of Americans lived in rur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orld Population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growth has resulted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thinking ability, which allowed successful competition for survival of the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gricultural revolution led to food surplus and longer life-sp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ustrial revolution led to improved health and sanitation measures, bringing the death rate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in the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residential patter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ghborhood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able areas within the larger metropolitan a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most needs of residents: food, schools, reli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idents are homogenous with respect to income, interests, ethnicity or race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degree of social interaction among res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mbolic commitment, feeling of belo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urb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eas immediately adjacent to the city, extending beyond the city lim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lationships in C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mel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192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timulation and economic relations of urban life cause city dwellers to be insensitive and avoid intense relations, to protect their priv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ffman’s civil inattention: elaborate ways of pretending not to make cont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th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in high-density, heterogeneous areas develop coping mechanisms, including sophistication and deperson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scher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rban life strengthens social groups, diversifies subcultures, and encourages intimate social circles among those who share similar activities or tra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ities as Micro-Level Living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0880" y="11430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organizational struc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ories of urban develop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icago School theor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es grow in a series of circles, moving out from the center; each circle is dominated by a particular type of activity and residential patt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183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constantly occur in cities: residential segregation; invasion by a new ethnic, religious, or socioeconomic group; succession by that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theori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rban space is socially defined and scarce, causing conflict over its allocation; cities are dominated by elites who create poverty and exploitation of the poor; urbanization and modernization are a cause of pover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0880" y="12189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ily commercial centers motivated by competition; developed around factories, transport and communic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industrial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er on service sector, not manufacturing; closely tied to global capitalism and instant information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ized n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in which more than half of the population live in urban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towns”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es built from scratch by urban planners as economically self‑sufficient entities with all necessary amenities (New tow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trific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w-income areas that see increases in income and housing prices, often due to middle- and upper-class people buying and renovating rundown proper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flict theorists point out that the poor are displaced and exclu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gaciti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es with more than 10 million peo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galopopli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ea where two cities merge along a major transportation corrid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How Did Cities Evol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294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urban vari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genous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itional cities that usually predate European ones; centers include a bazaar and religious and government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al citi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rn, Westernized "colonial" central cities located next to a traditional, indigenous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Urban Problems, Environment, and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perspectiv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ral migrants and overcrowding (shantytow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vironment, infrastructure, and urban eco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verty in the world’s c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nent underclas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lobal poor who lack education and skills to join local and world econo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minization of pover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 of women and their children in the ranks of the impoveri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ime and delinquency in the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Planners and Social Policy: Global Tr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banization will conti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and transport technology will increase contact and reduce commitment to specific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boundaries will diminish in impor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es will rely on brain, not brawn, which will continue to increase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s between cultural and political groups will continue to affect urban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cDonaldization, or creation of consumer worlds dominated by Western food, music, fashion, and entertainment, will conti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Urban Problems, Environment, and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orld Population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189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ors of population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cy ratio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 how many people contribute to the labor force and how many depend on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19120" indent="-39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th dependency rat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419120" indent="-39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ged dependency rat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rati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s the number of women eligible to give birth and the number of potential spo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pyramid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isual depiction of sex and dependency rat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53320" cy="5334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orld Population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thus’s theory of pop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re driven to reproduce; if no checks are imposed, the population will increase exponentially, resulting in food shor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checks on population growth: war, disease, food shortage or fam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thus also suggested delaying marriage and practicing abstinence until one could afford a family (contraception was not yet vi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08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thus’s theory of pop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tiques of Malth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not anticipate role of capitalism in population dynamics, for example, encouraging excessive consum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not anticipate increased productivity of modern agricultural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w abstinence as main way to prevent births; did not recognize the potential for contrace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does not result inevitably from population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thus’s Theory of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o-Malthusia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pt much of the theory, but with some mod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ze that individuals’ personal goals are not always consistent with the social goal of managing population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vor contraception over “moral restrain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ze that much environmental damage is caused by corporate pollution and excessive consumption, not population grow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r 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graphic Transition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mpts to explain why economic and social changes alter the population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s three stages of develop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1: High birth and death rates balance out over time; the pattern for much of human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2: High birth rates remain but deaths decline due to advances in health, sanitation, food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3: Low birth and death rates, low population growth; the pattern in most industrial and post-industrial socie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Explaining Population Patterns: Theor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0:53:57Z</dcterms:created>
  <dc:creator>Deborah J Barr</dc:creator>
  <dc:description/>
  <dc:language>en-US</dc:language>
  <cp:lastModifiedBy>nmainardi</cp:lastModifiedBy>
  <dcterms:modified xsi:type="dcterms:W3CDTF">2015-06-03T17:25:23Z</dcterms:modified>
  <cp:revision>54</cp:revision>
  <dc:subject/>
  <dc:title>Chapter 15:  Population and Urbanization</dc:title>
</cp:coreProperties>
</file>