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</p:sldIdLst>
  <p:sldSz cx="9144000" cy="6858000"/>
  <p:notesSz cx="90789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B213-45C1-4F97-8CEF-A21E6C25B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912E-60A5-4248-8937-F4BB4B185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E73E-21B1-428D-B0C5-FD645EF3E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98AE-9416-40C1-B975-398B1A726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5AAE-4FC5-41AB-A876-350A024BD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B716-8316-45F8-A78F-FAC105844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DBC8-96D6-4AA3-B790-CA57BE5D3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DB53-7536-4F99-9305-995FA8F2B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488F-681E-4D6F-8017-13E00882B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FCF1-6394-40FC-99C8-9FAA233F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92EF-38EB-4580-9D0D-1028FD29B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8E8F-E088-4E8C-A551-2CBE3315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D93AA-C3B8-4C22-97FE-48F667F30776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7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374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15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56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97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6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87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28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69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210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251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292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333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6" descr="K:\SagePub\HigherEd\EdAcq\Books\Our Documents\EdAcq\Nicole Mainardi\PPTs\Gaby\BallantineCond4e\chapterslid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7" name="Rectangle 2"/>
          <p:cNvSpPr/>
          <p:nvPr/>
        </p:nvSpPr>
        <p:spPr>
          <a:xfrm>
            <a:off x="0" y="4343400"/>
            <a:ext cx="91440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dee8"/>
                </a:solidFill>
                <a:latin typeface="Calibri"/>
              </a:rPr>
              <a:t>Chapter 12 – Politics and Economics: Probing Power and Dissecting Distribution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 txBox="1"/>
          <p:nvPr/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cro-level perspectives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nflict Theory and the Power Eli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nflict theorists believe that the state protects the privileged position of the few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ower elite theory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ule of society by a small group of elites is inevitabl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chels’ “iron law of oligarchy”: leaders’ influence over who succeeds them allows ongoing elite power and abuse of powe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. Wright Mills described the U.S. power elite as cohesive and interlocking, enabling it to make key political, economic, and social decision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ories of Power and Privileg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 txBox="1"/>
          <p:nvPr/>
        </p:nvSpPr>
        <p:spPr>
          <a:xfrm>
            <a:off x="38052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cro-level analysi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litical systems influence our personal lives in a variety of way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ividuals also impact government through political participation, such as vot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ividual political participation is affected b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re people fall in the stratification sys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ir perceptions of their power in relation to the st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Footer Placeholder 1"/>
          <p:cNvSpPr/>
          <p:nvPr/>
        </p:nvSpPr>
        <p:spPr>
          <a:xfrm>
            <a:off x="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Rectangle 4"/>
          <p:cNvSpPr/>
          <p:nvPr/>
        </p:nvSpPr>
        <p:spPr>
          <a:xfrm>
            <a:off x="838080" y="0"/>
            <a:ext cx="8305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Rectangle 2"/>
          <p:cNvSpPr/>
          <p:nvPr/>
        </p:nvSpPr>
        <p:spPr>
          <a:xfrm>
            <a:off x="0" y="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Individuals, Power, and Participatio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 txBox="1"/>
          <p:nvPr/>
        </p:nvSpPr>
        <p:spPr>
          <a:xfrm>
            <a:off x="457200" y="13712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cro-level analysi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icipation in Democratic Proce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ology and political attitudes affect how people think about power and particip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do we believe about . .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ower of individuals vs. state powe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qual distribution of resources versus allowing those with high ability or inherited status to receive more wealth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ther change is desirabl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Rectangle 2"/>
          <p:cNvSpPr/>
          <p:nvPr/>
        </p:nvSpPr>
        <p:spPr>
          <a:xfrm>
            <a:off x="0" y="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Individuals, Power, and Participatio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 txBox="1"/>
          <p:nvPr/>
        </p:nvSpPr>
        <p:spPr>
          <a:xfrm>
            <a:off x="609120" y="13712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icro-level analysi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articipation in Democratic Process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evels of participation in politic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majority of people in the world are uninvolved in the political proces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ack of opportunity in non-democratic count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democratic countries, apathy and alien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articipation can include voting, contact with government representatives, involvement in local and national campaigns and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.S. voter turnout is second lowest of the Global North democraci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Rectangle 2"/>
          <p:cNvSpPr/>
          <p:nvPr/>
        </p:nvSpPr>
        <p:spPr>
          <a:xfrm>
            <a:off x="0" y="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Individuals, Power, and Participatio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 txBox="1"/>
          <p:nvPr/>
        </p:nvSpPr>
        <p:spPr>
          <a:xfrm>
            <a:off x="533160" y="14479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so-level analy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so-level political institution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te or provincial governments, national political parties, large formal organization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so-level political institutions influence and are influenced by other institutions such as the family, education, religion, health care, and the econom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Power, Privilege Within Nation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 txBox="1"/>
          <p:nvPr/>
        </p:nvSpPr>
        <p:spPr>
          <a:xfrm>
            <a:off x="457200" y="14475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so-level analy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urposes of Political and Economic Institu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 functions of meso-level political and economic instit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maintain social contr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serve as an arbiter in dispu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protect members of the gro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represent the group in relations with other group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plan for the future of the gro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provide for the needs of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Power, Privilege Within Nation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 txBox="1"/>
          <p:nvPr/>
        </p:nvSpPr>
        <p:spPr>
          <a:xfrm>
            <a:off x="457200" y="12193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so- and Macro-Level Systems of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 and Distribu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litical institution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1500"/>
              </a:spcBef>
              <a:buClr>
                <a:srgbClr val="000000"/>
              </a:buClr>
              <a:buFont typeface="Calibri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termine and exercise power relations in socie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conomic institution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1500"/>
              </a:spcBef>
              <a:buClr>
                <a:srgbClr val="000000"/>
              </a:buClr>
              <a:buFont typeface="Calibri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al with production and distribution of goods and serv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litical and economic institutions are interrelate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th sets of institutions affect power rel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Power, Privilege Within Nation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 txBox="1"/>
          <p:nvPr/>
        </p:nvSpPr>
        <p:spPr>
          <a:xfrm>
            <a:off x="457200" y="12193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so- and macro-level analysi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ypes of Governmen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uthoritarian system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gimes headed by dictators or military leaders who hold absolute power, with little room for citizen involv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talitarian states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un by a single group or party based on a specific political ideology; the state controls many aspects of life such as work and the media; dissent is discouraged or elimin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te terrorism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rror used by a state to control its own citizens or those of another n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Power, Privilege Within Nation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 txBox="1"/>
          <p:nvPr/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so- and macro-level analysi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inant Types of Political Syst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mocratic system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t least two political parties compete for power in elections; government is accountable to citizens, who have significant control over their own lives. Other featur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itizens participate in selecting the govern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ivil liberties are guarante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overnment powers are limited by a constitu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overnmental structure and process are spelled out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Power, Privilege Within Nation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 txBox="1"/>
          <p:nvPr/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so- and macro-level analysi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inant Types of Political Syst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mocratic systems, co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ms of democratic governmen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arliamentary (e.g., Great Britain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esidential (e.g., the United Stat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ypes of representat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portional (e.g., many European countri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inner-take-all  (e.g., the United Stat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Power, Privilege Within Nation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th political and economic system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force the distribution of power in socie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litical systems involve power relationships between individuals and larger social institution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conomic systems produce goods and services and distribute them unequally, giving some citizens more privileges than oth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Politics and Economic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 txBox="1"/>
          <p:nvPr/>
        </p:nvSpPr>
        <p:spPr>
          <a:xfrm>
            <a:off x="457200" y="13712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eso- and macro-level analysi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ominant Types of Economic Syste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rket systems (capitalism)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ress individual planning, private property, profit-making through free competi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pply and demand let some profit, others fai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deally, little governmental oversight is needed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rkets ensure sufficient production, distribution, qua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rkets reward innovation, resulting in growth and prosper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rxist critics claim capitalism creates class inequality, exploitation, conflict, and revolu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istorically, in most Western capitalist countries, labor unions and laws have emerged instead of revolu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ther critics: profit trumps human dignity and valu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Power, Privilege Within Nation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 txBox="1"/>
          <p:nvPr/>
        </p:nvSpPr>
        <p:spPr>
          <a:xfrm>
            <a:off x="380880" y="1294920"/>
            <a:ext cx="8382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eso- and macro-level analysi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ominant Types of Economic Syste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lanned systems (communism, socialism)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te-based planning and control of proper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duction is planned with communal good in mi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deally, each individual contributes to and receives benefits from the 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dious jobs are shared, so individuals have time to focus on humanistic and culturally important aspects of lif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itique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 system has eliminated all private property and privile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cing both economic and political power in government hands gives too much control to the fe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Power, Privilege Within Nation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 txBox="1"/>
          <p:nvPr/>
        </p:nvSpPr>
        <p:spPr>
          <a:xfrm>
            <a:off x="457200" y="1218960"/>
            <a:ext cx="81532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so- and macro-level analysi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inant Types of Economic Syst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xed economies (democratic socialism or welfare states)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llective or group planning of societal developm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viduals can pursue self-interest within lim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ustry is privately owned but regulated; public services are government controll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mocratic political system, public account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axation used to redistribute income and pay for education, health, pensions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blems: a relatively new form, can be both productive and cumberso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Power, Privilege Within Nation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 txBox="1"/>
          <p:nvPr/>
        </p:nvSpPr>
        <p:spPr>
          <a:xfrm>
            <a:off x="380880" y="144792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-level analysi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 and the Nation-St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ion-state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political, geographical, and cultural unit with recognizable boundaries and a system of govern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nation-state and nationalism are relatively recent; they emerged in the 16th centur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day the entire world is divided among more than 200 nation-stat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National and Globa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Systems of Governan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 txBox="1"/>
          <p:nvPr/>
        </p:nvSpPr>
        <p:spPr>
          <a:xfrm>
            <a:off x="457200" y="14475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-level analysi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volutions and Rebell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volution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ocial and political transformation of a n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ccurs when nation fails to fulfill expected responsibilities and new leadership emerges to challenge existing reg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ten viol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ually results in altered distributions of pow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National and Globa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Systems of Governan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 txBox="1"/>
          <p:nvPr/>
        </p:nvSpPr>
        <p:spPr>
          <a:xfrm>
            <a:off x="380520" y="16002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eso-macro political conne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te/provincial governments and national political parties: less encompassing than the federal government but still influence national political proc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National and Globa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Systems of Governan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 txBox="1"/>
          <p:nvPr/>
        </p:nvSpPr>
        <p:spPr>
          <a:xfrm>
            <a:off x="380880" y="129492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cro-level analysi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lobal Interdependencies and Politic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pendency and world systems theorists point out inequality between rich core countries and developing peripheral countri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rowth of democracy in peripheral countri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ccurring in some are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an be aided, but not imposed, by foreign pow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me preconditions may be economic well-being, lack of extreme inequality, pluralism, strong middle class, market economy, tolerant culture, literacy, influence of world system of democratic stat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National and Globa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Systems of Governan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 txBox="1"/>
          <p:nvPr/>
        </p:nvSpPr>
        <p:spPr>
          <a:xfrm>
            <a:off x="380520" y="1600200"/>
            <a:ext cx="8458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-level analysi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olence on the Global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r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med conflict occurring within, between, or among societies or gr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metimes called “organized mass violence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frequent but not inevitable condition of human existe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National and Globa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Systems of Governan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 txBox="1"/>
          <p:nvPr/>
        </p:nvSpPr>
        <p:spPr>
          <a:xfrm>
            <a:off x="457200" y="12193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-level analysi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olence on the Global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y do nations go to wa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aders use moral, religious, or political ideology to legitimize war, though causes may lie elsewhe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unctional theorists believe underlying social problems cause system disruptions, including wa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me also see war as functional for social integra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flict theorists see war as the outcome of oppression by the ruling elite and/or attempts to overthrow that oppress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 example, businesses profit from w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National and Globa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Systems of Governan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 txBox="1"/>
          <p:nvPr/>
        </p:nvSpPr>
        <p:spPr>
          <a:xfrm>
            <a:off x="304920" y="114264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cro-level analysi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iolence on the Global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ow can nations avoid war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terrence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17000" indent="-2034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me argue that if a nation is militarily strong, no one will dare attack 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424160" indent="-2034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istical evidence shows that deterrence does not reduce the chance of w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424160" indent="-2034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remely expens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424160" indent="-2034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s created a “military-industrial complex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egotiation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17000" indent="-2034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 of discussion to reach agre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424160" indent="-20340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problem is that negotiation means a partial win—and a partial loss—for each sid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National and Globa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Systems of Governan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 txBox="1"/>
          <p:nvPr/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ost common social science definition of power comes from Max Weber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wer is the ability of people or groups to realize their own will in group action, even against resistance of others who disagre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What is Power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 txBox="1"/>
          <p:nvPr/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-level analysi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olence on the Global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rrorism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use of indiscriminate violence to cause mass fear and panic, intimidate citizens, and advance a group’s political go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ually refers to acts of violence by private, non-state groups with revolutionary political goa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e terrorism: government use of terror to control peop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rrorists come from all political orientations: anarchists, nationalists, religious fundamentalists, members of ethnic grou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ffective because terrorist strikes seem random, so governments have no clear way to respond as terrorists groups are hard to loc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National and Globa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Systems of Governan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 txBox="1"/>
          <p:nvPr/>
        </p:nvSpPr>
        <p:spPr>
          <a:xfrm>
            <a:off x="456840" y="13712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cro-level analysi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iolence on the Global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errorism (con’t): without understanding the underlying causes, we can do little to prevent 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ultural explanations cite religious and political beliefs that encourage “we vs. they” thinking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ructural explanations help us understand when conditions are right for terrorism, for example, when conflict between societal systems is already high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flict theory explanations emphasize the unequal distribution of world resources and the oppression of particular group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National and Globa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Systems of Governan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 txBox="1"/>
          <p:nvPr/>
        </p:nvSpPr>
        <p:spPr>
          <a:xfrm>
            <a:off x="380880" y="121896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e arenas of pow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nation-state attempts to control individual behavior throug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hysical control and coerc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mbolic control and manipul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ules of condu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wer is the ability to influence interactions and organiz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rxist perspective: power includes control of economic resources and production, which allows the dominant class to maintain ru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What is Power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 txBox="1"/>
          <p:nvPr/>
        </p:nvSpPr>
        <p:spPr>
          <a:xfrm>
            <a:off x="457200" y="12189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icro-level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ower is operative in social interac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eso-level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ower also operates i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ity, county, state, and national decisions about resources and regul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arge bureaucratic organizations, corporations, ethnic or minority grou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cro-level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lobal systems of power include international organizations such as the United Nation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Rectangle 2"/>
          <p:cNvSpPr/>
          <p:nvPr/>
        </p:nvSpPr>
        <p:spPr>
          <a:xfrm>
            <a:off x="0" y="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2f2f2"/>
                </a:solidFill>
                <a:latin typeface="Calibri"/>
              </a:rPr>
              <a:t>Multiple Levels of Power and Privilege</a:t>
            </a:r>
            <a:endParaRPr b="0" lang="en-US" sz="3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 txBox="1"/>
          <p:nvPr/>
        </p:nvSpPr>
        <p:spPr>
          <a:xfrm>
            <a:off x="457200" y="15238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cro- and meso-level perspective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Legitimacy of Pow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action theorist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cus on how symbols and constructions of reality allow some people to assume power, and how they generate loyal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cro-level socialization instills belief in the legitimacy of reigning authoriti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ories of Power and Privileg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304920" y="12193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cro- and meso-level perspective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Legitimacy of Pow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x Weber’s contribution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ber distinguished between legitimate and illegitimate pow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uthority, or legitimate power, is recognized as rightful by those who are subject to i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legitimacy of a government’s power is measured b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ther the state can govern without the use or threat of forceful coercion, an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ther challenges to state authority are processed through normal channel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ories of Power and Privileg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 txBox="1"/>
          <p:nvPr/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cro- and Meso-level Perspective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Legitimacy of Pow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ber’s contribution, co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ree ways leaders gain legitimate powe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728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ditional author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728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rismatic author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728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tional-legal authority—most common tod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three are legitimate forms of power because the people being governed give their cons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ories of Power and Privileg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 txBox="1"/>
          <p:nvPr/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cro-level perspectives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unctionalism and Pluralist Theor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unctionalists believe that citizens legitimize political systems because they serve important functions in societ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luralist theory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wer is distributed among various interest groups so that no one group ru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litics involves negotiation and compromis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ving multiple power centers offers the best chance to maintain democratic forms of govern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ories of Power and Privileg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6T18:57:35Z</dcterms:created>
  <dc:creator>Deborah J Barr</dc:creator>
  <dc:description/>
  <dc:language>en-US</dc:language>
  <cp:lastModifiedBy>nmainardi</cp:lastModifiedBy>
  <dcterms:modified xsi:type="dcterms:W3CDTF">2015-06-01T22:45:11Z</dcterms:modified>
  <cp:revision>52</cp:revision>
  <dc:subject/>
  <dc:title>CHAPTER 13: Politics: Penetrating Powe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131033</vt:lpwstr>
  </property>
</Properties>
</file>