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90789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90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4"/>
          </p:nvPr>
        </p:nvSpPr>
        <p:spPr>
          <a:xfrm>
            <a:off x="5143320" y="-360"/>
            <a:ext cx="39351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282528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907560" y="3257640"/>
            <a:ext cx="726444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6"/>
          </p:nvPr>
        </p:nvSpPr>
        <p:spPr>
          <a:xfrm>
            <a:off x="5143320" y="6513120"/>
            <a:ext cx="39351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73D9-0AF0-4AC5-9A4F-57836C5C9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07560" y="3257640"/>
            <a:ext cx="72644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5143680" y="6513480"/>
            <a:ext cx="3935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1DAC-4644-42E6-9257-22532067E9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F16-7347-4C13-92F6-5714453A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586-DDBF-43A2-982E-8C1A9319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1A3-F9D4-4EA2-851A-937FB9C6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C6F3-1BD4-4AD6-B4DB-B257E0C7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09AA-438E-4821-A69A-29C00529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13CC-B8B9-4B8D-A35C-A2C72A1F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944-C2D1-46A6-9064-9C4E43F5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FEE0-77C8-4483-932B-985AF747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5BB-55C2-436D-95F8-A228DE0C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6546-AD72-4625-A8E1-6510A378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75E-D2F7-4245-90DA-40CD232F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46E-65AB-4F7C-B730-A61A0B38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9300-3C69-4DEA-A030-C2DA32DD8B3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"/>
          <p:cNvSpPr/>
          <p:nvPr/>
        </p:nvSpPr>
        <p:spPr>
          <a:xfrm>
            <a:off x="0" y="3962520"/>
            <a:ext cx="9144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11: Religion: The Social Meaning of Sacred Meaning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1143000" y="3505320"/>
            <a:ext cx="6934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n and Modern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raditional societies, religion is not separate from other social instit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omplex societies, religion is distinct, but influences and is influenced by other instit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ominant religion generally supports the political system and ideology of the dominant group, and is related to economic, education, family, and health syste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systems can exert pressures on relig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and Modern Lif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5684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ypes of Religious Associ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nominations: have legitimacy but not a religious monopoly; have clear hierarchies and trained leadership; support the state; members more privileged than disenfranchi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s: form in protest against parent religions; separate from other religious and social groups; claim monopoly over religious truth, often demand total allegiance of memb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 religious movements (cults): splinter or protest groups that become new religions rather than denominations; often started by charismatic leaders, often persecu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and Modern Lif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igion and social institu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ocracy: rule by God; religious leaders rule in accordance with God’s presumed wis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te religion: a religion that has some autonomy but receives government sup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governments have prohibited reli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ivil religion: a set of beliefs, symbols, and rituals that pervade secular life and institutions, endorse what the nation stands for, and strengthen the belonging of citiz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 in complex societies with diverse reli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and Modern Lif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1"/>
          <p:cNvSpPr/>
          <p:nvPr/>
        </p:nvSpPr>
        <p:spPr>
          <a:xfrm>
            <a:off x="0" y="129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ligion and other institutions: Poli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9" name="Picture 1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and Modern Lif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457200" y="12189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igion and other institu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c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x Weber: analyzed the relationship between Protestant beliefs and the growth of capital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dest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“calling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f-denial and delayed gra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igion led to a shift in cultural values, which transformed the economic syste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links between religion and econom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and Modern Lif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533520" y="16002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unctionalist Persp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gion has positive consequences for socie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motes social cohe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gitimates social values and n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change: religion can help maintain the status quo or chang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acro-Level Theories of Relig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684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nflict Perspec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nks religion to stratifica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34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ligion can reinforce socially defined differences in a way that legitimizes prejudice and inequa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lass basis of religi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34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rl Mar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ligion perpetuates the current power structure by acting as 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opiate of the masses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34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 Weber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ive affinity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belong to religious groups that espouse values compatible with their social cla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acro-Level Theories of Relig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nflict Perspective, c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igion, racial bias, and gender prejudic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religions have discriminated against some group at some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religions reject race discrimination formally, but members practice it informal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religions legitimate treating women differently and/or as inferiors; often women cannot attain high positions in religious hierarch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igion can reinforce ethnocentr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igion has also been a force for greater equa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acro-Level Theories of Relig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56840" y="12189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religion declining or revitalizing in North Ame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gion and spirituality remain integral to people’s liv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ligious makeup of the United States and Canada are changing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line protestant denominations are losing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ngelical Christianity is g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new religious groups are fo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in the Modern Worl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n and Secula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lariza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minishing influence of religion in everyday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ligion isn’t the dominant institution, but one of ma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vement away from the supernatural and sacred in favor of logic and empirical eviden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larization varies across social leve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remain religious, but . 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- and meso-level organizations use secular policies and procedures,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lobal level is highly secu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in the Modern Worl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s give meaning to life, death, suffering, injustice, and events beyond our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guidelines, beliefs, and values that separate right from wrong; important in controlling everyday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s individuals define re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crilizes (makes sacred) aspects of our culture, making them unquestion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kheim’s “sacred realm”: the dimension of life separate from the mundane world, which elicits awe and f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es Religion Do for U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n: Contributor to war or pea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religious meaning systems advocate peace and harmo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 systems may foster “we vs. they” thinking that draws large numbers and promotes financial vitality, but undermines pe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Religion in the Modern Worl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0520" y="1218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nents of Reli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ing syste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8920" indent="-330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aith or worldview that provides a sense of meaning and purpose in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onging syste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8920" indent="-330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et of interpersonal relationships and friendship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 syste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8920" indent="-330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table pattern of roles, statuses, and organizational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es Religion Do for U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nents of relig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ing System (micro lev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s and symbols that provide a sense of purpose in life and help explain wh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ffering, injustice, and evil exi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a “big picture” explanation for chaotic and irrational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gious meaning systems vary with the needs of each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es Religion Do for U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533520" y="12193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nents of relig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onging System (micro-meso leve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remain in religions because they feel they belong in the friendship and kinship networks, not just due to mean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ligions that have grown the most recently are those that have fostered a sense of belonging, for example, by encouraging endogamy or marriage within the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es Religion Do for U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533520" y="12189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onents of relig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uctural System (meso-macro level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igions require some system of control and screening of new revelations; otherwise, meanings would become too individualize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ed religious leaders have authority to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pret theology and define essentials of the faith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ise funds and ensure continuation of the gro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survive, religions must be institutionaliz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utinization of charism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established roles, statuses, groups, routines, bureaucratic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es Religion Do for U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57200" y="14479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cro-level analys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do individuals become religiou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igion is mostly learned through family socializ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means: within a temple, church, or mos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l means: observing others practice their fa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ividuals usually change religions first on the belonging level, and later on the meaning and structural leve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is more fluidity in religious membership now than ever before, though religions try to gain members’ commit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Does Religion Do for U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80880" y="11426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ymbolic Interactionist Persp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erned with how people make sense of things and construct their world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9480" indent="-259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ths: stories embodying ideas about the wor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9480" indent="-259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tuals: group activities that reinforce my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23160" indent="-219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thopraxy: conformity of behavi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23160" indent="-219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thodoxy: conformity of belie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9480" indent="-259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bols: anything that can stand for something el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23160" indent="-219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gious symbols often stand for elements of a transcendent realm that cannot be directly experienc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23160" indent="-219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mbols are used extensively in rituals to represent my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ic interactionists focus on how symbols, rituals, and myths influence perceptions of rea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icro-Level Theories of Relig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6840" y="11430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Rational Choice Perspec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ople who can choose their religion decide by weighing costs and benefi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s include financial contributions and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efits include salvation, belonging, and mea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economic model of behavio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urchgoers seen as consumers; churches as entrepreneurial establish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igions produce rituals, meanings, etc. to meet consumer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religion is chosen, there is a competitive market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icro-Level Theories of Relig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22:26:10Z</dcterms:created>
  <dc:creator>Deborah J Barr</dc:creator>
  <dc:description/>
  <dc:language>en-US</dc:language>
  <cp:lastModifiedBy>nmainardi</cp:lastModifiedBy>
  <dcterms:modified xsi:type="dcterms:W3CDTF">2015-06-01T22:24:22Z</dcterms:modified>
  <cp:revision>59</cp:revision>
  <dc:subject/>
  <dc:title>Chapter 12: Religion</dc:title>
</cp:coreProperties>
</file>