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3A7-7480-4DD0-8509-9FB6764A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FDE-22E2-4574-974F-4C9B2E00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D547-AC07-4506-AB9F-B48CD112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1E4-355C-4529-A9E3-02E619B9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B029-2B08-48BB-B371-3BB15927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FE8-BC34-4C0D-BB0C-4FA3BD77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52BB-234C-4205-8C05-F3997C62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0BAF-C419-4DCE-A94A-E5F47D05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FEC9-5CCF-422C-BC23-59DA6381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0BBE-4B8F-4C9F-B46D-6CFAAF06F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D75-642A-4054-BE9E-BEAC3CF4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3DF6-1A57-4869-9F55-F0753C8B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5C1-7D99-499F-BED6-3725D7B5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FB4-BE24-4DF7-A290-B73D9D064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A2CC-D8DC-4ADF-AAB1-C98B0A89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BF70-4EA8-4016-9010-B63249F1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8EA-7CBB-43F9-AFCD-801D5877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4E0-EC23-41A2-9FFA-F4E27B53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717-CE5A-45E9-9BBC-C2F4A61E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705-9968-4CE0-919C-76546934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566-D3B7-4914-9F0E-0E1341BA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F58-ED56-4E70-8B97-26AC39B0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CE4-E6D3-41DA-A8ED-36EA9224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F84-0EA3-4191-A509-D45B5EAF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92EE-B505-4072-893C-8348D23D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3027-0F7A-4509-B426-07E6D654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137-A0AF-4563-BAE4-F5394CAA9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EBCD-9C77-4820-AF40-8B4979F5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231-7E94-4141-9227-40082FC1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C3A-6C53-4AA7-8A68-8A6A8E9C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66-823D-40C7-A96B-5B28D0CF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84B-10E1-4AB6-8080-BC8AD48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969-FA35-46D7-A5C9-0ECCD198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F9C-55C2-46F9-A79A-6786240B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00-0691-4C1B-B119-B20EF24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1FD-E1CA-4593-B2D0-629BD12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0C5-A5CB-4B50-A817-B96AADD6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28B-F063-48B6-9536-923DD90F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38A-0081-42F1-BB9A-1F5B203A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A38-7246-4A7D-A958-9B64575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603-B457-4555-A6B4-3190498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44A-9F17-40D2-A6CD-6626371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AFC-5A6A-4DA3-86EF-F4718754148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0" y="43434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e8"/>
                </a:solidFill>
                <a:latin typeface="Calibri"/>
              </a:rPr>
              <a:t>Chapter 7: Stratification: Rich and Famous—or Rags and Famin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within societies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provides each individual with a position in the social wor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ratification system motivates individuals to carry out their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 result, each individual contributes in some way to the maintenance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 Theory,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vis and Moore 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ositions are more highly valued because people feel they are very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ards for these positions are high because society must motivate talented individuals to undertake the necessary but difficult preparation for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 rewards for positions result in unequal distribution of resources; stratification 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-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ification is the outcome of struggles for dominance and scarce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and groups act in their own self-interest, taking advantage of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—between those trying to hold onto existing advantages and those trying to gain new advantages—is inev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Marx, an originator of conflict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d during a time of economic change which prompted him to question 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d distribution of wealth in capitalist societies as based on what people can take, not what they need, want, or 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x described two economic class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lict arises from struggle between clas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italists control the means of production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x’s Conflic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ists remain in control 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ontrol the norms and values of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ir power to make inequality seem “fair” and just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ystem will last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orking class develops class consciousness, or shared awareness of the causes of their low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may be aided in this by intellect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class consciousness, the working class will overthrow the bourgeoisie and create a classless society in which wealth is sh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Weber’s Conflict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conflict theorists argue that there are 5 social cla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914400" y="4724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495680" y="4724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der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 and Macro Level The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Theory of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urvive people must cooperate, but conflicts occur when important decisions advantage one group over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d items are always in demand but short supply; struggle over these scarce items is lik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shapes the distribution of scarce resources, but after basic societal needs are met, power determines distribution of sur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Theory of Stratification,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sis of functionalist and conflict the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functional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lented individuals need to be motiv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the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s will attempt to control as much wealth, power, and prestige as possible, resulting in potential confli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oitation contributes to creating ine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of inequality depends on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nequality is useful, too much can be harm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lev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Life Ch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fe chances: one’s opportunities, which depend on achieved and ascribed stat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factors affecting life chan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, social conditions, and life expect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laver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: When an individual or a family bound in servitude as the property of  person or household, bought and sold, and forced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stimated 30 million people are slaves (women and children from poor families in poor countr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trafficking has claimed 20.9 victims worldwide as of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328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 are often used as slave labor in factories an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ndividual Social Statu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: one’s attitudes, values, beliefs, and behavior patterns, which depend on socialization into one’s culture and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ffecting lifesty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itudes toward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life and child rearing patte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us memb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involv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cro-Meso Conn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M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mobility: the extent to which people move up and down in the cla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issues dominate analysis of mobi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s of measuring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s that affect social mo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there is a “land of opportunit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Soci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compared to parents’ status, usually resulting from education and occupational attai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al mobility: change in status within an individual’s life, whether up or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 mobility: movement up or down the stratification hierarchy, sometimes including a change in social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asuring Social Mo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method: compare the occupations of fathers and sons or daught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n’s and women’s occupational attainment is powerfully influenced by class orig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Individual Mo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level fac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background, socialization, marriage, and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-leve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population trends and economic vi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r, race, ethnicity, and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dependent global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se factors are interre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a “land of opportunity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mobility across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identify opportunity-rich countries due to the complex factors that influence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for upward mobility are changing due to glob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facturing jobs are now in developing countries, leaving less-educated US workers with fewer opport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 has high-tech jobs, providing opportunity for those from small, educated families that value individual 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Mobili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Stratifica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ribed stratification systems: individuals’ positions in society are determined by characteristics they are born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ed stratification systems: individuals earn their positions through ability and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te systems: the caste one is born into determines one’s occupation, potential marriage partners, residence, group memberships, and presti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ividual’s caste is recognized through clothing, speech, family name, skin color, othe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learn their caste through so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016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crib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te systems: one is born into the nobility, the political-military elites, or into the peasantry, whose labor supports the e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receive protection and enough food to survive from the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s are tied to a noble’s land and are rarely able to become independent land-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s and rights are clearly spell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9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stem is bolstered by arranged marri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d Status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lass system: social class is defined by property, power, and prestige; it is officially achieved, but actually inherited 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: income and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: ability to control or influence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ower Elite vs. Pluralism mode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tige: recognition, esteem, respect given those whose occupation and lifestyle are socially valu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members share similar lifestyles, education, culture, and interaction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35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ratification: individuals and groups are layered or ranked in society according to how many valued resources they poss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3160" indent="-3427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ngoing process of sorting people into layers, legitimated by cultural beliefs that justify in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Social Classes in the United States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0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eople in the U.S. identify as “middle class” or “working clas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p between the richest 1% of U.S. households own more wealth than all of the bottom 90% comb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267080" y="979560"/>
            <a:ext cx="44960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lute poverty: not having sufficient resources to meet basic survival needs (food, shelter, clo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no prestige, power, or accumulated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poverty: having an income below the poverty line, and an inadequate standard of living relative to others in the sam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35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poorer health, shorter life expectancy, greater infant mortality than others in the sam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Poverty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Determinants and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minization of poverty: trend in which single females, often young and with children, make up a growing proportion of those in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poor women grew up in female-headed families or suffered economically following div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alent in and around major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ming the vict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340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perspective: poor women comprise a reserve group of cheap, easily exploited labor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tional and Global Digital Di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divide: the gap between those with and without access to information technolo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from differences in socioeconomic status, minority group status, and urban versus rural resi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with insufficient computer and internet access or skills face barriers to many professions and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and private organizations are developing low-cost technologies that may help level the digital playing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 Importance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stratification assum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divided into ranked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red resources are unequally distrib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ociety determines how individuals are ranked, depending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of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al philos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5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of those in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2949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tige and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, power, and prestige are accorded to individual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: knowledge and access to importa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apital: networks with others who have infl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qualities also influence cultural and social capi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es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status is shaped by access to resources and reinforced by the family through so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treatment by educational, religious, political, and other institutions often depends on our status, and also reinforce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experiences of life are shaped by our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acro-Level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-level influences on stratific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s and resources within a particular cou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of that country within world systems of economic stra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520" y="1219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ic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take up social positions through socialization, in which they learn the appropriate cultural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capital influences children’s school and home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positions are represented by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picuous consumption: displaying goods in a way that will be noticed and will earn the owner res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ies of Stratification</a:t>
            </a:r>
            <a:endParaRPr b="0" lang="en-US" sz="4000" spc="-1" strike="noStrike">
              <a:solidFill>
                <a:srgbClr val="f2f2f2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make decisions influenced by their perception of costs and benef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take this view, one needs a sense of delayed gratification—delaying rewards or benefits until a lat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are willing or in a position to do this—living austerely now in order to experience prosperity later—may be more likely to have upward mobility and to experience greater affluence at a later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nmainardi</cp:lastModifiedBy>
  <cp:lastPrinted>2009-04-22T19:24:48Z</cp:lastPrinted>
  <dcterms:modified xsi:type="dcterms:W3CDTF">2015-06-01T21:04:53Z</dcterms:modified>
  <cp:revision>68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