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078-F126-4F07-880B-D03E1A96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050-BFE6-4AE6-AFC9-7D7811C0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A39-04CF-4475-943C-F92B61DC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27B-9883-4FA3-8066-D0D0B7C8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76A8-0931-4E90-AEA7-46F5A8E7DF0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275E6-8F91-435C-9E0B-B4B29CDF5B3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B2B30-A60A-4D0D-A756-86E27A554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1B2A0-0A89-494B-8B5A-C1518AD949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8E624-99C9-4629-BD07-F1A75A40971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CAA3F-56EE-43FE-8E7B-CB8787F195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3C5B-BF82-4817-B120-2D37FC46355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3779E-63FE-4333-A2CA-B2B0E7A10A7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8EC8-3AD4-4651-BC16-F47EC69017D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1EFDF-AE25-409C-BED7-3640ABC5C8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3FAAD-D0CE-42D4-BA18-93DB9660881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86A7B-BCF0-4B22-AA96-9945F918A5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63A-D25B-4E52-9B62-ED7DC4D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B0F-F265-4741-980C-DBB54D6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84E-DF5D-4F7B-BEE1-D37A3B0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4BC-BC08-46B0-9831-7F295E8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858-9857-4815-8B15-712F59E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B7B-4223-4FDA-A490-A36FB181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D03-0163-4FD5-8A5C-399420A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B53-3187-4C28-B94F-9DE9749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A5E9-053C-47DA-86E0-5494C3F77EA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60E5-7BA1-49B7-9226-ED6D7370C04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ahoma"/>
              </a:rPr>
              <a:t>© SAGE Publications, Inc. 20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K:\SagePub\HigherEd\EdAcq\Books\Our Documents\EdAcq\Nicole Mainardi\PPTs\Gaby\BallantineCond4e\master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8"/>
          <p:cNvSpPr/>
          <p:nvPr/>
        </p:nvSpPr>
        <p:spPr>
          <a:xfrm>
            <a:off x="457200" y="6477120"/>
            <a:ext cx="830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Ballantine, Roberts, and Korgen. Our Social World: Condensed, Fourth Edition. © 2015 SAGE Publ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6" descr="K:\SagePub\HigherEd\EdAcq\Books\Our Documents\EdAcq\Nicole Mainardi\PPTs\Gaby\BallantineCond4e\chapter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2"/>
          <p:cNvSpPr/>
          <p:nvPr/>
        </p:nvSpPr>
        <p:spPr>
          <a:xfrm>
            <a:off x="0" y="45720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7dee8"/>
                </a:solidFill>
                <a:latin typeface="Calibri"/>
              </a:rPr>
              <a:t>Chapter 6 – Deviance and Social Control: Sickos, Perverts, Freaks, and Folks Like U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Theory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 norms, we conform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controls: voices within that tell us when a behavior is acceptable or unaccep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rnal controls: society’s formal or informal controls against deviant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control occurs when we derive more benefit from conformity than dev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3520" y="13716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 and Meso-Level Explanation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 Functionalist Theories: focus on anomie and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Theories: focus on social inequality and power strug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996920" y="88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deviance helps society beca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s examples of unacceptabl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s behavior necessary to maintai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ds people together through common rejection of deviant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work for those who deal with dev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s social problems that need to be addressed and thereby creates positiv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s society to creative new ways of thi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mie and social disorganization can cause abnormally high levels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e: a breakdown of norms caused by lack of shared, achievable goals or lack of socially approved means of achieving thos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mie is likely in conditions of rapid urbanization, war, or economic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1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another source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n: frustration resulting from gap between socially shared goals and access to legitimate methods of achieving those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n causes some people to turn to deviant ways of achiev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-Functionalist Theory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n: five ways of adapting (Mert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ormity: embracing society's goals and adhering to approved means of achieving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: using illicit means to reach approved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tualism: strict adherence to social rules, but with no hope of achieving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eatism: giving up on both the goals and the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0280" indent="-27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ellion: rejecting socially approved goals and means and replacing them with alternative goals and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: retreatism, rebellion, inno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320" indent="-328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8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94760" cy="48006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Theory of Devi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ance results from power struggles between socially unequal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tes use deviance to maintain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have the power to define as deviant activities and groups that threaten their interests or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crime and deviance, we must alter the structure of society, making it more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ultilevel Analysis of Deviance: Feminist The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en are often victimized or defined as deviant due to secondary social statu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 status results from structures such as the gendered division of labor, separation of public and private spheres, and socialized gender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are less often in a position to commit crimes, and women’s crimes differ from men’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ltural attitudes toward crime against women differ based on the status of women in the soci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Individ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Crime and individuals: Micro-level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crime is t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icult to estimate because not all crime is reported to po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 levels and trends are examined using rates per 100,000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multiple methods of measuring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What is Devian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ance: the violation of social n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dev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iance is socially constr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s may be deviant in one time and place but not in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or status may be defined as dev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Individu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rime is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orm Crime Reports - F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I crimes: murder, rape, robber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II crimes: fraud, simple assault, vandalism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reported criminal participation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reported victimization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ethod has flaws; triangulation of data leads to the most accurat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ypes of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atory or street crime: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s against individuals or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ctimless or public order crimes: criminal acts committed by or between consenti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lict crimes: not everyone agrees acts ought to be criminal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te crimes: criminal offenses motivated by the offender’s bias against a particular social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te crimes are committed on the basis of religion, ethnicity or race, national origin, gender, and sexual orientation and are often under-rep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o-level ana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s involving organizations &amp;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d crime: on-going criminal enterprises that aim to obtain personal economic gain through illegitimate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erarchically organized; rely on violence,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inent in societies undergoing transition and/or anomie, and among marginalized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include sale of illegal goods and services; infiltrating legitimate businesses; extor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national organized crime takes place across borders and is an increasing 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rime and Organiz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es involving organizations &amp;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or white-collar crime: violation of the law committed by an individual or group in the course of legitimate, respected occupational or financial activity (medical fraud-Medicare and Medic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s of occupational cri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companies (employee the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employees (wage thef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mes against th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cro-Level Analysi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National &amp; Global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orism: premeditated, politically motivated violence against noncombatant targets by subnational groups or clandestine agents, usually intended to influence an aud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domestic or inter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many types of terroris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organized crime: criminal acts committed by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complicity in smuggling, assassination, torture, eavesdropping, accepting bribes,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5720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68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national comparis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e rates vary across societies due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cultur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different levels of stigma, or disapproval attached to disobeying laws and norms (Jap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levels &amp; causes of economic in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ncome inequality increases, so does cr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tions in overall economic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ational &amp; Global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Crim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Crime: acts that violate international laws, treaties, and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crimes involving transnational conglomerates that smuggle illegal goods, or nations that violate environmental agre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 systems theory: sees the cause of global crime as economic inequality and competition betwee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ism has increased inequality between core and periphery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iphery nations may resort to unconventional means to meet their go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riminal Justic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al-functionalist perspective: the justice system is important for maintaining order i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should focus on deterring dev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 perspective: the justice system supports the powerful by depicting crime as a threat from poor people and mino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should focus on the injustices of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0880" y="1294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5080" indent="-325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sons and J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institutions: completely control prisoners’ lives and regulate all their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mates’ lives are changed throu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gradation: marks inmate as devi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2720" indent="-270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tification: breaks down inmate’s original self as he/she experiences resocializ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gid social systems develop within pris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ils as “catchall” asylums for the poor, marginaliz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080" indent="-325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. incarceration rates have increased due to “get tough” poli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Comparative Incarceration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2f2f2"/>
                </a:solidFill>
                <a:latin typeface="Calibri"/>
              </a:rPr>
              <a:t>Crime: Deviance that Violates the Law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e: deviance that violates laws and is punished with formal penal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w: a type of norm that reflects opinions about what is considered right and wrong in a particular socie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ensus crimes: members of society agree about the seriousness of the deviant 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lict crimes: members of society disagree about the seriousness of the acts, and/or the law disadvantages a particular gro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urposes of pr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the functional perspective, prisons serve many purpos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enge or retrib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ing dangerous people from soci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r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habili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ever, the recidivism rate is hi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than half of all men who do time in prison will be confined again for a cr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ggests deterrence and rehabilitation functions are not working very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ons and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sons can be a source of jobs for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risons are now operated by for-profit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izations of prisons has grown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ts are found through inmate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56840" y="13716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ath Penalty (or Capital Punish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controversial method of cont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 argument for the death penalty is that it deters others from committing cr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ies suggest this is not the case; however, the death penalty does serve as re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ath penalty is most common in Asia, the Middle East, and parts of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evidence that the death penalty is race and class bi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yland became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 in 2013 to abolish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2f2f2"/>
                </a:solidFill>
                <a:latin typeface="Calibri"/>
              </a:rPr>
              <a:t>Controlling Crime: Policy Considera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What Causes Deviant Behavior:</a:t>
            </a:r>
            <a:br>
              <a:rPr sz="3400"/>
            </a:br>
            <a:r>
              <a:rPr b="0" lang="en-US" sz="34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-Level Explanations of Devia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onist Theories: focus on relationships and mea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 Choice Theories: focus on individual choices, costs, and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94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ist Theorie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how others shape one’s definition of what is normal and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how society defines some acts as dev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deviance-related symbols and how they affect the 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ic Interactionist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Association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es on how we learn deviant and criminal behavior from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associating with others who engage in crime and have criminal valu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learn how to commit cr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minal behavior is reinfor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ility of becoming deviant depends on duration, intensity, priority, and frequency of time spent with deviant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mbolic Interactionist Theor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beling Theor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viduals and behavior become deviant because they are labeled as such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ies define behaviors as deviant and impose san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im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solated) deviance—actors are not labeled devi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onda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ngoing) deviance—actors are label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ing labeled reinforces deviant behavi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iance becomes a self-fulfilling prophe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ose with less power and status are more likely to be labeled as deviant (link to conflict theo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 of Dev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ake choices about deviance based on costs and benefits to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sanctions: rewards (benefits) for socially approved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ative sanctions: punishments (costs) for breaking social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occurs when costs of deviance are higher than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ishment should impose high costs for criminal behavior, as a dete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Theoretical Persp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ional Choice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Contro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nds encourage us to adhere to n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re bonded to society in 4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tach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mit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nventiona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activities that keep them bu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li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social rules of their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3:57:51Z</dcterms:created>
  <dc:creator>Deborah J Barr</dc:creator>
  <dc:description/>
  <dc:language>en-US</dc:language>
  <cp:lastModifiedBy>nmainardi</cp:lastModifiedBy>
  <dcterms:modified xsi:type="dcterms:W3CDTF">2015-06-01T20:30:19Z</dcterms:modified>
  <cp:revision>80</cp:revision>
  <dc:subject/>
  <dc:title>Chapter 6: Deviance and Social Control:</dc:title>
</cp:coreProperties>
</file>