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7B7E-51C3-4108-836F-F1F936241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69C4-3069-4A63-98B2-AA9150B84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170C-9514-49F3-89EC-8B22DA91B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6973-A2B6-4534-A9D7-040C9DF05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D7A5-31DA-468F-BD91-DC492767B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BBDA-244F-4506-A949-0CE0682F4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1A40-E010-4173-A42D-6B6A0C89F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DE73-0A84-4276-BD67-CFCA50B09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5F5F-DD7D-4418-AFFF-15411F44E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9482-AFD1-44DE-ACB5-1D036A515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891A-3846-4809-95E0-AD8560689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19EB-59D2-4A77-B677-148AC2AF7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8779-32D4-464A-9DFD-1496EAB1B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904C-D51F-4159-89FD-0BE748797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13ED-C723-474F-A43E-1D164600C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9899-3591-4D4A-AAA8-F39326377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644B-FC8D-457B-8939-135A299EF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3D7F-6C46-4BB7-9F07-05FD1D930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3F64-52F0-4D7C-A707-33B269125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748B-2EEA-456A-97DD-1378777F1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26F7-FA23-472D-B228-AA9456ED2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2E9C-23FA-44BD-9305-88E3CB7D6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3BB6-A266-41EB-93F6-9CC7580E4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C6B0-7176-4D34-93C0-060256ADB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D678-96D0-473C-BC4A-12BE4D3B4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896E-E090-4A7B-8B24-632C8CEB3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854-8F43-4337-BF9E-7109A28D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E0D-383E-4BA0-A08A-B2453EAC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11D-4A94-4A22-A3EC-4DB93EA5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35A-6E2B-43BA-B6B0-64A7B86C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B11-686E-4BF4-8EFF-575B1E7B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685-75E5-4E12-BCF9-57E8C8E9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06F0-E400-4C57-9528-D1D30859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A75-0582-4B26-8492-A1E75F97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261-587E-4C88-85BA-E1B1623B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3A4-E1BA-42F4-BBFB-0D157C60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E42-AC51-4162-9422-EFD9B1D0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7A7B-0577-4F8A-BE80-EFB3F974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EDE5-23C6-4735-92EB-C45C2F19AA7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"/>
          <p:cNvSpPr/>
          <p:nvPr/>
        </p:nvSpPr>
        <p:spPr>
          <a:xfrm>
            <a:off x="0" y="434340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dee8"/>
                </a:solidFill>
                <a:latin typeface="Calibri"/>
              </a:rPr>
              <a:t>Chapter 5: Interaction, Groups, and Organizations: Connections That Wor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teraction: 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09480" y="152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ic Interaction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es on how people interpret interactions and manipulate others’ interpre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93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Dramatu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teraction: 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12189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5520" indent="-33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ic Interaction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maturg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zes interaction as if it were a staged play with audiences, parts, scripts, props, and set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perform different parts for different audi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learn parts and scripts through so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ession management”: we attempt to convey a positive, advantageous image of oursel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nt stage” behavior: public, scripted, presents an image we hope others will take as r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k stage” behavior: we relax, let feelings s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Status: The Link to Grou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5335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5520" indent="-335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statuses: positions that individuals hold in the social worl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uses define how we interact with oth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action differs according to whether participants are of equal or unequal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us set: an individual’s combination of stat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cribed status: a status that is assigned at birth and does not change during an individual’s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hieved status: a status that is chosen or earned by decisions one makes or by personal 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ter status: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’s most important status, that takes precedence over other stat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943680" cy="510516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Status: The Link to Grou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The Relationship Between Status and Ro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880" y="1371240"/>
            <a:ext cx="83822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8240" indent="-318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s: the expected behaviors, rights and obligations associated with a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315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le behaviors are part of our culture, learned through so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315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les and statuses link us to others in the social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315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ations for a particular status depend on the statuses of those the individual is interacting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uses can be formal or infor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uses connect us to meso- and macro-level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ole Strain and Role Confli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80520" y="137160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 strain: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nsion between roles within one stat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 conflict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lict between the roles of two or more stat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7" descr=""/>
          <p:cNvPicPr/>
          <p:nvPr/>
        </p:nvPicPr>
        <p:blipFill>
          <a:blip r:embed="rId1"/>
          <a:stretch/>
        </p:blipFill>
        <p:spPr>
          <a:xfrm>
            <a:off x="3943440" y="1295280"/>
            <a:ext cx="4841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Groups: The Micro-Meso Conn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5335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: two or more people who interact with each other because of shared interests, goals, experiences, and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bers have a sense of belo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bership is well-def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rules for members’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Not all collections of people are groups!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form through a series of ste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 inte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ergence of a collective g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empts to expand collective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2f2"/>
                </a:solidFill>
                <a:latin typeface="Calibri"/>
              </a:rPr>
              <a:t>The Importance of Groups for the Individua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33520" y="137160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kheim’s Study of Suic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ed how groups impact individual behavior by comparing different groups’ suicide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 conditions leading to suici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goistic suicide  – bonds tying individuals to the group are too w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mic suicide – the group lacks norms or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ruistic suicide – bonds tying individuals to the group are too str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Grou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533520" y="15238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mary group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ose, personal relationshi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se of belonging, caring, identity, loyal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 influence on behavi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mall membership, lasting relationshi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intrinsic value: belonging is the go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724280" y="15238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ary group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al, impersonal, businesslike relationshi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ist to accomplish a task or go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cialized tasks and  commun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rge membership; may be short or long-ter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Grou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09120" y="15998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ence group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act as role models for one another and establish standards against which members measure their condu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-group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feel a sense of loyalty and belonging; often a reference and/or a primary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-group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that exists in competition with or opposition to an in-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Networks &amp; Conn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89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11040" indent="-311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networks: sets of relationships between individuals, groups, and/or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1040" indent="-3110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, meso-, and macro-level network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2840" indent="-25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iends and fam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2840" indent="-25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civic, sports, and religious organiz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2840" indent="-25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umni groups, political parties, subcul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2840" indent="-25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2840" indent="-258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ent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040" indent="-3110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ay the Internet influences our net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6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40840" cy="48006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Organization and Bureaucra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2f2f2"/>
                </a:solidFill>
                <a:latin typeface="Calibri"/>
              </a:rPr>
              <a:t>Modern Organizations and Their Evolution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rn organizations: formal, rational, bureaucratic; originated during industrialization in the 1700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organizations: complex secondary groups formed to pursue and achieve certain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ionality: the attempt to reach maximum effici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reaucracy: a specific type of large, formal organization that attempts to maximize efficiency by establishing formal relations, clear procedures, and stated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ntrast: traditional organizations are run on the basis of custom or whi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The Evolution of Modern Organization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37160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cDonaldization of society: increasing dominance of organizations characteriz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cy maximized by sam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ictability, nothing left to ch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ulation of every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control over customers and employ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McDonaldization lead to dehumaniz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haracteristics of Bureaucra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684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x Web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ied growth of bureaucracy in the 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ed “ideal types,” or conceptual mod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al type bureaucracy characteristic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ision of labor based on technical compet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ministrative hierarch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rules and regul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ersonal relation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mphasis on rationality and effici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sion of life-long care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reaucracies also have an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nformal structur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unwritten rules and relationshi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ssues in Bureaucra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3520" y="1523520"/>
            <a:ext cx="81532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s of bureaucra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enation: workers with boring, dead-end jobs feel uninvolved, uncommitted, unappreci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ligarchy: concentration of power in a small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ron law of oligarc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al displacement: original purposes are displaced by new, secondary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Macro-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2360" indent="-342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&amp; Global Networ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2360" indent="-3423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transportation and communication systems, including the internet, are generating global networ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2360" indent="-3423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national corporations make their own rules, without oversight bodi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Profit, efficiency, and calculability are highly priz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360" indent="-3423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tional and international organizations are governed through rational, bureaucratic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0160" indent="-2844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 groups rebel against these structures, resulting in global confli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Networks &amp; Conn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5520" indent="-335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tworks connect us to society and place us within larger social struct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tworks can create opportunities for their members, but also generate obligations that limit members’ freed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ividuals’ access to networks differs by their gender and other characteris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5040" indent="-278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fferences in access to opportunity-enhancing networks are one reason for persistent inequ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520" indent="-335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Process of Inter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interaction consists of two or more individuals purposefully relating to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 creates micro-level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interaction has three compon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on go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ocial context governed by n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ction, goal, and context help us interpret the meaning of the inte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Elements of Social Inter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35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assume that others will share their interpretations of a 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d interpretations include situational norms, which create cues for appropriat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ion (verbal and non-verb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 norms and expectations are learned through soci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Elements of Social Inter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on includes verbal and non-verbal commun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n-verbal communic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s using facial expressions, the head, eye contact, body posture, gestures, touch, walk, status symbols, and personal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verbal communication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ally specif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rned through so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in all cul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Elements of Social Inter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3316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8760" indent="-33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al space: an example of non-verbal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mount of personal space people need varies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3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al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3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3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3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contex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al space communicates social po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3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in higher positions have greater control of physical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3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der dif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Elements of Social Inter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533520" y="12952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tegories of Social Distance in the U.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timate d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0-18 inch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vate and affectionate relation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ersonal d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18 inches-4 fe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iends and acquain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cial d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4-12 fe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ersonal business re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ublic d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12 feet or mo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 speaking, especially in formal settings or with high-status spea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teraction: 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533160" y="12952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1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ional Choice Theory (or Exchange Theo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ships are formed and maintained based on individual rewards and cos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7076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teraction is sustained when its benefits are high and costs are 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s that our choices about intera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7076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based on calculations of self-interest (current or eventual payof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7076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guided by rea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70760" indent="-328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 expectations of reciprocity (individual contributions will balance out over ti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20:14:11Z</dcterms:created>
  <dc:creator>Deborah J Barr</dc:creator>
  <dc:description/>
  <dc:language>en-US</dc:language>
  <cp:lastModifiedBy>nmainardi</cp:lastModifiedBy>
  <dcterms:modified xsi:type="dcterms:W3CDTF">2015-06-01T19:04:09Z</dcterms:modified>
  <cp:revision>63</cp:revision>
  <dc:subject/>
  <dc:title>Chapter 5: Interaction, Groups, and Organizations: Connections that Work</dc:title>
</cp:coreProperties>
</file>