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D41A-96A5-4653-A642-9967CF018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F210-E4C4-438C-A3F0-3011052A83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B168-0D3D-4027-83CB-D625A4E9FD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A33D-5BB0-4277-AF87-5F6D065BFB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1FBB-B5BB-47EB-9189-6249238AC9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74D5-B913-4C89-A37C-2A6F4FD9D8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F22A-A895-49BE-816F-2BEE596C47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78EF-239A-4C45-A0AA-0A9D321AEF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6AF3-2883-471F-9B09-F06AB7E0CB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A719-453C-4264-944B-AAAABCA420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0833-474B-4F92-9DF6-EA1B3FA93A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DBE4-953D-4181-B6C5-E4F667259E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0587-9A7D-46DF-8BD0-A01F16F0D0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5821-6873-418A-BDC3-FD96B245A2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7AA4-5CD4-45F0-BA77-0C80DF5CAB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9402-25FA-460F-AE7D-665C605C6A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5A8E-35EE-413B-8A64-57D2998338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F516-EF86-496F-9FCC-8344E58602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8F09-E45A-4A5A-9AF3-2D914B653C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1E26-B028-4141-A91A-9A85008510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978-342C-4888-9494-7E98A586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4B8-96AB-4063-B668-31E52279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ED0-C1A2-4C3D-994D-AEEDA1F9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7BE-BE54-4BBF-9B6C-F2D9108A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ABDD1-3B53-4EDC-9268-5D852D03E6A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1719C-4F8A-450E-9422-F1BADC7043F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0B413-BA39-491B-97C6-B9793F63D4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911D2-FD49-470A-9660-514D8A5CBC8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92C40-E259-4E42-B38F-95DCEB5C460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E6EFA-8081-420F-8392-53E969EFF7E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B3FCF-8630-4F8C-BF72-25A9E1AC74B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4323B-6771-4BAD-AE9F-37292460E6C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0EBD7-0CBB-4E20-AC38-DA1144A6A8A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37723-89D9-49D4-B536-0512E98A9D1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3FC64-0426-4208-B537-6D4C5F34A8B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CFB74-9486-4F5C-83AC-E78C084C2E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9F5-9223-4F95-B862-CC75AC26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C5D-C19B-4403-A6DE-F6C7914C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8AA-500F-4120-B1CB-87AEAEAC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2E6-421D-4B69-99B8-FEC87500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CF1-178D-4B5E-B1BF-FFD52D17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681-197C-4D8F-91EC-24AE8FCC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80B-751F-4FFB-A9EA-3A31922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656-7FD0-4DF3-951A-D30AD108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ED8F-6C09-49E4-8A3E-02AC15F89A6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3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34B0-950B-491D-B4BE-24908597905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2"/>
          <p:cNvSpPr/>
          <p:nvPr/>
        </p:nvSpPr>
        <p:spPr>
          <a:xfrm>
            <a:off x="0" y="441972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4: Socialization: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Becoming Human and Human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arts of the Sel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68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d’s Parts of the Sel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I”: spontaneous, unpredictable, impulsive, acts without considering social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me”: the reflexive part of the self, formed through role-taking, that knows the rules of society and attempts to control and direct the “I” into socially acceptabl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me” requires the ability to take the role of others, anticipating others’ re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Stages in the Development of the Self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3712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d’s Stages of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itation: child observes and imitates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: children play at taking the roles of significant others, but do not understand complex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e: children take the roles of multiple others concurrently &amp; the role of the generalized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d other: a composite of social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behavior comes to be governed by abstract rules, children can enter into novel social are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The Self and Connections to the Meso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0880" y="1295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8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Iowa School of Symbolic Interac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sense of self is rooted in our positions within social organizations and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develop a relatively stabl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re sel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or sense of who we are regardless of immediate setting, based on our most important social pos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have a vested interest in the preservation of the organizations and institutions that contribute to our social positions and sense of s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ization Throughout the Life Cyc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648320" y="1295280"/>
            <a:ext cx="3962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tes of passage occur at most s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4160" indent="-323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tes of passage: public celebrations or recognitions of passage from one status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34160" indent="-323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t because they impact others’ perceptions, self-perceptions, and expectations of the 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0880" y="12949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ization occurs throughout lif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ho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ult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 Adult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irement, the Elderl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ying and De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Process of Re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cialization: the process of abandoning one or more social positions in favor of others that are more suitable for a newly acquired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cialization may occur in a total institution, in which people are isolated from the outside world and lead bureaucratically regimented l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Agents of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s of socialization: people, organizations, and institutions that enable us to learn the beliefs, values, and behaviors of our 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-level: family, peer group, local organiz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o-level: educational, religious institutions; me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: socialization is stated goal (e.g., the famil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: socialization isn’t a stated goal but occurs anyway (e.g., the med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s of socialization shift over the life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agents’ messages may concur or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Families: Micro-Level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331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milies use positive and negative sanctions to help teach children right and wro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umber and type of sanctions shape the socialization process and the se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mily socialization differs b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l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cul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umber of children in the household and birth 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Class: Meso-Level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33520" y="12949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1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class: the wealth, power, and prestige rankings individuals hold in socie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480" indent="-3214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class and socialization: Parents socialize children to meet expectations of the social class into which they are bo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31860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ddle class: autonomy, creativity, self-dir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31860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ing class: rule-following, respect autho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1480" indent="-3214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ass socialization in the family impacts later socialization in sch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2f2f2"/>
                </a:solidFill>
                <a:latin typeface="Calibri"/>
              </a:rPr>
              <a:t>Electronic Media: Meso-Level Socializ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533520" y="16761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media as socialization agents: television, computers, internet, DVDs, video games, au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8 % of homes have computer and internet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5 % of teens own cellph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r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who control the mass media can influence socialization within the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messages do these agents of socialization send to childr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impact of children spending more time with media and less time with caregivers and pe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socialization is radicalizing young peo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2f2f2"/>
                </a:solidFill>
                <a:latin typeface="Calibri"/>
              </a:rPr>
              <a:t>Electronic Media: Meso-Level Socializ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ization: the lifelong process of learning to become a member of the social world, including learning the values and beliefs of our cul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action: the basic building block of socialization, through which a child is shaped into a human being and becomes a member of  a socie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self: the perceptions we have of who we 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ization and Macro-Level Iss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ization in a globalized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nationalism: the situation of individuals or families who have national loyalty to more than one country, often a result of mi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result in multiple and conflicting messages about appropriate behavi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communications and ev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lead us to interact with diverse others, or solidify feelings of “we” vs. “the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ature vs. Nur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ature vs. nurture debat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ich best explains the human self and human behavior—biology or socialization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ature argu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obiology (evolutionary psychology): claims our genes “wire” us for social behavi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urture argu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obiology is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ductioni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behaviors vary, are not hard-w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ization is more important than ge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Importance of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68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need human contact, affection, and interaction in order to fully devel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idence: Cases of isolate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nna, Isabelle, neglected orph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these children were not socialized at the proper time, they experienced developmental disorders and could not be fully integrated into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ization &amp; The Social 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activities are part of the socialization experien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cro-level: e.g., parents, peer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o-level: e.g., schools, religious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cro-level: e.g., national advertis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 importance of socializ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 are dependent upon socialized people to help them surv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ck of adequate socialization increases the likelihood of deviant behavi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ization &amp; The Social 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pectives on Soci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leve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ic Interactionism: the development of the 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o- and Macro-leve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al-functionalist perspective: various socializing agents support one another and society as a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perspective: various socializing agents have conflict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se in power ensure that others are socialized into supporting power structures which benefit e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individuals have little power to decide their fu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Development of the Self: Micro-Leve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0880" y="14475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5080" indent="-325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lf: the perceptions we have of who we are, derived from our perceptions of the way others respond to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4920" indent="-321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evelopment of the self allows us to interact with others and function in the social wor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54920" indent="-321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are not born with a self; its development begins in infa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54920" indent="-321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ology and society both contribute to the development of the s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54920" indent="-321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elf, our ability to be aware of ourselves as individuals, may be distinctive to hum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Looking Glass Sel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68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ymbolic interactionist theory of the self developed by Charles H. Coo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oking glass: “Each to each a looking-g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2720">
              <a:tabLst>
                <a:tab algn="l" pos="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ects the other that doth pas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buClr>
                <a:srgbClr val="000000"/>
              </a:buClr>
              <a:buFont typeface="Arial"/>
              <a:buChar char="•"/>
              <a:tabLst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Cooley, the looking-glass self is a reflective process that develops the self based on our interpretations and on our internalization of the reactions of oth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2720">
              <a:tabLst>
                <a:tab algn="l" pos="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2720">
              <a:tabLst>
                <a:tab algn="l" pos="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ole-Ta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ist theory of the sel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orge Herbert M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ourselves through interaction with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can symbolically recognize objects, we can the view the self as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having a name allows us to see ourselves as objects separate from other objects; the difference between “me” and “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exive behavior: ability to view oneself from the outside, as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2:04:57Z</dcterms:created>
  <dc:creator>Deborah J Barr</dc:creator>
  <dc:description/>
  <dc:language>en-US</dc:language>
  <cp:lastModifiedBy>nmainardi</cp:lastModifiedBy>
  <dcterms:modified xsi:type="dcterms:W3CDTF">2015-06-01T18:40:14Z</dcterms:modified>
  <cp:revision>54</cp:revision>
  <dc:subject/>
  <dc:title>Chapter 4: Socialization:</dc:title>
</cp:coreProperties>
</file>