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581F-FFEE-45A2-A33A-80404716C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4992-14C5-42B6-B58A-B9A7344AA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A870-736F-4656-A2D5-E1BB995B0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6F41-C189-4640-9509-ED4851712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3E85-2660-43D5-AC1E-4AB3405E2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4D96-D7BF-4410-9DB5-C011DEF2C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CC79-7FF2-4030-999A-2DA48B34D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0B3E-28AF-49C0-B1CC-DEE554F8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3235-5F40-4D8E-A069-B952E37CC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CBD7-F22B-4878-8C3D-44B6A9F8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27DD-543E-4FDA-8191-EBCD18B8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4295-BCEA-4BCE-A47C-2FCEC0986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CDEF-1F63-488E-B1A6-967328E29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BF2D-0B39-446C-BE2F-D6724540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DA29-12E9-4A8D-B5AC-0599B830E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90DA-36A0-4521-A822-9E5D44140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1E62-056C-4605-B41D-DC8527804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6CB5-96BA-439C-BB32-372CDAE2C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2023-08F1-4CCC-88D3-F799408D2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959D-35A9-4AFF-9D20-23CF8A6FE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5B96-7EAE-47CF-8545-23323D2E2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893D-2100-479B-B432-1BDEE89BF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97DB-0367-4374-8BB5-EF0C699A1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12C9-2D63-48DF-B35C-78A5EDB40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175A-A5A5-4282-BC04-FDA16D1EA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F130-659D-4F10-A438-F6A79A79E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3D65-1F2B-4014-9130-D7E451C6B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D9BF-499B-410A-846A-045A4D746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0C4A-DDA8-4F77-AA73-0C2ED518B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AE1B-95EF-4DE2-9F68-4E1106806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462E-9D2C-4B61-A43E-CA8BF9982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A63B-CB02-407C-B937-F4814AA5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0A72-37E1-443C-BD23-12B883618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FC1A-7661-4E16-959F-5C10A38C9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2 – Examining the Social World: How Do We Know?</a:t>
            </a:r>
            <a:br>
              <a:rPr sz="4800"/>
            </a:br>
            <a:endParaRPr b="0" lang="en-US" sz="48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 the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r functional the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art of society has a necessary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s fit together into a stable, orderly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s may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anif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lanned)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t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unintended); some things may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ysfunc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riticis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claims are abstract, difficult to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easily explain social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s conflict is harmful, which is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always 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s stability is good, ignoring inequ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theorist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te, Durkheim, Mer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eso- and Macro-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equalities in resources and power create conflict, which underlies all social rel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werful impose their values and beliefs on weaker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leading to greater equality is desi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riticis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lects the micro-lev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icult to test empir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easily explain cohesion and co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s on assumption of self-inte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theorist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x, DuBois, Dahrendorf, Co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eso- and Macro- 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inist sociologica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ted in conflict theory, symbolic interactio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hierarchies disadvantage women and advantage 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ology has traditionally been male dominated, resulting in an incomplete view of the wor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riticis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ory should address the intersection of gender, race, class, and other inequa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eso- and Macro- 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Webe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contrib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erste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understanding): emphasized the importance of interpreting the meanings people give to their actions (micr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ed on bureaucracy guided by rationality as key element of modern organizations (mes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ined how history has been shaped by politics, economics, religion, psychology, and ideas (macr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otestant Ethic and the Spirit of Capita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d explanation for how capitalists view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ulti-Level Analy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theory is right or wrong; each has advantages and disadvantages for studying particular levels or aspects of socie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  <a:ea typeface="Arial"/>
              </a:rPr>
              <a:t>Using Different Theoretical Perspecti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8023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deas Underlying Science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y uses scientific methods to expand knowledge of the soci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ystematic use of theories and research methods makes sociology much more than guesswork or opi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deas Underlying Science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ptions of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 real physical and social world that can be studied systemat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is ordered by relations of cause and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est way to know the world is through empirical testing, based on observed fa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hat can’t be observed lie outside the scope of scientific inqui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 should be objective, or based on evidence rather than opin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52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search proce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ing a research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ing the research plan and method for collect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sense of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  <a:ea typeface="Arial"/>
              </a:rPr>
              <a:t>How Sociologists Study the Social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s in planning a stu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Define the problem clea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question must be specific and prec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Find out what is already known about top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existing theory an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Formulate hypotheses and defin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hesis: educated guess about the relationship between two variables, which can be t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: concept that can vary in frequency of occurrence across persons, places, or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alizing a variable: linking the variable concept to a specific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Planning a Stu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520" y="4114440"/>
            <a:ext cx="3962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uctive reasoning: moves from general theories to specific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272880" y="1295280"/>
            <a:ext cx="860904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Planning a Study </a:t>
            </a:r>
            <a:r>
              <a:rPr b="0" lang="en-US" sz="2400" spc="-1" strike="noStrike">
                <a:solidFill>
                  <a:srgbClr val="f2f2f2"/>
                </a:solidFill>
                <a:latin typeface="Calibri"/>
                <a:ea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5029200" y="411480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ductive reasoning: moves from specific facts (data) to more general the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thought before sociology: strongly influenced by religion and philoso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rn sociology arose in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Europe, influenced by several condi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nialism: exposure to other cul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ustrial Revolution &amp; French Revolution: desire to know how dramatic change could be systematically expl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ces in the natural sciences: desire to apply scientific method to the social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The Development of Sociolog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0600" indent="-120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aims to find causal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ys that two variables can be rela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2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lation: variables change tog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2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ation: one variable causes another to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 variable (IV): the cause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ent variable (DV): the variable that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ing: change in IV must precede change in D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2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urious relationship: IV and DV change together due to effects of a third variable; not a causal relatio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variables help eliminate effects not related to the hypothesis, especially spurious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Planning a Study </a:t>
            </a:r>
            <a:r>
              <a:rPr b="0" lang="en-US" sz="2400" spc="-1" strike="noStrike">
                <a:solidFill>
                  <a:srgbClr val="f2f2f2"/>
                </a:solidFill>
                <a:latin typeface="Calibri"/>
                <a:ea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052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design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ortan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a study depends upon the quality of its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methods depend upon the level of analysis of the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sociological research method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eld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ang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gather information from many people about how they think or what they w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s asking respondents a set of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iews: questions asked by phone or in p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stionnaire: questions and other types of it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-ended: respondents can say what they wi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-ended: respondents must choose from a set of predetermined 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 methods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and open-ended questions yield in-depth information, but are time consuming and cos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naires and closed-ended questions provide less information, but are cheaper and more prac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142640"/>
            <a:ext cx="830592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eld studies (observational meth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systematically observe and record interaction in the settings where it takes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s of field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participant observation: observation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nt observation: researcher participates in and observes activities of group being stud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nography: researcher uses observation, interviews, self-reflection, and other techniques to pursue any data relevant to the research problem, which may evolve over the course of the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0520" y="1218960"/>
            <a:ext cx="84582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eld study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s qualitativ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ative data: written or verbal observations, used to interpret the meaning of some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ntitative data: numerical, “hard” data, can be conveyed with percentages or t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92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nt observation: potential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effects: the group being studied may be altered by the presence of the resear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as: researcher may become so involved in the group that objectivity becomes diffic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1218960"/>
            <a:ext cx="83818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as a powerful test of cause and eff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ments of a controlled experi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earchers manipulate an independent variable and determine its effects while all other variables are held cons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mental group: subjects who are exposed to the effects of the independent 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rol group: subjects not exposed to the independent 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the experimental group is exposed to the variable, the two groups are compared to determine its eff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not be used to study many sociological questions, research effects may result, and it is unethical to introduce many variables into the labora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295280"/>
            <a:ext cx="8305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led experiments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able test, b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be used for questions dealing with macro-level phenomenon that can’t be placed in a controlled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study questions involving independent variables that might cause harm to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effects: subjects may be affected by the fact that they are in a laboratory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143000"/>
            <a:ext cx="83059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data is used in new ways, especially i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from past years is des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cerns meso- or macro- level social patter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analysis: employs data already collected for other studies or by agencies such as the Census Bureau or Unit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analysis: systematic recording and classification of information from written or recorded sources, e.g. newspapers or le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129528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sources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data sources may be inexpensive; research is unobtrusive and may be easy t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ble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may not represent the precise population the researcher wishes to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problems with the original data will carry over into the secondary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does not capture the “human side” of research questions as well as interview or observation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gust Comte &amp; the science of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ined the term “sociology” in 183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t society’s problems could not be understood by philosophical or religious speculation; scientific knowledge w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main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holds society together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cial statics or structur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is there change in societ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cial dynamics or proc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The Development of Sociolog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160" y="1371600"/>
            <a:ext cx="83055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angulation (or multiple meth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methods of data collection are used to increase the amount of data and the accuracy of fi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methods, field study, experimentation, and existing sources may be used in various comb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(all meth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: a small group of people who are systematically chosen to represent the larger population being stud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s of s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: accurately reflects the population being studied, so findings can be generalized to the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: every person in the population has an equal chance of being selected for the sample; the most common type of representative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ing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al is to determine relationships between th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s must b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er must choose most effective tools for analyzing relationships among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on with and criticism from other researchers aids accuracy of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should be replicable, or capable of being repeated so results can be compa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Designing Research &amp; Collecting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rting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earcher develops a report, inclu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line of pro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nalysis, which may include tables or figures that summarize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s: Are hypotheses supported by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pretations and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cial science no one study can definitively prove a hypothesis; instead, findings may tend to support or reject a hypothe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Analysis: Making Sense of the Da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ological research is bound by ethical codes which generally require th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subjects give informed consent to participate in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s are not harmed or put a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ivacy is not invaded unnecessar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ivate information is 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findings do not cause h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Subjects Review Boards at universities and other research institutions help protect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Ethical Issues in Social Resear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sociolog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rofessional or academic sociology): emphasis on scientific analysis, theory building, knowledge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ed soci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ociological practice): uses sociology to develop practical ways of improving society, often through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 sociolog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integrate sociology into communities in order to promote public debate and social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Putting Sociology to Wo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0" y="6367320"/>
            <a:ext cx="426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ahoma"/>
              </a:rPr>
              <a:t>© SAGE Publications, Inc. 2017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5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sociology after Com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massive social and economic change brought by Industrial R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relationship between micro-, meso-, and macro-level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sociological theorists: Emile Durkheim, Karl Marx, Harriet Martineau, Max Weber, W.E.B. DuBo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scientific method to test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The Development of Sociolog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68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ientific soci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cuses on pure, objective analysis, modeled on natural sc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umanistic soci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cuses on the human capacity to create meaning, which ca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be captured by quantitativ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ublic Sociolog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 to move the focus from classrooms and labs to comm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ology centered o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mproving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lied sociolog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cuses on practical ways to bring about change in organizations or socie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Three Sociological Tradi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ory &amp; research are interdependen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Theori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statements regarding how facts are related to each 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ological theories attempt to explain and make predictions about the social wor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researcher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choice of theory and research method is guided by the research question and level of social analy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ories tell researchers what kinds of facts to look f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earchers use facts to test theo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Empirical Research &amp; Social Theo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etical perspective: a basic view of society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ides sociological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n overall approach to understanding social behavior, social systems, and relationships between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micro- or macro-level; all can be used at the meso-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Sociology</a:t>
            </a:r>
            <a:r>
              <a:rPr b="0" lang="ja-JP" sz="3400" spc="-1" strike="noStrike">
                <a:solidFill>
                  <a:srgbClr val="f2f2f2"/>
                </a:solidFill>
                <a:latin typeface="Calibri"/>
              </a:rPr>
              <a:t>’</a:t>
            </a: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s Major Theoretical Perspectiv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12189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mbolic interaction theor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or social construction, interpretative theor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idea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interact on the basis of shared symbols to construct a meaningful world—which then serves as a basis for further intera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emphasize agency, individuals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ctive role in constructing their social environments, or how their social positions shape their constru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criticism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glects macro-struc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 to study concepts like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d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f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 theorist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orge H. Mead, the Iowa Sch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icro-to-Meso 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r exchange the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id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act by making rational, self-interested decisions that will maximize their rewards and minimiz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riticis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lects macro-level processes and micro-level, internal ment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easily explain altruistic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do not always act rationally or accurately assess their self-inte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Arial"/>
              </a:rPr>
              <a:t>Micro-to-Meso Level Theor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1:08:03Z</dcterms:created>
  <dc:creator>Deborah</dc:creator>
  <dc:description/>
  <dc:language>en-US</dc:language>
  <cp:lastModifiedBy>nmainardi</cp:lastModifiedBy>
  <dcterms:modified xsi:type="dcterms:W3CDTF">2015-06-01T18:00:55Z</dcterms:modified>
  <cp:revision>89</cp:revision>
  <dc:subject/>
  <dc:title>Chapter 2</dc:title>
</cp:coreProperties>
</file>