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E99C-98FB-4424-8591-75442E178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D857-ECD2-4437-A0DE-EF761F06464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12FA-1C6E-4D79-B808-43244B2533A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D240-1DA2-4888-99EE-EA9E99FA5DD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F459-8373-4A60-8B9B-FCF9299C01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5BB7-976A-49A8-B5D4-948577AC2F7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42A-DF44-41CC-A73E-27639095BF9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A3C-1557-4F53-9C58-933AC394CA4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AC1-D2AF-4180-94FD-4FA4E2AB7F6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286-FCB4-4DC6-AEA7-01FD3339DDD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C18F-37B2-4436-97FC-1B6257927DC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C75B-1643-4553-AB1B-1A54A7D4BA9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671-D3E3-4AFF-B91D-859AA4EEFC1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699-8C79-4472-913A-C9B0C7C466A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67F-62AF-4880-9942-D1A066BCB4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2DE-4092-42B4-BBD0-64AA65C299E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1A4-F3F9-4C17-A1B0-29ADCA9712E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2D12-1F17-4191-97D5-47022D6F696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972-506E-4E0D-B8AD-DDCAB69FF1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1B3-B243-4301-9F27-C8BCCD446ED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C00-74A3-4923-A8D6-277319F6EB0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A22-8AAC-4115-9A4C-A9BE89C78A6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6BA-50A8-424B-85D8-C866E76C0F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30A-4F6A-425E-B47E-A7F040D5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F42-8311-4E3E-8E37-D1DFFC2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8EE-9F0C-4447-808C-DCF3080B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ED5-8A7B-4219-93F7-3A3383C6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E0C-2202-4EC3-B4BA-EA679D40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32C-CA58-4FAF-B624-C191B175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CA9-B94F-42B8-A929-392C233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71A-C5BF-4B85-95C6-87C27D37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9FF-15C8-4358-9111-9BC4FC5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F70-F424-4BFE-B89B-F72B55A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18F-EC28-4C6E-915F-B5CACEE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9C8-6511-454E-9933-3B102F0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2D9-75EB-4601-BCD8-D9F86C4C8A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3cddd"/>
                </a:solidFill>
                <a:latin typeface="Calibri"/>
              </a:rPr>
              <a:t>Chapter 1 – Sociology: A Unique Way to View the World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ingredients in sociological stu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observe what is happening in the social world and can inform social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us to be more effective as we carry out our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 to understand and explain why it is happening (i.e. High School Dropou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practical rewards of sociological stud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f-awareness and self-improv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ter understanding of social situa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, systematic understanding of both domestic and global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ing of diverse cultural persp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ility to assess the impact of social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reciation of the complexities of social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ful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 how to change your environment and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ociologists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colleges and univer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, conduc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social service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interpersonal relations or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organizational needs or human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gover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data for policy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  <a:ea typeface="MS PGothic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ful skills honed in sociological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&amp; 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is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/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sitivity to diversity and global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ing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, problem-sol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 Sociologists Do—and Wh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analysis: size of the social groups being considered, from the smallest to the larg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sociology requires understanding multiple levels of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question: How do the levels connect or conflict with one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69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1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units: interconnected parts of the soci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tructure: a particular combination of social units that orders our l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institutions: provide the rules, roles, and relationships to meet human needs and guide human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society: a population of people living in a specified geographic area with a common political authority, many common ideas, and a social structure and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processes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 taken by people in social units.  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socialization: how we learn to be productive members of socie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onflict: occurs between individuals or groups over money, jobs, and other needed or desir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change: every social unit is continually changing, and change in each unit affects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vironment: the setting that surrounds and influences each social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hysical, organizational, or technologic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unit has its own distinctive environment, to which it must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a social unit, we must consider not only the structure and processes within the unit, but also its interaction with the surroun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Social World: Levels of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can be studied at many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-level (individuals and small grou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micro interactions form the basis of all social groups and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(intermediate size un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relations among institutions, organizations, and large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level (nations, global &amp; international tre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ortance: helps explain how larger social forces and global events shape everyday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evel adds depth to a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y is the Social World Importa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fundamentally social be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cial world is not just outside us; we also carry it within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take social patterns for granted as routine, ordinary, and expec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socially shared expectations, life would be cha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nd the social world mutually influence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4"/>
          <p:cNvSpPr/>
          <p:nvPr/>
        </p:nvSpPr>
        <p:spPr>
          <a:xfrm>
            <a:off x="228600" y="1371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 of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29720" cy="35812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level of analysis would you use to examine each of the following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couples divide housework responsi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factors determine the percentage of women in political power in a certain count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size of a school’s sports stadium matter for students who are choosing a colle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685800" y="192528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questions could be studied from any of the levels, or from a combination of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8960040" cy="1752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Social World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: the scientific study of social life, social change, and the social causes and consequences of human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ask questions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and how do people and groups interact with one another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re different groups or societies organized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deal with conflict and chang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changes in one society affect other societ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ists study groups of all siz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ads (e.g., a romantic cou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oups (e.g., a fami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(e.g., the auto indust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s (e.g., the U.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lobal society (the world as an interdependent ent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lying assumptions of soc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social by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live most of their lives in soci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s between people and groups are reciprocal: each influences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feature recurrent social patterns, ordered behavior, shared expectations, and common understa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and change are natural and inev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ology vs. Common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mmonly held beliefs are not actually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y uses scientific methods to test ideas, including common sense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methods involve analyzing evidence in a way that is planned, objective, systematic, and repea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common sense ideas are challenged by scientific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ciological imag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d by C. Wright Mills as understanding individual problems to be rooted in broader social or public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dividual problems are rooted in soci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social factors influence layoff rates and personal experiences of unemploy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ve social factors shaped the causes and rates of divor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sociologists do and 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i="1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require philosophical or moral jud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logis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questions that can be studied objectively and scientif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sociologists may study a grou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religious beliefs, but they do not make judgments about whether the beliefs are right or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Sociolog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the social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tudy aspects of human behavior and social life, using the scientific method, but each has a different foc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anthropology: the culture or way of life of a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ychology: individual behavior and ment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Science: government systems an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s: economic conditions and how people organize, produce, and distribute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ology: human interaction, groups, and social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nmainardi</cp:lastModifiedBy>
  <dcterms:modified xsi:type="dcterms:W3CDTF">2015-06-01T18:01:33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