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90678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B28E-F539-48A3-A575-69E6E064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3590-0F84-4F6B-AF1E-4AC87C7E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6255-1835-49FE-ACA5-3A274214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57A0-429C-461E-8B2F-1F104AFA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535D-A953-44A7-AC33-25AF2512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1150-DEE1-4019-8751-9B1CED11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C019-D9F9-41CE-9715-11369CB8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258B-C468-4528-AAA5-6973E2DF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4F60-F9EA-4527-B56D-9FA607D2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0A61-7AEF-4266-B6F1-83ABCAFE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49DC-9E2F-4B5B-AFDD-DC3DA608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31A9-DDB7-4656-9154-29C9BE40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FEFE-BF6B-47BC-A817-875037F2224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2"/>
          <p:cNvSpPr/>
          <p:nvPr/>
        </p:nvSpPr>
        <p:spPr>
          <a:xfrm>
            <a:off x="0" y="4343400"/>
            <a:ext cx="9144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e8"/>
                </a:solidFill>
                <a:latin typeface="Calibri"/>
              </a:rPr>
              <a:t>Chapter 14: The Process of Change: Can We Make a Difference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theories of chan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ld systems theory: all societies today have been influenced by capita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76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 nations: economically and politically powerful; have controlled and profited most from world economic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76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ipheral nations: countries that provide cheap labor and raw materials for core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76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miperipheral countries: in intermediate position between core and periphery, trading with bo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76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Calibri"/>
              </a:rPr>
              <a:t>Social Change: Processes and Theorie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6"/>
          <p:cNvSpPr/>
          <p:nvPr/>
        </p:nvSpPr>
        <p:spPr>
          <a:xfrm>
            <a:off x="0" y="114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orld System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8" name="Picture 1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972480" cy="464832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2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Calibri"/>
                <a:ea typeface="MS PGothic"/>
              </a:rPr>
              <a:t>Social Change: Processes and Theories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ollective Behavi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level behavior and chan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ctive behavio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ntaneous, disorganized group actions that often violate norms; arises when people are trying to cope with stressful situations or uncertain 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owd behavior: collective behavior in which a crowd acts, at least temporarily, as a unified gro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ss behavior: individuals communicate or respond in a similar manner to an ambiguous situation, often based on common information from the news or on the Intern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like social movements, these forms of collective behavior lack a hierarchy of authority, a division of labor, and a sense of group ac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ollective Behavi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ories of Collective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inimax strategy (rational choice theory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ople are more likely to engage in behavior if they feel rewards outweigh cos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ergent norm theor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llective behavior often takes place in unusual situations where norms break down and new definitions of acceptable behavior emerge as people look to each other for clu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ollective Behavi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2189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ories of Collective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ue-added theor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rtain conditions are necessary for individuals to join together in collective behav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uctural conduciven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uctural stra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read of a generalized belie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cipitating fa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bilization for 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al controls are wea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1371600" y="3505320"/>
            <a:ext cx="32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ollective Behavi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Picture 1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771040" cy="19051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" descr=""/>
          <p:cNvPicPr/>
          <p:nvPr/>
        </p:nvPicPr>
        <p:blipFill>
          <a:blip r:embed="rId2"/>
          <a:stretch/>
        </p:blipFill>
        <p:spPr>
          <a:xfrm>
            <a:off x="152280" y="3276720"/>
            <a:ext cx="4419720" cy="26762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" descr=""/>
          <p:cNvPicPr/>
          <p:nvPr/>
        </p:nvPicPr>
        <p:blipFill>
          <a:blip r:embed="rId3"/>
          <a:stretch/>
        </p:blipFill>
        <p:spPr>
          <a:xfrm>
            <a:off x="4383000" y="3276720"/>
            <a:ext cx="4608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ollective Behavi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of collective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bs (e.g., lynching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ots (e.g., Iraqi riots over lack of job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ic (e.g., in fir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mors (e.g., urban legen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ds (e.g., tattoo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shions (e.g., music genr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lanned Change in Organiz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2952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level chan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Organizations Plan for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ned chang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berate, structured attempts, guided by stated goals, to alter the status quo of the social uni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change is desired; sometimes it is forced on the organization by external stress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cannot be fully predicted, as changes in one area may create problems in oth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lanned Change in Organiz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s for planning organizational chan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ed system model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l focus; goal is to move the organization closer to ideal bureaucratic efficiency and effectiv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35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uman resources or organizational development approach: organization participants should be involved in decisions leading to 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 system model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bine internal processes, which create outputs, with external environment, which creates inputs and feedbac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35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iews change as ongoing; all parts of organization and environment as linked; change in one part affects the re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lanned Change in Organiz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5235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5040" indent="-577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cess of Planned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5040" indent="-5778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organizations must change within themselves to meet new conditions and attempt to bring about change in the wor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5040" indent="-5778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s must try to avoid conflic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5040" indent="-5778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is generally perceived as desirable if it is evolutionary or planned; unplanned change can be disrupt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Process of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4479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2440" indent="-344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chang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52400" indent="-344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tions or alterations over time in the behavior patterns, culture (including norms and values), and structure of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is controllable, some n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evitable and ubiquito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rapid or gradual and evolution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at one level often caused by change at another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v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33600" indent="-633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-level chan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3600" indent="-633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movement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4600" indent="-330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ciously organized attempts, outside of established institutions, to enhance or resist change through group 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9584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us on a common intere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584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ve an organization, leader, and go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584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common in industrial or post-industrial societies where diverse groups advocate for their own intere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584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ually begun by an individual outside the power structure and focus on how resources are distribu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584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stimulate counter movements: social movements against the goals of the original mov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v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0880" y="1981080"/>
            <a:ext cx="4191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liminary stag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23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urpose of the movement is s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pularization stag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23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s join efforts, define goals and strategies, develop recruitment tactics, and identify leaders; the social movement enters the public are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647960" y="1981080"/>
            <a:ext cx="4267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3760" indent="-2037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stitutionalized stag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7720" indent="-203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vement becomes a formal organization, which gains members and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3760" indent="-2037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ragmentation and demise (in some cases)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7720" indent="-203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oup breaks apart due to unmet goals, exhausted resources, or leadership that is inept, no longer legitimate, or co-opted by powerful mainline organiz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5"/>
          <p:cNvSpPr/>
          <p:nvPr/>
        </p:nvSpPr>
        <p:spPr>
          <a:xfrm>
            <a:off x="0" y="1295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Stages of Social Movemen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v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09120" y="15235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ments for Movement 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s must share basic values, ideals, stat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must be a preexisting communications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rain and precipitating event galvanizes 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ective leadership emer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develop a sense of efficacy and potential su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v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04560" y="159984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2400" indent="-2124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ressiv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92560" indent="-212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us on changing people, saving them from corrupt lifesty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cial reform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92560" indent="-2124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ek to change some aspect of society, but members generally support society as a who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volutionary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92560" indent="-2124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ttempt to bring about total change in society by overthrowing existing power structures and replacing them with new 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72000" y="1676160"/>
            <a:ext cx="419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istance or regressiv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239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e change as a threat to societal values, want to maintain status quo; try to protect existing systems or restore old 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lobal transnational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239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ke place across societies and focus on large-scale, global iss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5"/>
          <p:cNvSpPr/>
          <p:nvPr/>
        </p:nvSpPr>
        <p:spPr>
          <a:xfrm>
            <a:off x="0" y="10666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ypes of Social Movemen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v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Picture 1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763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v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12193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ization and Social Mo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South countries are coming together to form social movements in response to unjust treatment by Global North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ization from below”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orts by common people to protect workers and the environment from profit-driven glob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2f2f2"/>
                </a:solidFill>
                <a:latin typeface="Calibri"/>
              </a:rPr>
              <a:t>Technology, Environment, and Change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533520" y="167616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log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actical application of tools, skills, and knowledge to meet human needs and extend human abil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4440" indent="-34416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is closely linked to the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4440" indent="-34416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ical revolutions have altered societies and created social divis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81880" indent="-281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gburn: technological change is brought about by three process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4600" indent="-330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covery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98360" indent="-330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ew way of seeing reality, created by an individual or small group (micro-lev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600" indent="-330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vention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98360" indent="-330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bining existing parts, materials, or ideas to form new ones, often through the expansion of science (increasingly meso-lev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600" indent="-330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ffusion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98360" indent="-330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pread of an invention or discovery from one place to another (involves macro and micro leve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2f2f2"/>
                </a:solidFill>
                <a:latin typeface="Calibri"/>
              </a:rPr>
              <a:t>Technology, Environment, and Change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y and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ce: the systematic process of producing human knowledge; it uses empirical research methods to discover facts and test the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400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ology applies science to solve probl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ce has become a major social institution in today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industrial and postindustrial socie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400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itutionalization: the creation of a stable pattern of roles, statuses, and groups that systematically meet needs for new resources and understan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400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ientific institutions involve people, resources, specialized training, communication, compet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400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ic and applied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2f2f2"/>
                </a:solidFill>
                <a:latin typeface="Calibri"/>
              </a:rPr>
              <a:t>Technology, Environment, and Change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457200" y="12193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y and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echnology can be a force for global integration or disinteg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echnology can lead to economic and political disinteg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echnology can bring benefits to some, while harming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pid technological change affects inter-generational relation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2f2f2"/>
                </a:solidFill>
                <a:latin typeface="Calibri"/>
              </a:rPr>
              <a:t>Technology, Environment, and Change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lexity of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533520" y="15235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Mi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Change at the Individual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s with wealth, charisma, expertise, or privileged position can bring about chan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ganizations use many strategies to persuade individuals to accept change, for example, appeal and persuasion, removing uncooperative individuals, using direct command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838080" y="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lexity of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0912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Mes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Change at the Institutional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Climate Change: an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nected to pollution and use of Earth’s natural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eso-level phenomenon, though it affects people at all levels in the social syst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so-level organizations have developed policies and practices to reduce emission of pollutants and change the way they use resour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lexity of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Change at the National and Global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etal-level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environmental shifts caused by one nation affect the entire world, but most nations do not want to change environmental practices for economic reas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systems and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etus for change comes from global organizations, national and international organizations and governments, multinational corpo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international alliances based primarily on economic 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Calibri"/>
              </a:rPr>
              <a:t>Social Change: Processes and Theorie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cess of Social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nge is triggered b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72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i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5840" indent="-272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rnal pressures for chan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531440" indent="-214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conflicting goals or belief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72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es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5840" indent="-272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ternal pressures for chan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531440" indent="-214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the natural environment, population dynamics, leaders or dominant individuals, technology, the social environment, or major historical ev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088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level theories of chan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bolic interactionis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s actively construct meaning; re-definitions of reality can upset the status quo and be powerful impetuses for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ional choi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roup seeking change must set up a situation in which new desired behavior is rewarded, or where peopl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perceptions about the advantages and disadvantages of old behaviors are alt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Calibri"/>
              </a:rPr>
              <a:t>Social Change: Processes and Theorie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5335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theories of chan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evolutionary theori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7040" indent="-339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cieties move slowly from simple to more complex for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7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linear theori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764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 societies progress through the same steps; advancement is defined as posit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76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lan and Lenski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 (2008) five stages of societal progress: hunter-gatherer, horticultural, agrarian, industrial, postindustrial; no stages are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ter,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ut pattern is typ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Calibri"/>
              </a:rPr>
              <a:t>Social Change: Processes and Theorie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theories of chan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ctionalist theori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97000" indent="-339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eties are mostly stable; due to interdependence, change in one part of society will affect other parts; change may come from outside or within; slow change may occur as societies become more complex, rapid change is potentially dysfunc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lict theori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97000" indent="-339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eties are dynamic, change is inevitable; conflict between those in power and the oppressed will lead to changes that may be useful for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Calibri"/>
              </a:rPr>
              <a:t>Social Change: Processes and Theorie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1T21:07:46Z</dcterms:created>
  <dc:creator>Amanda</dc:creator>
  <dc:description/>
  <dc:language>en-US</dc:language>
  <cp:lastModifiedBy>nmainardi</cp:lastModifiedBy>
  <dcterms:modified xsi:type="dcterms:W3CDTF">2015-06-03T17:58:11Z</dcterms:modified>
  <cp:revision>71</cp:revision>
  <dc:subject/>
  <dc:title>Chapter 16:  The Process of Change</dc:title>
</cp:coreProperties>
</file>