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4A6-DF81-420A-8637-3AC575CD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E8B-4D93-49CF-B133-8900F7C8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037-78B8-411C-9946-A2021A93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C9E-10F7-4C22-BBD7-7D160022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678-A328-4B83-B3F1-1E1455B7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02A-5EDE-4C83-80EA-D30931C4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C37-37CF-4408-BA38-4DB609E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286-C645-47CB-912F-BE97AC10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3BA-1581-4628-AA32-657F3B09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4EE-C389-4371-AD59-6388907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227-41F1-44E6-B11E-02D493B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43E-11AE-4526-995D-8265F39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E0AE-76CA-442F-913A-726579B2452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3434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2 – Politics and Economics: Probing Power and Dissecting Distribution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lict Theory and the Power El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theorists believe that the state protects the privileged position of the fe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elite theor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le of society by a small group of elites is inevi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hels’ “iron law of oligarchy”: leaders’ influence over who succeeds them allows ongoing elite power and abuse of pow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. Wright Mills described the U.S. power elite as cohesive and interlocking, enabling it to make key political, economic, and social decis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systems influence our personal lives in a variety of 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also impact government through political participation, such as vo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political participation is affect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people fall in the stratific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perceptions of their power in relation to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ion in Democratic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ology and political attitudes affect how people think about power and particip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believe about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wer of individuals vs. state pow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distribution of resources versus allowing those with high ability or inherited status to receive more wealth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change is desira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ion in Democratic Proc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vels of participation in politic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ajority of people in the world are uninvolved in the political proce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 of opportunity in non-democratic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democratic countries, apathy and alie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ion can include voting, contact with government representatives, involvement in local and national campaigns and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.S. voter turnout is second lowest of the Global North democrac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53316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level political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or provincial governments, national political parties, large formal organiz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level political institutions influence and are influenced by other institutions such as the family, education, religion, health care, and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s of Political and Economic Instit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functions of meso-level political and economic instit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intain social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erve as an arbiter in disp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tect members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present the group in relations with othe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lan for the future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vide for the needs of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Systems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and Distrib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15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and exercise power relations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15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al with production and distribution of goods and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and economic institutions are interrel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sets of institutions affect power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Govern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itarian syste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mes headed by dictators or military leaders who hold absolute power, with little room for citizen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itarian st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 by a single group or party based on a specific political ideology; the state controls many aspects of life such as work and the media; dissent is discouraged or elimin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 terrorism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or used by a state to control its own citizens or those of another 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Politic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ic syste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two political parties compete for power in elections; government is accountable to citizens, who have significant control over their own lives. Other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zens participate in selecting the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liberties are guarante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 powers are limited by a constit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al structure and process are spelled ou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Politic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ic systems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s of democratic govern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liamentary (e.g., Great Brita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ial (e.g., the United St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represen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rtional (e.g., many European count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er-take-all  (e.g., the United St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political and economic syst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force the distribution of power in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systems involve power relationships between individuals and larger social institu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s produce goods and services and distribute them unequally, giving some citizens more privileges than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litics and Econom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 systems (capitalism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ess individual planning, private property, profit-making through free compet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y and demand let some profit, others f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little governmental oversight is neede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s ensure sufficient production, distribution,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s reward innovation, resulting in growth and prospe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xist critics claim capitalism creates class inequality, exploitation, conflict, and revol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ly, in most Western capitalist countries, labor unions and laws have emerged instead of rev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critics: profit trumps human dignity and val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ned systems (communism, socialism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-based planning and control of proper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duction is planned with communal good in mi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each individual contributes to and receives benefits from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dious jobs are shared, so individuals have time to focus on humanistic and culturally important aspects of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tiqu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ystem has eliminated all private property and privi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ing both economic and political power in government hands gives too much control to the f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economies (democratic socialism or welfare states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ve or group planning of societal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can pursue self-interest within li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y is privately owned but regulated; public services are government contro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cratic political system, public accoun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ation used to redistribute income and pay for education, health, pension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: a relatively new form, can be both productive and cumber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0880" y="14479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and the Nation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-sta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litical, geographical, and cultural unit with recognizable boundaries and a system of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-state and nationalism are relatively recent; they emerged in the 16th centu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 the entire world is divided among more than 200 nation-st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s and Rebell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nd political transformation of a 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s when nation fails to fulfill expected responsibilities and new leadership emerges to challenge existing reg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vio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results in altered distributions of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-macro political conn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/provincial governments and national political parties: less encompassing than the federal government but still influence national politic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088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bal Interdependencies and Poli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endency and world systems theorists point out inequality between rich core countries and developing peripheral coun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wth of democracy in peripheral countr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curring in some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aided, but not imposed, by foreign pow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preconditions may be economic well-being, lack of extreme inequality, pluralism, strong middle class, market economy, tolerant culture, literacy, influence of world system of democratic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052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ed conflict occurring within, between, or among societies o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called “organized mass violenc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requent but not inevitable condition of human exist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o nations go to w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 use moral, religious, or political ideology to legitimize war, though causes may lie elsew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theorists believe underlying social problems cause system disruptions, including w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lso see war as functional for social integ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ists see war as the outcome of oppression by the ruling elite and/or attempts to overthrow that oppr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businesses profit from w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04920" y="1142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nations avoid wa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renc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rgue that if a nation is militarily strong, no one will dare attack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stical evidence shows that deterrence does not reduce the chance of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ly 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created a “military-industrial complex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otiatio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discussion to reach agre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blem is that negotiation means a partial win—and a partial loss—for each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social science definition of power comes from Max Webe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is the ability of people or groups to realize their own will in group action, even against resistance of others who disag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Powe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or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indiscriminate violence to cause mass fear and panic, intimidate citizens, and advance a group’s political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ually refers to acts of violence by private, non-state groups with revolutionary politic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 terrorism: government use of terror to control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orists come from all political orientations: anarchists, nationalists, religious fundamentalists, members of ethnic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because terrorist strikes seem random, so governments have no clear way to respond as terrorists groups are hard to loc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rrorism (con’t): without understanding the underlying causes, we can do little to prevent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ltural explanations cite religious and political beliefs that encourage “we vs. they” think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explanations help us understand when conditions are right for terrorism, for example, when conflict between societal systems is already hig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lict theory explanations emphasize the unequal distribution of world resources and the oppression of particular grou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0880" y="12189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arenas of pow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-state attempts to control individual behavior throug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 control and coer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c control and mani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les of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is the ability to influence interactions and organ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xist perspective: power includes control of economic resources and production, which allows the dominant class to maintain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Powe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is operative in social inter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also operates 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, county, state, and national decisions about resources and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bureaucratic organizations, corporations, ethnic or minority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systems of power include international organizations such as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Multiple Levels of Power and Privilege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theoris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how symbols and constructions of reality allow some people to assume power, and how they generate loy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-level socialization instills belief in the legitimacy of reigning author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Weber’s contrib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er distinguished between legitimate and illegitimate po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, or legitimate power, is recognized as rightful by those who are subject to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gitimacy of a government’s power is measur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the state can govern without the use or threat of forceful coerc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challenges to state authority are processed through normal chann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er’s contribution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ways leaders gain legitimate pow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ismatic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nal-legal authority—most common to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hree are legitimate forms of power because the people being governed give their con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alism and Pluralist The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ctionalists believe that citizens legitimize political systems because they serve important functions in soci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uralist theor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 is distributed among various interest groups so that no one group r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s involves negotiation and compromi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multiple power centers offers the best chance to maintain democratic forms of gover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8:57:35Z</dcterms:created>
  <dc:creator>Deborah J Barr</dc:creator>
  <dc:description/>
  <dc:language>en-US</dc:language>
  <cp:lastModifiedBy>nmainardi</cp:lastModifiedBy>
  <dcterms:modified xsi:type="dcterms:W3CDTF">2015-06-01T22:45:11Z</dcterms:modified>
  <cp:revision>52</cp:revision>
  <dc:subject/>
  <dc:title>CHAPTER 13: Politics: Penetrating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33</vt:lpwstr>
  </property>
</Properties>
</file>