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5143320" y="-36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5143320" y="651312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42D5-258F-4D8B-9413-45A4F969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5143680" y="6513480"/>
            <a:ext cx="3935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D14-AA03-4448-9EA5-F403C0D483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F70-7AC8-4D8F-A565-B3BA2EDF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CBD-8342-4C44-A3D4-43F6684F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441-F863-49C7-A621-95A806BD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CC9-8120-4339-918C-CBAD1C42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AEA-6417-4F9E-800E-7C56B7D7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982-CD03-4CFA-9547-4E080459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EA8-FE93-4E58-9248-BFBA2C7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414-D18E-466F-9B7B-64696B24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70B-28E9-4196-AA6B-DE3FC37F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9AA-99A9-4374-BEDE-1D1C3F6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A4C-C081-4112-8B92-9142D39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97B-9CB7-4BCB-94BF-F5920503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6438-C7A5-4A46-B896-04885D4139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39625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1: Religion: The Social Meaning of Sacred Mean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143000" y="350532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and Moder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raditional societies, religion is not separate from other social instit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mplex societies, religion is distinct, but influences and is influenced by other instit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minant religion generally supports the political system and ideology of the dominant group, and is related to economic, education, family, and health syste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systems can exert pressures on reli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68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pes of Religious Associ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nominations: have legitimacy but not a religious monopoly; have clear hierarchies and trained leadership; support the state; members more privileged than disenfranchi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s: form in protest against parent religions; separate from other religious and social groups; claim monopoly over religious truth, often demand total allegiance of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religious movements (cults): splinter or protest groups that become new religions rather than denominations; often started by charismatic leaders, often persecu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and social institu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ocracy: rule by God; religious leaders rule in accordance with God’s presumed wis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religion: a religion that has some autonomy but receives government sup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governments have prohibited reli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religion: a set of beliefs, symbols, and rituals that pervade secular life and institutions, endorse what the nation stands for, and strengthen the belonging of citiz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in complex societies with diverse reli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1"/>
          <p:cNvSpPr/>
          <p:nvPr/>
        </p:nvSpPr>
        <p:spPr>
          <a:xfrm>
            <a:off x="0" y="129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ligion and other institutions: Poli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and other institu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c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Weber: analyzed the relationship between Protestant beliefs and the growth of capital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dest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call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denial and delayed g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 led to a shift in cultural values, which transformed the economic syst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inks between religion and econ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nctionalist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has positive consequences for socie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otes social cohe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itimates social values and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hange: religion can help maintain the status quo or chang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684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flic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ks religion to stratific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can reinforce socially defined differences in a way that legitimizes prejudice and ine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lass basis of relig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l Mar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perpetuates the current power structure by acting as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opiate of the masses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Weber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ive affinit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belong to religious groups that espouse values compatible with their social cla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flict Perspective,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, racial bias, and gender prejudic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religions have discriminated against some group at some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ligions reject race discrimination formally, but members practice it informal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religions legitimate treating women differently and/or as inferiors; often women cannot attain high positions in religious hierarch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 can reinforce ethnocentr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 has also been a force for greater equ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religion declining or revitalizing in North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and spirituality remain integral to people’s l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igious makeup of the United States and Canada are chang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line protestant denominations are losing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ngelical Christianity is g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new religious groups are f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and Secula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lariz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minishing influence of religion in everyday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isn’t the dominant institution, but one of ma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away from the supernatural and sacred in favor of logic and empirical evid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larization varies across social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remain religious, but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- and meso-level organizations use secular policies and procedures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lobal level is highly sec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give meaning to life, death, suffering, injustice, and events beyond ou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guidelines, beliefs, and values that separate right from wrong; important in controlling everyday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individuals define re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crilizes (makes sacred) aspects of our culture, making them unquestion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kheim’s “sacred realm”: the dimension of life separate from the mundane world, which elicits awe and f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Contributor to war or pe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religious meaning systems advocate peace and harm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systems may foster “we vs. they” thinking that draws large numbers and promotes financial vitality, but undermines pe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aith or worldview that provides a sense of meaning and purpose i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nging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t of interpersonal relationships and friendship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able pattern of roles, statuses, and organizational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 System (micro lev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symbols that provide a sense of purpose in life and help explain 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ffering, injustice, and evil ex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“big picture” explanation for chaotic and irrational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us meaning systems vary with the needs of each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nging System (micro-meso leve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remain in religions because they feel they belong in the friendship and kinship networks, not just due to mean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igions that have grown the most recently are those that have fostered a sense of belonging, for example, by encouraging endogamy or marriage within th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al System (meso-macro level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s require some system of control and screening of new revelations; otherwise, meanings would become too individualiz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ed religious leaders have authority to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pret theology and define essentials of the fait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ise funds and ensure continuation of the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survive, religions must be institutionaliz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tinization of charism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established roles, statuses, groups, routines, bureaucratic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individuals become religiou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 is mostly learned through family socializ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means: within a temple, church, or mos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means: observing others practice their fa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viduals usually change religions first on the belonging level, and later on the meaning and structural leve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more fluidity in religious membership now than ever before, though religions try to gain members’ commit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088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ymbolic Interactionist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rned with how people make sense of things and construct their worl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ths: stories embodying ideas about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uals: group activities that reinforce my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thopraxy: conformity of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thodoxy: conformity of belie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s: anything that can stand for something 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gious symbols often stand for elements of a transcendent realm that cannot be directly experien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s are used extensively in rituals to represent my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ts focus on how symbols, rituals, and myths influence perceptions of re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684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ational Choice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ho can choose their religion decide by weighing costs and benefi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include financial contributions an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 include salvation, belonging, and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conomic model of behavio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rchgoers seen as consumers; churches as entrepreneurial establis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s produce rituals, meanings, etc. to meet consumer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ligion is chosen, there is a competitive market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2:26:10Z</dcterms:created>
  <dc:creator>Deborah J Barr</dc:creator>
  <dc:description/>
  <dc:language>en-US</dc:language>
  <cp:lastModifiedBy>nmainardi</cp:lastModifiedBy>
  <dcterms:modified xsi:type="dcterms:W3CDTF">2015-06-01T22:24:22Z</dcterms:modified>
  <cp:revision>59</cp:revision>
  <dc:subject/>
  <dc:title>Chapter 12: Religion</dc:title>
</cp:coreProperties>
</file>