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769D-F02D-4844-AE45-095F1C953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ED27-AA68-4DFB-9D35-42CF4F3A62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BCB-6877-46EB-9A8A-C812F94C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92B-6AF7-4708-9D33-3CF6CC25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D25-B7A1-458F-B06B-80960F3E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F09-0500-458C-B482-0B654753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9F6-BACC-4C8B-8AC9-D464B7B4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186-1769-4A62-8681-3AD1462D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DE5-EE44-408C-9582-AB47A18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2BB-2816-4E46-ACD5-AE3F0FBB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810-5C2F-4279-B1A8-8990F72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955-E430-4B43-BCF7-87F5B88F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168-FC1D-4CAE-8E6B-C299064A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13E-9DE2-43D7-B218-396245C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65E8-68D1-417A-9583-C26C13DA4C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41972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9 – Gender Stratification: She/He—Who Goes First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ass ceil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keep women from reaching the highest levels of corporate and public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cky floo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keep the majority of the world’s women stuck in low-paid jo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ass escalato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push men up the organizational hierarchy even if they do not seek to climb it, especially in female-dominated occup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workplace itself is gen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5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ed Organizations and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places have a gender configuration: the ratio of men to women affects work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do not earn as much as 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workplaces are supportive of workers’ family responsibilities; others are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mpacts women more than men; according to dominant gender expectations women must balance work and family needs, while men are seen primarily as 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ized Gender 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ional discrimination: woven into the social structure and taken for gra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de effect discrimination: rests on links between practices in differ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t-in-present discrimination: practices from the past that may no longer be allowed still affect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, biological sex differences act as symbols that differentiate rights and re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is socially constructed; it is not intrinsically related to 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hasizes human agency, or ability to influence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s do not just passively adopt gender roles; we actively “do” gender in everyday interact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sex has a role to play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ocieties change, so do roles &amp;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ety: from mechanical to organic solid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der: from similar to differentiated ro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but complementary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684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es males as “haves” (power, wealth), women as “have not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y keeping women in subordinate roles, men protect their privile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le dominance justified by traditional ide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n will not voluntarily give up their privileged pos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to Macro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minis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arch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ew men dominate all others, including women, children, less powerful 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archy is primary cause of women’s op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, race, and gender intersect in a way that privileges some women over others, though most women are still subordinate to most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pite intersections, women are a “minority group” subject to stereotypes, prejudice, discrimin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minism actively advocates change to the social order to eliminate patriar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to Macro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, Homosexuality, &amp; Minorit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uality exhibits a broad range of combinations; societal expectations impose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 of homosexuality often determined by the government and dominant relig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y men and lesbians are often minority groups subject to prejudice and discri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erosexism: social reinforcement of heterosexuality, marginalization of those who don’t conform (rural are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mophobia: intense fear and hatred of homosexuality and homosexu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osts &amp; Consequences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of Gender Strat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logical &amp; Social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id gender stereotypes are cons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women: superwoman image and beauty image can lead to depression and health probl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men: image of “perfect” male body &amp; unemotional male role can lead to guilt, anxiety, neuro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to macro-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etal Costs and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has consequences for all social institu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or educational achievement of female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ss of talents, resources of half of the popu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health care impacts women and their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divisiveness can lead to alienation, host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ccupations and profession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n “take gender privilege with them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take disprivilege, which lowers their positions and w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osts &amp; Consequences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of Gender Strat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ex, Gender, and the Stratification Syste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52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and identities are not biological, but socially constru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vary widely; each society has its own way of assigning tasks in order to meet its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may change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hanging Gender Stratification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&amp; Socia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ctices used by other groups may be eff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violent protests, sit-down strikes and walk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tual suppor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ing the internet to carry the message to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ycot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ilding on traditions of community &amp; church activ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y of ending women’s subjugation: many women agree on the goal, but not the means of achieving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052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8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ribed physical and/or anatomical differences between men and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societies divide roles based on sex and insist on assigning a sex to all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7600" indent="-264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sexed: persons with ambiguous genitalia, such that sex is difficult to as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7600" indent="-264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gender: identification as someone who is challenging, questioning, or changing gender from that assigned at birth to a chosen gen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eronormativity: expected attraction to members of the other sex; taken for granted norm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ex, Gender, and the Stratification Syste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ex, Gender, and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ulture shapes the meanings of our experiences with our own bodies and our bodies in relation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sex and gender, sexuality is socially constru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ex, Gender, and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094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ly constructed notions of masculinity and femini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ident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ndividuals form their identity using gender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assigned tasks or expected behaviors linked to an individual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sex-determined stat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ex, Gender, Sexuality: The Micro-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socialization, we learn the gender roles assigned to our sex and established by our cul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expectations are inculcated by many agents of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comply often results in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: the roles we play in institutions differ by sex, as well as 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institutions segregate people by sex and 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institutions allow leadership roles to be held only by 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itutionalized rites of passage, or rituals which mark changes in status, often differ by sex and 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men’s reduced power in micro-level settings is often related to lack of power in meso-level organizations and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ex, Gender, Sexuality: The Meso-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0912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ized privilege &amp; disprivileg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terns of action embedded in a social system which provide unrecognized advantages and disadvanta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ibute to sex inequality at the global/national level that is independent of personal prejud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Sex, Gender, Sexuality: The Macro-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Meso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role socialization: process by which people learn the cultural norms, attitudes, behaviors appropriate to their g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er gender behavior is reinforced and improper behavior is punished through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s in gender socializ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infancy &amp; childhood, parents/family play major role (Na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er, meso-level agents are importa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pora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 media (Electronic games, televi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igious organiz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6:18:01Z</dcterms:created>
  <dc:creator>Deborah J Barr</dc:creator>
  <dc:description/>
  <dc:language>en-US</dc:language>
  <cp:lastModifiedBy>nmainardi</cp:lastModifiedBy>
  <dcterms:modified xsi:type="dcterms:W3CDTF">2015-06-01T21:56:43Z</dcterms:modified>
  <cp:revision>45</cp:revision>
  <dc:subject/>
  <dc:title>Chapter 9: Gender Stratification</dc:title>
</cp:coreProperties>
</file>