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F3AE-18F4-4AB4-9FF6-C61D177BF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A820-45F0-47F2-B130-C246F6535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C5EB-B0A8-4500-8341-D92209725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6F3C-3E5A-4F92-AFCF-762A239D7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B6AF-6837-4DDE-BCD9-0D097B462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BC53-1918-4948-87B3-573D295E8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4AA5-202B-4913-B657-CD4E89F35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F0E6-1DC5-4325-B392-6BB7A1CCC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D3D4-73E2-4D5D-BC11-8F6FE8C4F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6D4D-1234-45E1-9B74-8DD619CBE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0096-7372-47EF-9575-A888C9F3D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F9F1-3B35-4DED-98D3-9DC5BDB0D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352B-A4D9-4EA0-AD4B-D917829AD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8F68-C895-4B14-BFD3-A75D41036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0AE2-BAC9-475B-9C22-D3457F0FD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3113-EFC7-43E3-83EC-8EF06D016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7B45-CDAD-4D94-8F2D-D24D9FD08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614F-EC67-45FF-AC8B-D79C8A2FE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E645-06CF-4754-B96C-69CCCB7AB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80BF-7B0D-46F0-99F2-8A5389E29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90CA-FE01-4B8A-A834-6B08D259B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B06E-F174-4E90-AFF5-0F9180A10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D0A3-F734-433F-8C17-13FAE770F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718E-8F2C-4130-8DC4-9CAB15D60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8402-8EA1-4CA5-A5BE-17B2B3B05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A0C7-0563-439C-9E1C-510EEFF15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33C5-BC97-4F0B-9AE5-2B1361941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2AD6-3BE5-44C7-B5BA-CD06F99FA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E60D-1ACF-4008-8C23-D7D3126A9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7F14-951B-4454-8958-82899E7A0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204C-E8D6-40B4-8448-CDC5AD22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1C6-8536-41B8-B79A-02685F04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1121-BACF-42C5-8E34-29893BF0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F45E-DCD0-44E4-977C-D99273FB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8250-F959-49A5-BFAA-8614941A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E42-BFA5-4C44-87F5-EC8F9774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2B5-8B8E-4446-9E48-E9A92052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E783-6EB2-4493-8F37-705ACFE0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E446-7E35-42D3-8964-E6ACCEDD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D08-F7DE-4D4A-9632-1E88E468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4D4-5366-4F3F-90E5-6BAA36B1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478-80ED-4167-9B02-3FBF1D9E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9CB3-FA46-4F9C-98F9-2371D5CEFFC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"/>
          <p:cNvSpPr/>
          <p:nvPr/>
        </p:nvSpPr>
        <p:spPr>
          <a:xfrm>
            <a:off x="0" y="434340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7: Stratification: Rich and Famous—or Rags and Famine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icro-Level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-Functional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ification within societies is inevi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ratification system provides each individual with a position in the social wor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ratification system motivates individuals to carry out their r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a result, each individual contributes in some way to the maintenance of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-Functional Theory, cont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vis and Moore 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positions are more highly valued because people feel they are very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wards for these positions are high because society must motivate talented individuals to undertake the necessary but difficult preparation for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ial rewards for positions result in unequal distribution of resources; stratification is inevi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ification is the outcome of struggles for dominance and scarce resour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and groups act in their own self-interest, taking advantage of oth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—between those trying to hold onto existing advantages and those trying to gain new advantages—is inevi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6840" y="13716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Theory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l Marx, an originator of conflict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d during a time of economic change which prompted him to question stra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d distribution of wealth in capitalist societies as based on what people can take, not what they need, want, or 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rx’s Conflict Theory, c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x described two economic class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bourgeoisie, capitalists, or “haves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oletariat, working class, or “have nots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lict arises from struggle between class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italists control the means of production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.e. money, materials, factories, which they use to create profits for themsel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nce members of the working class lack their own means of production, they must work for capitalists in order to earn a liv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fore, capitalists can exploit workers in order to maintain and enlarge their prof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x’s Conflict Theory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ists remain in control becau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control the norms and values of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use their power to make inequality seem “fair” and justif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system will last unti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orking class develops class consciousness, or shared awareness of the causes of their low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may be aided in this by intellect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on class consciousness, the working class will overthrow the bourgeoisie and create a classless society in which wealth is sha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 Weber’s Conflict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 Weber, also a conflict theorist, critiqued Marx’s sole focus on economic factors. His stratification theory included power and prestige, as well as proper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 conflict theorists argue that there are 5 social clas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289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914400" y="47242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pita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nag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etty bourgeoi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4495680" y="472428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nder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 Level The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olutionary Theory of Stra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survive people must cooperate, but conflicts occur when important decisions advantage one group over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d items are always in demand but short supply; struggle over these scarce items is lik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 shapes the distribution of scarce resources, but after basic societal needs are met, power determines distribution of surp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lutionary Theory of Stratification,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hesis of functionalist and conflict theor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al functionalis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lented individuals need to be motiv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 the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viduals will attempt to control as much wealth, power, and prestige as possible, resulting in potential confli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oitation contributes to creating ine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l of inequality depends on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inequality is useful, too much can be harmf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dividual Social Status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icro-lev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 Life Ch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fe chances: one’s opportunities, which depend on achieved and ascribed stat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t factors affecting life chanc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alth, social conditions, and life expecta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laver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avery: When an individual or a family bound in servitude as the property of  person or household, bought and sold, and forced to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328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stimated 30 million people are slaves (women and children from poor families in poor countr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328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trafficking has claimed 20.9 victims worldwide as of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328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ldren are often used as slave labor in factories and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dividual Social Status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festyle: one’s attitudes, values, beliefs, and behavior patterns, which depend on socialization into one’s culture and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 affecting lifesty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itudes toward achie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mily life and child rearing patter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igious memb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al involv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us inconsist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bili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533520" y="13716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icro-Meso Conn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Mo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mobility: the extent to which people move up and down in the class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issues dominate analysis of mobilit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s of social mo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ods of measuring social mo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s that affect social mo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ther there is a “land of opportunity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bili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53352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Social Mo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ional mobility: change in status compared to parents’ status, usually resulting from education and occupational attai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t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ional mobility: change in status within an individual’s life, whether up or 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tical mobility: movement up or down the stratification hierarchy, sometimes including a change in social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bili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68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asuring Social Mo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ditional method: compare the occupations of fathers and sons or daught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is a high level of occupational inherit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igher the father’s occupation, the greater the son’s chances of occupational suc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is considerable intergenerational movement up and down the lad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ns are more likely to move up than down; daughters are even more likely to move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n’s and women’s occupational attainment is powerfully influenced by class origi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bili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Individual Mo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level fac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mily background, socialization, marriage, and 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-level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al population trends and economic vit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der, race, ethnicity, and earn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terdependent global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of these factors are interre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988920" y="-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bili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a “land of opportunity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ng mobility across cul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difficult to identify opportunity-rich countries due to the complex factors that influence m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portunities for upward mobility are changing due to glob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ufacturing jobs are now in developing countries, leaving less-educated US workers with fewer opport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 has high-tech jobs, providing opportunity for those from small, educated families that value individual achie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bili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Stratification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cribed stratification systems: individuals’ positions in society are determined by characteristics they are born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ed stratification systems: individuals earn their positions through ability and eff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294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0920" indent="-34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cribed Status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te systems: the caste one is born into determines one’s occupation, potential marriage partners, residence, group memberships, and prestig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016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dividual’s caste is recognized through clothing, speech, family name, skin color, other character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016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learn their caste through so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016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st rigid ascribed status system; maintained by norms, ideologies, and social control mechanisms embedded in religious, political, and economic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cribed Status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ate systems: one is born into the nobility, the political-military elites, or into the peasantry, whose labor supports the el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asants receive protection and enough food to survive from the n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asants are tied to a noble’s land and are rarely able to become independent land-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ks and rights are clearly spelled 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ystem is bolstered by arranged marri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hieved Status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class system: social class is defined by property, power, and prestige; it is officially achieved, but actually inherited in 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erty: income and ass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: ability to control or influence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ower Elite vs. Pluralism mode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tige: recognition, esteem, respect given those whose occupation and lifestyle are socially valu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members share similar lifestyles, education, culture, and interaction patt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Importance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33520" y="15238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stratification: individuals and groups are layered or ranked in society according to how many valued resources they poss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ngoing process of sorting people into layers, legitimated by cultural beliefs that justify ine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Classes in the United States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80520" y="14475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people in the U.S. identify as “middle class” or “working class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ap between the richest 1% of U.S. households own more wealth than all of the bottom 90% combi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4267080" y="979560"/>
            <a:ext cx="449604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ver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335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erty and Social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lute poverty: not having sufficient resources to meet basic survival needs (food, shelter, cloth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35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no prestige, power, or accumulated weal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 poverty: having an income below the poverty line, and an inadequate standard of living relative to others in the same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35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poorer health, shorter life expectancy, greater infant mortality than others in the sam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ver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3352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1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erty Determinants and Social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minization of poverty: trend in which single females, often young and with children, make up a growing proportion of those in pov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poor women grew up in female-headed families or suffered economically following divor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alent in and around major c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ained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340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aming the victi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340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lict perspective: poor women comprise a reserve group of cheap, easily exploited labor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acro-Level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ational and Global Digital Di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divide: the gap between those with and without access to information technolog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from differences in socioeconomic status, minority group status, and urban versus rural reside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with insufficient computer and internet access or skills face barriers to many professions and opport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and private organizations are developing low-cost technologies that may help level the digital playing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Importance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1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cept of stratification assumes t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are divided into ranked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red resources are unequally distribu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ociety determines how individuals are ranked, depending 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ographic lo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 of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al philos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sions of those in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icro-Level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2949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tige and Infl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erty, power, and prestige are accorded to individuals wi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al capital: knowledge and access to importan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capital: networks with others who have infl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 qualities also influence cultural and social capit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eso-Level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to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 status is shaped by access to resources and reinforced by the family through soci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treatment by educational, religious, political, and other institutions often depends on our status, and also reinforces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experiences of life are shaped by our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acro-Level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16761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influences on stratific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systems and resources within a particular count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on of that country within world systems of economic stra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0520" y="12193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ic Inte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take up social positions through socialization, in which they learn the appropriate cultural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al capital influences children’s school and home environ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positions are represented by symb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picuous consumption: displaying goods in a way that will be noticed and will earn the owner resp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520" y="12949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onal Ch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make decisions influenced by their perception of costs and benefit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take this view, one needs a sense of delayed gratification—delaying rewards or benefits until a later ti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6280" indent="-346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who are willing or in a position to do this—living austerely now in order to experience prosperity later—may be more likely to have upward mobility and to experience greater affluence at a later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ooter Placeholder 1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15:29:33Z</dcterms:created>
  <dc:creator>Deborah J Barr</dc:creator>
  <dc:description/>
  <dc:language>en-US</dc:language>
  <cp:lastModifiedBy>nmainardi</cp:lastModifiedBy>
  <cp:lastPrinted>2009-04-22T19:24:48Z</cp:lastPrinted>
  <dcterms:modified xsi:type="dcterms:W3CDTF">2015-06-01T21:04:53Z</dcterms:modified>
  <cp:revision>68</cp:revision>
  <dc:subject/>
  <dc:title>Chapter 7: Stratificaiton: Rich and famous - or rags and famin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91033</vt:lpwstr>
  </property>
</Properties>
</file>